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899-B570-469E-A1E2-C41E813B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F97-D44F-4BDD-8B04-B28AAB7C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9AE-CA53-411F-B105-3C13BFDD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3C7-8864-4DDA-A79C-0F824676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63CA-3A70-468C-A57D-9D5B5BE2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12EE-6CCC-43A2-8CD5-F5942EC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3CA3-7F03-4F1A-917D-838C2F47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67CE-CC78-44B2-B431-C860A07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52B-677E-4598-8932-BE52BBC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551F-6DFB-4240-B013-22EECA06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0065-3297-4B89-A138-94EC6AC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A38-8D1B-42FC-A969-2F36134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03FE-0CED-4538-B269-DA765F7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4A03-3AFA-4FBD-A8C3-F6D7520E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CDB3-221E-4E92-A571-29766A17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230-487E-433E-83BE-E1237618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E680-0339-46BC-B897-3E926282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BBDC-2CDD-4790-8A53-51A8EE4E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C081-4FA0-4785-9380-22494D9A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D20B-1C1E-43A7-B961-A856144A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51F5-5983-42FF-820F-CCDDD1A6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447D-5C08-41A8-8311-3B8DAD47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F86-7C9D-4ADB-8A14-2637117C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EB91-0A08-4FDF-858B-376B31C8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F892-7EC3-4C2B-B84F-BDFB2ED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BEC4-1F25-41AD-B50F-47A94181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162C-485D-4EA7-8F9C-FBC34FBA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A113-CE9E-4D65-844E-1FA5FB0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44E9-A6EE-41E2-B3A0-318BB411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F4E9-D7F4-43A6-96E6-8C92BC0A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F138-C5B6-4CCC-A7FB-198B064E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2B64-93A3-4613-883D-F84E2398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576A5-1B5C-4B33-875A-0E64B40F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AAC-01AC-4BAD-8EFC-B8FCB00A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2EFF-22BF-4673-8870-2E751967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9EF2-74F7-469C-893A-0E8574FF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4906-FD1E-4913-9A07-593F847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95E1-7391-4650-886C-B44D1CB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10861-32FF-47B6-B276-0674882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6709-2476-4ED3-A32B-AC4DA605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634C-139E-464D-B850-548A64C7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CA49-5E45-434C-B908-D8582FA2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A844-1FB5-4D28-AA14-DB252C97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346D-A1AC-493A-BE82-2DC4AE49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AF9-9FE5-498C-B301-F62DB76C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8A06-319A-4571-8EA4-D4422CE2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B9C26-3D50-4512-B577-21BA6ECA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A5D85-8FB9-48AB-AFD2-488EC98D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536A-E337-4A1F-8332-D5FFF36E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266A8-181C-4DB3-89C6-87408F69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1BEC-2EFD-4A1F-9D60-AE13F51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8B885-5479-4742-A717-5E33517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10C71-DE8D-46FF-8C29-2853A5F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EB36-10C7-467C-BD7E-5CF903D5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4397-0A38-4569-B6D8-79DB6D4A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FDA-3F53-48A7-B0F0-8C3AC9F5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1F4E4-7EEC-4C55-9195-E54EFBA7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6FDF-5015-49AE-8A9D-917C3127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7209-56E5-4C0D-917D-F41F8DE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42C46-BB89-4053-9562-238A39F5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406CD-ED0B-47BE-9B52-C5B4221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B83A-B267-423C-970E-D6F7F8E4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B8735-E02A-42F6-84E7-8EB7140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54DD0-DC2D-4D47-82F2-0D510120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27CE4-6165-4F21-A44B-4F0C403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5F80-3D5A-44BA-9B5F-558DF9A0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49E-C058-4C5E-9D7F-45698DC9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4F9E7-AB7A-4B7E-816B-49D4F4E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20C96-3BC8-4DA1-9FE2-B7A57664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26C70-3108-49F8-BAFB-AB2D40AF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7B37-7F5A-4422-9327-C1EC6D87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74F18-AA24-45E0-89D6-D965FA7F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7C28C-11DD-48AC-B7DC-CF4CA8D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792F-63CB-4FA1-83D7-0CBBD28F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4D357-FD86-477D-89AA-427BE880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8B824-878B-4D05-B69C-53F0483F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D45B-799D-47CE-924E-89F1201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79E-E091-4D58-8E49-0B5A535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8D09F-B6B7-439A-B823-0C7CE5E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30378-2914-485F-82E4-75818EA5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F1FC-160C-4601-A802-6E08C766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C007-29A1-4911-B956-362DE035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2CC3-A4AA-4609-AC27-76DF252C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B0FD8-BC60-487C-A4C0-CB4BF0E0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00BB1-9A83-4910-A54B-DEDA6A8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5FD4-0170-45ED-B821-8350B5F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9F20-CA68-42F1-9D52-3F94BFB5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BE47F-FC4C-433A-B360-9B36802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131-28FA-4B52-883B-507F253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3AE83-8C83-4308-BA2C-C90E08FE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5F7B0-E1A3-4FDC-8043-5468464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96F55-F6B4-488B-9D4F-1AF9EF4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BF8E8-6C35-4676-AA0F-AA192390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A1484-0B84-4869-89DC-CA5BFCEC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E94EC-EE11-49D1-88B4-1E3C9D4A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179E-40AD-49DD-9693-773286F9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8476-9CA6-4D02-AA83-058DC1051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0FBD-6925-426D-8942-FA53DD7A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4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6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1F26-823D-4B4A-81E0-6170AE179D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B424-EC4F-4A18-B913-056594F6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4897-9F16-4DDB-934A-14EEB300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F43F-D78F-4719-87B8-48637F136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74F-0AA8-4180-B118-A8E792870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6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9618-D07B-48C8-93D5-AAE93F09A4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6"/>
          <p:cNvSpPr/>
          <p:nvPr/>
        </p:nvSpPr>
        <p:spPr>
          <a:xfrm>
            <a:off x="3492360" y="292428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PH02998J"/>
          <p:cNvPicPr/>
          <p:nvPr/>
        </p:nvPicPr>
        <p:blipFill>
          <a:blip r:embed="rId16"/>
          <a:stretch/>
        </p:blipFill>
        <p:spPr>
          <a:xfrm>
            <a:off x="108000" y="115920"/>
            <a:ext cx="8943840" cy="6626160"/>
          </a:xfrm>
          <a:prstGeom prst="rect">
            <a:avLst/>
          </a:prstGeom>
          <a:ln w="0">
            <a:noFill/>
          </a:ln>
        </p:spPr>
      </p:pic>
      <p:sp>
        <p:nvSpPr>
          <p:cNvPr id="537" name="页脚占位符 2"/>
          <p:cNvSpPr/>
          <p:nvPr/>
        </p:nvSpPr>
        <p:spPr>
          <a:xfrm>
            <a:off x="2771640" y="6245280"/>
            <a:ext cx="41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814400" y="620640"/>
            <a:ext cx="554364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隶书"/>
              </a:rPr>
              <a:t>  </a:t>
            </a:r>
            <a:r>
              <a:rPr b="0" lang="zh-CN" sz="13800" spc="-1" strike="noStrike">
                <a:solidFill>
                  <a:srgbClr val="ffff00"/>
                </a:solidFill>
                <a:latin typeface="Arial"/>
                <a:ea typeface="隶书"/>
              </a:rPr>
              <a:t>心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            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黄蓓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"/>
          <p:cNvSpPr/>
          <p:nvPr/>
        </p:nvSpPr>
        <p:spPr>
          <a:xfrm>
            <a:off x="361800" y="6245280"/>
            <a:ext cx="49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831120" y="243828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华文新魏"/>
              </a:rPr>
              <a:t>再 见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0" y="647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ff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D361-A7FB-45AE-B1A8-F215D93BDC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1"/>
          <p:cNvSpPr/>
          <p:nvPr/>
        </p:nvSpPr>
        <p:spPr>
          <a:xfrm>
            <a:off x="250920" y="404640"/>
            <a:ext cx="2700360" cy="720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539640" y="47628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黄蓓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生于江苏省如皋县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考入北京大学中文系文学专业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毕业后被分配在江苏省外事办公室工作。次年加入中国作家协会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调江苏省作家协会任专业作家。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开始文学创作，并发表处女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以后陆续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钟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汇月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海文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徽文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收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刊物上发表中、短篇小说和儿童文学作品。已出版的作品有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船，小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芦花飘飞的时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和我同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远的地方有一片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夜夜狂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3"/>
          <p:cNvSpPr/>
          <p:nvPr/>
        </p:nvSpPr>
        <p:spPr>
          <a:xfrm>
            <a:off x="8101080" y="5734080"/>
            <a:ext cx="663480" cy="6984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762240" y="590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99ff99"/>
                </a:solidFill>
                <a:latin typeface="Arial"/>
                <a:ea typeface="华文彩云"/>
              </a:rPr>
              <a:t>学习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258920" y="836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468360" y="333360"/>
            <a:ext cx="7057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小说的有关知识，完成下列填空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小说是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中心，通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叙述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描写来反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文学体裁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小说有三个要素，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中主要要素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小说按篇幅长短可分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小说塑造人物的方法可以多种多样，但人物描写必须具有典型性。人物的直接描写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小说故事情节的发展通常分为四个阶段，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8244000" y="5589720"/>
            <a:ext cx="649080" cy="69840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90000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539640" y="1052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1403280" y="3060720"/>
            <a:ext cx="487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187280" y="333360"/>
            <a:ext cx="6769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准下列加点字的音，并注意它们的书写，弄懂意思。 </a:t>
            </a:r>
            <a:br>
              <a:rPr sz="44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沙哑（   ）  发窘（    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抽噎（   恍惚（     ）（  ）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窸窸窣窣（ ）（ ） 妒忌（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簪子（   ）   撒娇（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0" y="138888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1832040" y="660960"/>
            <a:ext cx="4872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感知情节，梳理结构，把握矛盾冲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简洁的语言完整地复述主要故事情节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最精练的语言（比如说两个字）概括情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的几个阶段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"/>
          <p:cNvSpPr/>
          <p:nvPr/>
        </p:nvSpPr>
        <p:spPr>
          <a:xfrm>
            <a:off x="152280" y="1778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8244000" y="5589720"/>
            <a:ext cx="649080" cy="69840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90000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7"/>
          <p:cNvSpPr/>
          <p:nvPr/>
        </p:nvSpPr>
        <p:spPr>
          <a:xfrm>
            <a:off x="539640" y="1052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8"/>
          <p:cNvSpPr/>
          <p:nvPr/>
        </p:nvSpPr>
        <p:spPr>
          <a:xfrm>
            <a:off x="1403280" y="973800"/>
            <a:ext cx="4872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小说的情节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京京要求在公开课朗读课文，被老师以“嗓子沙哑”为理由拒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京京在树林中练习朗读，想起自己和万卡相似的遭遇，心里难过悲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京京纠正同学朗读的错误，被同学嘲笑，他倍感委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京京在公开课上终于得到了机会，声情并茂地朗读了小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755640" y="3137040"/>
            <a:ext cx="2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5640" y="126828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精读课文，自主探究。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李京京是个怎样的孩子？请结合具体语句来谈一谈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程老师是个好老师吗？请依据课文简述理由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作者以“心声”为标题，究竟要表达什么深刻含义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8244000" y="5589720"/>
            <a:ext cx="649080" cy="69840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90000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1576440" y="1231200"/>
            <a:ext cx="58831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品味语言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小说为什么取名“心声”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执着地要求在公开课朗读小说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求教师能公正、平等地对待每一个学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给予每个人相同的关心和发展机会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渴望家庭和谐，能生活在一个幸福安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环境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292680" y="1839960"/>
            <a:ext cx="7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2"/>
          <p:cNvSpPr/>
          <p:nvPr/>
        </p:nvSpPr>
        <p:spPr>
          <a:xfrm>
            <a:off x="611280" y="836640"/>
            <a:ext cx="2016000" cy="6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684360" y="1052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发挥想像，阅读延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11280" y="2276640"/>
            <a:ext cx="67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结合课文，发挥想像，从下面两个问题中任选一题，用一句精练的话回答：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假如你是李京京，你最想对程老师说的一句话是什么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假如你是程老师，你会如何对待李京京这样的同学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51:39Z</dcterms:modified>
  <cp:revision>1</cp:revision>
  <dc:subject/>
  <dc:title>幻灯片 1</dc:title>
</cp:coreProperties>
</file>