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B39-5E4E-4F63-8A9A-F5BF2AAEC957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6139-AFC0-42F9-A692-B0C23C72E52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47C-B7C5-4F8C-8112-2D431CEF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4EF-863D-4921-A7C0-735FA4F5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0E4-3A01-4744-9605-C8CBCD9A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8CF-D195-4E87-A838-4E0471B8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A846-80A4-4059-B2D2-E396F899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76B9-41AF-49CC-A2A9-434B5F2F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A21A-45C7-449A-BE7A-9ECAE95F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AB19-8B49-4A5E-AFBE-77AC17C2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30E-C350-4D4B-B1B0-CBD42F5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FE0B-4684-447B-A47E-4841A4E5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128B-0181-4F3D-B1EF-B9755C3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B60-8322-4772-B747-7C4F013F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4093-8A2F-4B9F-BC1A-282E8B2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2B0E-6E02-4B82-8306-DA63D5A4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188-695E-4A79-8160-60848277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A145-A98B-41A1-8DDC-7A20BF17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D501-6D55-41C8-AAD5-235687B7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2871-2721-4832-8B4C-B7947B32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2EC-67A6-4EFD-9486-58B4EF7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68-0BAD-4B51-ABAC-8A022332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D71-C2B7-4097-91E7-4D0AA79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003-6FC2-43F1-B477-91A7FE5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47B-6F39-40B5-8781-290628C9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0F6-4676-4462-81C0-7525A5D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75DD-C989-4AC0-8030-82D4F518C43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D972-69F0-4041-80CE-CFC2561F2D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1170-5CE3-4531-88B4-44B91DF7973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8B4-2AD5-4985-9598-082BBD21D7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92000" y="1773360"/>
            <a:ext cx="52563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选择购物方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1335240" y="404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二单元：百分数（二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2032200" y="61675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15112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4"/>
          <p:cNvGrpSpPr/>
          <p:nvPr/>
        </p:nvGrpSpPr>
        <p:grpSpPr>
          <a:xfrm>
            <a:off x="2484360" y="3213000"/>
            <a:ext cx="3456000" cy="792360"/>
            <a:chOff x="2484360" y="3213000"/>
            <a:chExt cx="3456000" cy="792360"/>
          </a:xfrm>
        </p:grpSpPr>
        <p:sp>
          <p:nvSpPr>
            <p:cNvPr id="188" name="AutoShape 12"/>
            <p:cNvSpPr/>
            <p:nvPr/>
          </p:nvSpPr>
          <p:spPr>
            <a:xfrm>
              <a:off x="2484360" y="3213000"/>
              <a:ext cx="3167280" cy="792360"/>
            </a:xfrm>
            <a:prstGeom prst="wedgeRoundRectCallout">
              <a:avLst>
                <a:gd name="adj1" fmla="val -56564"/>
                <a:gd name="adj2" fmla="val 9168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2484360" y="3232080"/>
              <a:ext cx="345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乙品牌的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折上折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”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是什么意思？你能举例说说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5"/>
          <p:cNvSpPr/>
          <p:nvPr/>
        </p:nvSpPr>
        <p:spPr>
          <a:xfrm>
            <a:off x="468360" y="171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百货大楼搞促销活动，甲品牌鞋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，乙品牌鞋“折上折”，就是先打六折，在此基础上再打九五折。如果两个品牌都有一双标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的鞋，哪个品牌的更便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424880" y="274536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甲品牌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0" y="31406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60×60%×95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8.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141160" y="274392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乙品牌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274920" y="3636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4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2556000" y="4075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在乙品牌买更便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900000" y="314064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60-1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"/>
          <p:cNvPicPr/>
          <p:nvPr/>
        </p:nvPicPr>
        <p:blipFill>
          <a:blip r:embed="rId1"/>
          <a:stretch/>
        </p:blipFill>
        <p:spPr>
          <a:xfrm>
            <a:off x="324000" y="5084640"/>
            <a:ext cx="1368360" cy="123048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3"/>
          <p:cNvSpPr/>
          <p:nvPr/>
        </p:nvSpPr>
        <p:spPr>
          <a:xfrm>
            <a:off x="1979640" y="4587840"/>
            <a:ext cx="3529080" cy="1008000"/>
          </a:xfrm>
          <a:prstGeom prst="wedgeRoundRectCallout">
            <a:avLst>
              <a:gd name="adj1" fmla="val -55893"/>
              <a:gd name="adj2" fmla="val 4716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050920" y="45975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对于什么样的价位，甲品牌会比乙品牌更便宜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想个数据验证一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468360" y="1719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百货大楼搞促销活动，甲品牌鞋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，乙品牌鞋“折上折”，就是先打六折，在此基础上再打九五折。如果两个品牌都有一双标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的鞋，哪个品牌的更便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>
            <a:off x="2484360" y="3213000"/>
            <a:ext cx="3382920" cy="863640"/>
          </a:xfrm>
          <a:prstGeom prst="wedgeRoundRectCallout">
            <a:avLst>
              <a:gd name="adj1" fmla="val -56148"/>
              <a:gd name="adj2" fmla="val 91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556000" y="328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单从“年利率”来看，哪一种理财方式收益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826920" y="17852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妈妈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万元钱，有两种理财方式：一种是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国债，年利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5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；另一种是买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理财产品，年收益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3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每年到期后连本带息继续购买下一年的理财产品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后，哪种理财方式收益更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组合 1"/>
          <p:cNvGrpSpPr/>
          <p:nvPr/>
        </p:nvGrpSpPr>
        <p:grpSpPr>
          <a:xfrm>
            <a:off x="755640" y="3213000"/>
            <a:ext cx="5400720" cy="1932120"/>
            <a:chOff x="755640" y="3213000"/>
            <a:chExt cx="5400720" cy="1932120"/>
          </a:xfrm>
        </p:grpSpPr>
        <p:pic>
          <p:nvPicPr>
            <p:cNvPr id="211" name="Picture 4" descr=""/>
            <p:cNvPicPr/>
            <p:nvPr/>
          </p:nvPicPr>
          <p:blipFill>
            <a:blip r:embed="rId1"/>
            <a:stretch/>
          </p:blipFill>
          <p:spPr>
            <a:xfrm>
              <a:off x="755640" y="3645000"/>
              <a:ext cx="15112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5"/>
            <p:cNvSpPr/>
            <p:nvPr/>
          </p:nvSpPr>
          <p:spPr>
            <a:xfrm>
              <a:off x="2484360" y="3213000"/>
              <a:ext cx="3600360" cy="1152720"/>
            </a:xfrm>
            <a:prstGeom prst="wedgeRoundRectCallout">
              <a:avLst>
                <a:gd name="adj1" fmla="val -55777"/>
                <a:gd name="adj2" fmla="val 4738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2484360" y="3284280"/>
              <a:ext cx="36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每年到期后连本带息继续购买下一年的理财产品</a:t>
              </a:r>
              <a:r>
                <a:rPr b="0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”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这句话是什么意思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8"/>
          <p:cNvSpPr/>
          <p:nvPr/>
        </p:nvSpPr>
        <p:spPr>
          <a:xfrm>
            <a:off x="2916360" y="2565360"/>
            <a:ext cx="482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755640" y="2924280"/>
            <a:ext cx="158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84360" y="178524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妈妈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万元钱，有两种理财方式：一种是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国债，年利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5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；另一种是买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理财产品，年收益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3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每年到期后连本带息继续购买下一年的理财产品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后，哪种理财方式收益更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5"/>
          <p:cNvSpPr/>
          <p:nvPr/>
        </p:nvSpPr>
        <p:spPr>
          <a:xfrm>
            <a:off x="2484360" y="3213000"/>
            <a:ext cx="3600360" cy="1152720"/>
          </a:xfrm>
          <a:prstGeom prst="wedgeRoundRectCallout">
            <a:avLst>
              <a:gd name="adj1" fmla="val -55777"/>
              <a:gd name="adj2" fmla="val 47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484360" y="3284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银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年期的理财产品在第二年的时候本金可以变更为多少？第三年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2484360" y="472788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二年本金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00×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3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4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84360" y="1785240"/>
            <a:ext cx="748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妈妈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万元钱，有两种理财方式：一种是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国债，年利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5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；另一种是买银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期理财产品，年收益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3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，每年到期后连本带息继续购买下一年的理财产品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年后，哪种理财方式收益更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8360" y="1557720"/>
            <a:ext cx="78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．妈妈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万元钱，有两种理财方式：一种是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期国债，年利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5%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；另一种是买银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期理财产品，年收益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3%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，每年到期后连本带息继续购买下一年的理财产品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年后，哪种理财方式收益更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387800" y="2564640"/>
            <a:ext cx="16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期国债收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042920" y="299628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00×4.5%×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5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1594080" y="3427920"/>
            <a:ext cx="22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买银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期理财产品收益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1042920" y="3859920"/>
            <a:ext cx="40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一年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00×4.3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042920" y="429156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二年：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00+4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4.3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48.4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1042920" y="472356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第三年：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0000+430+448.4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×4.3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67.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1042920" y="5157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合计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48.4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67.7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46.2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1042920" y="5588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5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46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686240" y="6020280"/>
            <a:ext cx="30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后，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年期国债收益更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四、回顾全课，总结本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900000" y="1197000"/>
            <a:ext cx="75596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节课，我们学习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，很多时候都会用到数学知识，我们要根据不同的情况进行分析、计算，最终选择最佳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358920" y="612468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D6B-8FB1-4CE8-BC53-851AAC2BB8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1"/>
          <p:cNvSpPr/>
          <p:nvPr/>
        </p:nvSpPr>
        <p:spPr>
          <a:xfrm>
            <a:off x="2484360" y="4076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创设情境，引入新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2232000" cy="223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3240000" cy="220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3744720" cy="2216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5148360" y="1484280"/>
            <a:ext cx="3097080" cy="2301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5"/>
          <a:stretch/>
        </p:blipFill>
        <p:spPr>
          <a:xfrm>
            <a:off x="0" y="1557360"/>
            <a:ext cx="15112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2"/>
          <p:cNvGrpSpPr/>
          <p:nvPr/>
        </p:nvGrpSpPr>
        <p:grpSpPr>
          <a:xfrm>
            <a:off x="1692360" y="2133720"/>
            <a:ext cx="3168720" cy="647640"/>
            <a:chOff x="1692360" y="2133720"/>
            <a:chExt cx="3168720" cy="647640"/>
          </a:xfrm>
        </p:grpSpPr>
        <p:sp>
          <p:nvSpPr>
            <p:cNvPr id="105" name="AutoShape 10"/>
            <p:cNvSpPr/>
            <p:nvPr/>
          </p:nvSpPr>
          <p:spPr>
            <a:xfrm>
              <a:off x="1692360" y="2133720"/>
              <a:ext cx="2158920" cy="647640"/>
            </a:xfrm>
            <a:prstGeom prst="wedgeRoundRectCallout">
              <a:avLst>
                <a:gd name="adj1" fmla="val -74263"/>
                <a:gd name="adj2" fmla="val 37500"/>
                <a:gd name="adj3" fmla="val 16667"/>
              </a:avLst>
            </a:prstGeom>
            <a:solidFill>
              <a:srgbClr val="ffff99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>
              <a:off x="1692360" y="220500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怎么买更划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39640" y="1403280"/>
            <a:ext cx="743040" cy="657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1332000" y="185184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品牌的裙子搞促销活动，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场打五折销售，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”的方式销售。妈妈要买一条标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的这种品牌的裙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选择哪个商场更省钱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539640" y="486900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3"/>
          <p:cNvSpPr/>
          <p:nvPr/>
        </p:nvSpPr>
        <p:spPr>
          <a:xfrm>
            <a:off x="2700360" y="4292640"/>
            <a:ext cx="3166920" cy="1008000"/>
          </a:xfrm>
          <a:prstGeom prst="wedgeRoundRectCallout">
            <a:avLst>
              <a:gd name="adj1" fmla="val -68694"/>
              <a:gd name="adj2" fmla="val 105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771640" y="4365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商场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商场分别是什么活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2680" cy="65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1403280" y="163548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品牌的裙子搞促销活动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打五折销售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”的方式销售。妈妈要买一条标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的这种品牌的裙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选择哪个商场更省钱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0"/>
          <p:cNvGrpSpPr/>
          <p:nvPr/>
        </p:nvGrpSpPr>
        <p:grpSpPr>
          <a:xfrm>
            <a:off x="826920" y="3284640"/>
            <a:ext cx="2232360" cy="1226880"/>
            <a:chOff x="826920" y="3284640"/>
            <a:chExt cx="2232360" cy="1226880"/>
          </a:xfrm>
        </p:grpSpPr>
        <p:sp>
          <p:nvSpPr>
            <p:cNvPr id="119" name="AutoShape 12"/>
            <p:cNvSpPr/>
            <p:nvPr/>
          </p:nvSpPr>
          <p:spPr>
            <a:xfrm>
              <a:off x="826920" y="3287880"/>
              <a:ext cx="2232360" cy="1223640"/>
            </a:xfrm>
            <a:prstGeom prst="wedgeRoundRectCallout">
              <a:avLst>
                <a:gd name="adj1" fmla="val 65148"/>
                <a:gd name="adj2" fmla="val 579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3"/>
            <p:cNvSpPr/>
            <p:nvPr/>
          </p:nvSpPr>
          <p:spPr>
            <a:xfrm>
              <a:off x="826920" y="328464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是什么意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1"/>
          <p:cNvGrpSpPr/>
          <p:nvPr/>
        </p:nvGrpSpPr>
        <p:grpSpPr>
          <a:xfrm>
            <a:off x="5724360" y="3024360"/>
            <a:ext cx="3024360" cy="1915920"/>
            <a:chOff x="5724360" y="3024360"/>
            <a:chExt cx="3024360" cy="1915920"/>
          </a:xfrm>
        </p:grpSpPr>
        <p:sp>
          <p:nvSpPr>
            <p:cNvPr id="122" name="AutoShape 15"/>
            <p:cNvSpPr/>
            <p:nvPr/>
          </p:nvSpPr>
          <p:spPr>
            <a:xfrm>
              <a:off x="5724360" y="3068640"/>
              <a:ext cx="3024360" cy="1871640"/>
            </a:xfrm>
            <a:prstGeom prst="wedgeRoundRectCallout">
              <a:avLst>
                <a:gd name="adj1" fmla="val -62861"/>
                <a:gd name="adj2" fmla="val 47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5796000" y="3024360"/>
              <a:ext cx="287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就是在总价中取整百元部分，每个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减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5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。不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10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元的零头部分不优惠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9"/>
          <p:cNvGrpSpPr/>
          <p:nvPr/>
        </p:nvGrpSpPr>
        <p:grpSpPr>
          <a:xfrm>
            <a:off x="3276720" y="4221000"/>
            <a:ext cx="2160360" cy="1800360"/>
            <a:chOff x="3276720" y="4221000"/>
            <a:chExt cx="2160360" cy="1800360"/>
          </a:xfrm>
        </p:grpSpPr>
        <p:pic>
          <p:nvPicPr>
            <p:cNvPr id="125" name="Picture 10" descr=""/>
            <p:cNvPicPr/>
            <p:nvPr/>
          </p:nvPicPr>
          <p:blipFill>
            <a:blip r:embed="rId2"/>
            <a:stretch/>
          </p:blipFill>
          <p:spPr>
            <a:xfrm>
              <a:off x="3276720" y="4362480"/>
              <a:ext cx="21603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18"/>
            <p:cNvSpPr/>
            <p:nvPr/>
          </p:nvSpPr>
          <p:spPr>
            <a:xfrm>
              <a:off x="4356000" y="4221000"/>
              <a:ext cx="288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2680" cy="657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403280" y="163548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品牌的裙子搞促销活动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打五折销售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”的方式销售。妈妈要买一条标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的这种品牌的裙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选择哪个商场更省钱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826920" y="3281400"/>
            <a:ext cx="2232360" cy="1224000"/>
          </a:xfrm>
          <a:prstGeom prst="wedgeRoundRectCallout">
            <a:avLst>
              <a:gd name="adj1" fmla="val 65148"/>
              <a:gd name="adj2" fmla="val 57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826920" y="32814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里面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，应该减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5724360" y="3068640"/>
            <a:ext cx="3024360" cy="1871640"/>
          </a:xfrm>
          <a:prstGeom prst="wedgeRoundRectCallout">
            <a:avLst>
              <a:gd name="adj1" fmla="val -62861"/>
              <a:gd name="adj2" fmla="val 47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796000" y="3024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就是在总价中取整百元部分，每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元减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元。不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元的零头部分不优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3276720" y="4221000"/>
            <a:ext cx="2160360" cy="1800360"/>
            <a:chOff x="3276720" y="4221000"/>
            <a:chExt cx="2160360" cy="1800360"/>
          </a:xfrm>
        </p:grpSpPr>
        <p:pic>
          <p:nvPicPr>
            <p:cNvPr id="136" name="Picture 10" descr=""/>
            <p:cNvPicPr/>
            <p:nvPr/>
          </p:nvPicPr>
          <p:blipFill>
            <a:blip r:embed="rId2"/>
            <a:stretch/>
          </p:blipFill>
          <p:spPr>
            <a:xfrm>
              <a:off x="3276720" y="4362480"/>
              <a:ext cx="216036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11"/>
            <p:cNvSpPr/>
            <p:nvPr/>
          </p:nvSpPr>
          <p:spPr>
            <a:xfrm>
              <a:off x="4356000" y="4221000"/>
              <a:ext cx="288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2680" cy="657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403280" y="163548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品牌的裙子搞促销活动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打五折销售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”的方式销售。妈妈要买一条标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的这种品牌的裙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选择哪个商场更省钱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539640" y="3212280"/>
            <a:ext cx="33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971640" y="3643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30×5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5163120" y="3211920"/>
            <a:ext cx="19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5149800" y="36439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30-50×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780000" y="40759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1868760" y="450756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。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更省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21"/>
          <p:cNvSpPr/>
          <p:nvPr/>
        </p:nvSpPr>
        <p:spPr>
          <a:xfrm>
            <a:off x="2411280" y="5084640"/>
            <a:ext cx="3167280" cy="792360"/>
          </a:xfrm>
          <a:prstGeom prst="wedgeRoundRectCallout">
            <a:avLst>
              <a:gd name="adj1" fmla="val -71254"/>
              <a:gd name="adj2" fmla="val 25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2484360" y="51037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这两种促销方式，什么情况下付的钱一样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42680" cy="657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403280" y="163548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品牌的裙子搞促销活动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打五折销售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”的方式销售。妈妈要买一条标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的这种品牌的裙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选择哪个商场更省钱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539640" y="3212280"/>
            <a:ext cx="33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971640" y="3643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30×5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163120" y="3211920"/>
            <a:ext cx="19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5149800" y="36439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30-50×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3780000" y="407592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868760" y="450756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1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3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。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更省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511280" cy="15004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2"/>
          <p:cNvSpPr/>
          <p:nvPr/>
        </p:nvSpPr>
        <p:spPr>
          <a:xfrm>
            <a:off x="2411280" y="5084640"/>
            <a:ext cx="3167280" cy="792360"/>
          </a:xfrm>
          <a:prstGeom prst="wedgeRoundRectCallout">
            <a:avLst>
              <a:gd name="adj1" fmla="val -71254"/>
              <a:gd name="adj2" fmla="val 2514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2340000" y="5084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如果再想买一件该品牌的上衣，你选择在哪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展开情境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514520" cy="647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9"/>
          <p:cNvSpPr/>
          <p:nvPr/>
        </p:nvSpPr>
        <p:spPr>
          <a:xfrm>
            <a:off x="755640" y="2211840"/>
            <a:ext cx="777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品牌的旅游鞋搞促销活动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按“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”的方式销售，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商场打六折销售。妈妈准备给小丽买一双标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的这种品牌的旅游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个商场买，各应付多少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选择哪个商场更省钱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257120" y="3859920"/>
            <a:ext cx="198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5003640" y="42915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0×6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5095080" y="3861360"/>
            <a:ext cx="19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197000" y="4326480"/>
            <a:ext cx="27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20-4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635280" y="4796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956240" y="5299560"/>
            <a:ext cx="54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。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商场更省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95280" y="15451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．爸爸想在网上书店买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店打七折销售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店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6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。如果爸爸想买的书标价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两个书店买，各应付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在哪个书店买更省钱？能省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946080" y="299772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书店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11280" y="3427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×70%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049400" y="3859920"/>
            <a:ext cx="19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书店买的实际花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20640" y="425520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0-1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5003640" y="2996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11280" y="50202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答：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书店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，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书店买应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。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书店更省钱，  能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5148360" y="342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（元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31Z</dcterms:modified>
  <cp:revision>8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