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CAEB-4DA1-4936-9E42-E3DFFC14E846}" type="datetime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B4A1-C537-42B2-8AB1-9286695E03B5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14F-4128-4F38-8517-62139093BB39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2387-CDF0-4710-BF24-24EB5C746E71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6DED-C7D6-453E-93ED-BBD5C4D89E8A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4F2D-1590-47B8-91B4-BDF82EAAA133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77C8-39FF-44B0-BCAC-6D297F9FC0C5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524C-4417-462F-B0FC-BAEF2CC7B89C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71CF-8726-4D3A-AF00-518524FFC2B6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FC41-E833-4568-A283-4169F7754334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7182-456B-429E-904E-4D6BBC759CB2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698480" y="216072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行走路线（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6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208160" y="6462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位置与方向（一）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3"/>
          <a:stretch/>
        </p:blipFill>
        <p:spPr>
          <a:xfrm>
            <a:off x="684360" y="843120"/>
            <a:ext cx="785520" cy="78552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375948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1224000" y="5508720"/>
            <a:ext cx="574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熊猫馆在长颈鹿馆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长颈鹿馆在熊猫馆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4229280" y="5499000"/>
            <a:ext cx="1035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矩形 8"/>
          <p:cNvSpPr/>
          <p:nvPr/>
        </p:nvSpPr>
        <p:spPr>
          <a:xfrm>
            <a:off x="4229280" y="5935680"/>
            <a:ext cx="1035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东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8" name="Picture 12" descr="u1jx04_04"/>
          <p:cNvPicPr/>
          <p:nvPr/>
        </p:nvPicPr>
        <p:blipFill>
          <a:blip r:embed="rId1"/>
          <a:stretch/>
        </p:blipFill>
        <p:spPr>
          <a:xfrm>
            <a:off x="250920" y="1484280"/>
            <a:ext cx="5398920" cy="404964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5508720" y="2349360"/>
            <a:ext cx="2851200" cy="2664000"/>
            <a:chOff x="5508720" y="2349360"/>
            <a:chExt cx="2851200" cy="2664000"/>
          </a:xfrm>
        </p:grpSpPr>
        <p:sp>
          <p:nvSpPr>
            <p:cNvPr id="110" name="AutoShape 27"/>
            <p:cNvSpPr/>
            <p:nvPr/>
          </p:nvSpPr>
          <p:spPr>
            <a:xfrm>
              <a:off x="5508720" y="2349360"/>
              <a:ext cx="2540160" cy="865440"/>
            </a:xfrm>
            <a:prstGeom prst="wedgeRoundRectCallout">
              <a:avLst>
                <a:gd name="adj1" fmla="val 41134"/>
                <a:gd name="adj2" fmla="val 80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比两个问题，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什么发现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1" name="Picture 16" descr="107"/>
            <p:cNvPicPr/>
            <p:nvPr/>
          </p:nvPicPr>
          <p:blipFill>
            <a:blip r:embed="rId2"/>
            <a:stretch/>
          </p:blipFill>
          <p:spPr>
            <a:xfrm>
              <a:off x="6918480" y="3573360"/>
              <a:ext cx="144144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1224000" y="5508720"/>
            <a:ext cx="5111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海洋馆在大门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大门在海洋馆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3500280" y="5456160"/>
            <a:ext cx="108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东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3506760" y="5956200"/>
            <a:ext cx="1068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7" name="Picture 12" descr="u1jx04_04"/>
          <p:cNvPicPr/>
          <p:nvPr/>
        </p:nvPicPr>
        <p:blipFill>
          <a:blip r:embed="rId1"/>
          <a:stretch/>
        </p:blipFill>
        <p:spPr>
          <a:xfrm>
            <a:off x="250920" y="1484280"/>
            <a:ext cx="5398920" cy="404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0"/>
          <p:cNvGrpSpPr/>
          <p:nvPr/>
        </p:nvGrpSpPr>
        <p:grpSpPr>
          <a:xfrm>
            <a:off x="5508720" y="2349360"/>
            <a:ext cx="2851200" cy="2664000"/>
            <a:chOff x="5508720" y="2349360"/>
            <a:chExt cx="2851200" cy="2664000"/>
          </a:xfrm>
        </p:grpSpPr>
        <p:sp>
          <p:nvSpPr>
            <p:cNvPr id="119" name="AutoShape 27"/>
            <p:cNvSpPr/>
            <p:nvPr/>
          </p:nvSpPr>
          <p:spPr>
            <a:xfrm>
              <a:off x="5508720" y="2349360"/>
              <a:ext cx="2540160" cy="865440"/>
            </a:xfrm>
            <a:prstGeom prst="wedgeRoundRectCallout">
              <a:avLst>
                <a:gd name="adj1" fmla="val 41134"/>
                <a:gd name="adj2" fmla="val 80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比两个问题，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什么发现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0" name="Picture 16" descr="107"/>
            <p:cNvPicPr/>
            <p:nvPr/>
          </p:nvPicPr>
          <p:blipFill>
            <a:blip r:embed="rId2"/>
            <a:stretch/>
          </p:blipFill>
          <p:spPr>
            <a:xfrm>
              <a:off x="6918480" y="3573360"/>
              <a:ext cx="144144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9" descr="松鼠6"/>
          <p:cNvPicPr/>
          <p:nvPr/>
        </p:nvPicPr>
        <p:blipFill>
          <a:blip r:embed="rId1"/>
          <a:stretch/>
        </p:blipFill>
        <p:spPr>
          <a:xfrm>
            <a:off x="179280" y="5445000"/>
            <a:ext cx="8604360" cy="1086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u1jx04_06"/>
          <p:cNvPicPr/>
          <p:nvPr/>
        </p:nvPicPr>
        <p:blipFill>
          <a:blip r:embed="rId2"/>
          <a:stretch/>
        </p:blipFill>
        <p:spPr>
          <a:xfrm>
            <a:off x="1042920" y="907920"/>
            <a:ext cx="6121440" cy="459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611280" y="4567320"/>
            <a:ext cx="770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森林中的小动物各住在什么位置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AutoShape 27"/>
          <p:cNvSpPr/>
          <p:nvPr/>
        </p:nvSpPr>
        <p:spPr>
          <a:xfrm>
            <a:off x="4394160" y="765000"/>
            <a:ext cx="2644920" cy="865440"/>
          </a:xfrm>
          <a:prstGeom prst="wedgeRoundRectCallout">
            <a:avLst>
              <a:gd name="adj1" fmla="val -37527"/>
              <a:gd name="adj2" fmla="val 16027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松鼠住在森林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北角，我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11280" y="5059440"/>
            <a:ext cx="5545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小熊的送货路线是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3263760" y="5772240"/>
            <a:ext cx="93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东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249880" y="5772240"/>
            <a:ext cx="57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南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7095960" y="577224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西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标题 5"/>
          <p:cNvSpPr/>
          <p:nvPr/>
        </p:nvSpPr>
        <p:spPr>
          <a:xfrm>
            <a:off x="988920" y="2521080"/>
            <a:ext cx="7010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页练习二，第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9914-6D7C-49F7-AE44-566F25B6CA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情境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4240080" y="2421000"/>
            <a:ext cx="79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cxnSp>
        <p:nvCxnSpPr>
          <p:cNvPr id="52" name="直接箭头连接符 2"/>
          <p:cNvCxnSpPr/>
          <p:nvPr/>
        </p:nvCxnSpPr>
        <p:spPr>
          <a:xfrm>
            <a:off x="2019240" y="4615920"/>
            <a:ext cx="5106240" cy="1080"/>
          </a:xfrm>
          <a:prstGeom prst="straightConnector1">
            <a:avLst/>
          </a:prstGeom>
          <a:ln w="2844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53" name="直接箭头连接符 4"/>
          <p:cNvCxnSpPr/>
          <p:nvPr/>
        </p:nvCxnSpPr>
        <p:spPr>
          <a:xfrm>
            <a:off x="4627080" y="2997000"/>
            <a:ext cx="1080" cy="3107160"/>
          </a:xfrm>
          <a:prstGeom prst="straightConnector1">
            <a:avLst/>
          </a:prstGeom>
          <a:ln w="2844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sp>
        <p:nvSpPr>
          <p:cNvPr id="54" name="Text Box 22"/>
          <p:cNvSpPr/>
          <p:nvPr/>
        </p:nvSpPr>
        <p:spPr>
          <a:xfrm>
            <a:off x="3117960" y="3789360"/>
            <a:ext cx="115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西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4851360" y="3789360"/>
            <a:ext cx="115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东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4851360" y="4800600"/>
            <a:ext cx="115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东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3117960" y="4800600"/>
            <a:ext cx="115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西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1274760" y="4295880"/>
            <a:ext cx="79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西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7016760" y="4295880"/>
            <a:ext cx="79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东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4240080" y="6049800"/>
            <a:ext cx="79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3708360" y="1601640"/>
            <a:ext cx="4641840" cy="1441080"/>
            <a:chOff x="3708360" y="1601640"/>
            <a:chExt cx="4641840" cy="1441080"/>
          </a:xfrm>
        </p:grpSpPr>
        <p:sp>
          <p:nvSpPr>
            <p:cNvPr id="62" name="AutoShape 27"/>
            <p:cNvSpPr/>
            <p:nvPr/>
          </p:nvSpPr>
          <p:spPr>
            <a:xfrm>
              <a:off x="3708360" y="1744560"/>
              <a:ext cx="3205080" cy="557640"/>
            </a:xfrm>
            <a:prstGeom prst="wedgeRoundRectCallout">
              <a:avLst>
                <a:gd name="adj1" fmla="val 56365"/>
                <a:gd name="adj2" fmla="val -11125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看图确定其他七个方向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63" name="Picture 35" descr="107"/>
            <p:cNvPicPr/>
            <p:nvPr/>
          </p:nvPicPr>
          <p:blipFill>
            <a:blip r:embed="rId1"/>
            <a:stretch/>
          </p:blipFill>
          <p:spPr>
            <a:xfrm>
              <a:off x="6800760" y="1601640"/>
              <a:ext cx="1549440" cy="144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Picture 37" descr="北和标志"/>
          <p:cNvPicPr/>
          <p:nvPr/>
        </p:nvPicPr>
        <p:blipFill>
          <a:blip r:embed="rId2"/>
          <a:stretch/>
        </p:blipFill>
        <p:spPr>
          <a:xfrm>
            <a:off x="1614600" y="2241720"/>
            <a:ext cx="446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1"/>
          <p:cNvSpPr/>
          <p:nvPr/>
        </p:nvSpPr>
        <p:spPr>
          <a:xfrm>
            <a:off x="5400720" y="5137200"/>
            <a:ext cx="32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熊猫馆在西北角。去熊猫馆，可以先到狮山，再向西北走。也可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7" name="Picture 6" descr="u1jx04_02"/>
          <p:cNvPicPr/>
          <p:nvPr/>
        </p:nvPicPr>
        <p:blipFill>
          <a:blip r:embed="rId1"/>
          <a:stretch/>
        </p:blipFill>
        <p:spPr>
          <a:xfrm>
            <a:off x="638280" y="1536840"/>
            <a:ext cx="678168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u1jx04_03"/>
          <p:cNvPicPr/>
          <p:nvPr/>
        </p:nvPicPr>
        <p:blipFill>
          <a:blip r:embed="rId1"/>
          <a:stretch/>
        </p:blipFill>
        <p:spPr>
          <a:xfrm>
            <a:off x="636480" y="1536840"/>
            <a:ext cx="6786720" cy="5091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5400720" y="5348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长颈鹿馆先向西北走，到狮山，再向西南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452160" y="639432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u1jx04_04"/>
          <p:cNvPicPr/>
          <p:nvPr/>
        </p:nvPicPr>
        <p:blipFill>
          <a:blip r:embed="rId1"/>
          <a:srcRect l="18633" t="0" r="12066" b="0"/>
          <a:stretch/>
        </p:blipFill>
        <p:spPr>
          <a:xfrm>
            <a:off x="1143000" y="1530360"/>
            <a:ext cx="4705200" cy="50925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6227640" y="2133720"/>
            <a:ext cx="2449440" cy="3095640"/>
            <a:chOff x="6227640" y="2133720"/>
            <a:chExt cx="2449440" cy="3095640"/>
          </a:xfrm>
        </p:grpSpPr>
        <p:sp>
          <p:nvSpPr>
            <p:cNvPr id="75" name="AutoShape 27"/>
            <p:cNvSpPr/>
            <p:nvPr/>
          </p:nvSpPr>
          <p:spPr>
            <a:xfrm>
              <a:off x="6227640" y="2133720"/>
              <a:ext cx="2135160" cy="1376280"/>
            </a:xfrm>
            <a:prstGeom prst="wedgeRoundRectCallout">
              <a:avLst>
                <a:gd name="adj1" fmla="val 38833"/>
                <a:gd name="adj2" fmla="val 64574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一说其他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物分别在狮山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什么方向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76" name="Picture 12" descr="107"/>
            <p:cNvPicPr/>
            <p:nvPr/>
          </p:nvPicPr>
          <p:blipFill>
            <a:blip r:embed="rId2"/>
            <a:stretch/>
          </p:blipFill>
          <p:spPr>
            <a:xfrm>
              <a:off x="7235640" y="3789360"/>
              <a:ext cx="144144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6058080" y="2438280"/>
            <a:ext cx="2666880" cy="2791080"/>
            <a:chOff x="6058080" y="2438280"/>
            <a:chExt cx="2666880" cy="2791080"/>
          </a:xfrm>
        </p:grpSpPr>
        <p:sp>
          <p:nvSpPr>
            <p:cNvPr id="79" name="AutoShape 27"/>
            <p:cNvSpPr/>
            <p:nvPr/>
          </p:nvSpPr>
          <p:spPr>
            <a:xfrm>
              <a:off x="6058080" y="2438280"/>
              <a:ext cx="2666880" cy="990720"/>
            </a:xfrm>
            <a:prstGeom prst="wedgeRoundRectCallout">
              <a:avLst>
                <a:gd name="adj1" fmla="val 30976"/>
                <a:gd name="adj2" fmla="val 68421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桌互相提出问题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并且试着解答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0" name="Picture 12" descr="107"/>
            <p:cNvPicPr/>
            <p:nvPr/>
          </p:nvPicPr>
          <p:blipFill>
            <a:blip r:embed="rId1"/>
            <a:stretch/>
          </p:blipFill>
          <p:spPr>
            <a:xfrm>
              <a:off x="7235640" y="3789360"/>
              <a:ext cx="144108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Picture 8" descr="u1jx04_04"/>
          <p:cNvPicPr/>
          <p:nvPr/>
        </p:nvPicPr>
        <p:blipFill>
          <a:blip r:embed="rId2"/>
          <a:srcRect l="18633" t="0" r="12066" b="0"/>
          <a:stretch/>
        </p:blipFill>
        <p:spPr>
          <a:xfrm>
            <a:off x="1143000" y="1530360"/>
            <a:ext cx="47052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2771640" y="3000240"/>
            <a:ext cx="4572000" cy="323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11280" y="1695600"/>
            <a:ext cx="3889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生活中的数学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4500720" y="1981080"/>
            <a:ext cx="2016000" cy="935280"/>
          </a:xfrm>
          <a:prstGeom prst="wedgeRoundRectCallout">
            <a:avLst>
              <a:gd name="adj1" fmla="val -37638"/>
              <a:gd name="adj2" fmla="val 67486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能在夜空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找到北斗星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565200" y="4378320"/>
            <a:ext cx="2020680" cy="1376280"/>
          </a:xfrm>
          <a:prstGeom prst="wedgeRoundRectCallout">
            <a:avLst>
              <a:gd name="adj1" fmla="val 62240"/>
              <a:gd name="adj2" fmla="val -3755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每年都从北方飞往南方过冬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6588000" y="5626080"/>
            <a:ext cx="2146320" cy="560520"/>
          </a:xfrm>
          <a:prstGeom prst="wedgeRoundRectCallout">
            <a:avLst>
              <a:gd name="adj1" fmla="val -28875"/>
              <a:gd name="adj2" fmla="val -859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刮西北风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1"/>
          <p:cNvSpPr/>
          <p:nvPr/>
        </p:nvSpPr>
        <p:spPr>
          <a:xfrm>
            <a:off x="1224000" y="5508720"/>
            <a:ext cx="590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熊猫馆在动物园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角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飞禽馆在动物园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角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743280" y="5489640"/>
            <a:ext cx="136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3708360" y="5956200"/>
            <a:ext cx="144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东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5292720" y="2583000"/>
            <a:ext cx="3240000" cy="2693880"/>
            <a:chOff x="5292720" y="2583000"/>
            <a:chExt cx="3240000" cy="2693880"/>
          </a:xfrm>
        </p:grpSpPr>
        <p:sp>
          <p:nvSpPr>
            <p:cNvPr id="93" name="AutoShape 27"/>
            <p:cNvSpPr/>
            <p:nvPr/>
          </p:nvSpPr>
          <p:spPr>
            <a:xfrm>
              <a:off x="5292720" y="2583000"/>
              <a:ext cx="3046320" cy="865080"/>
            </a:xfrm>
            <a:prstGeom prst="wedgeRoundRectCallout">
              <a:avLst>
                <a:gd name="adj1" fmla="val 33972"/>
                <a:gd name="adj2" fmla="val 80458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根据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动物园导游图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回答问题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4" name="Picture 16" descr="107"/>
            <p:cNvPicPr/>
            <p:nvPr/>
          </p:nvPicPr>
          <p:blipFill>
            <a:blip r:embed="rId1"/>
            <a:stretch/>
          </p:blipFill>
          <p:spPr>
            <a:xfrm>
              <a:off x="7091280" y="3836880"/>
              <a:ext cx="144144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6" name="Picture 12" descr="u1jx04_04"/>
          <p:cNvPicPr/>
          <p:nvPr/>
        </p:nvPicPr>
        <p:blipFill>
          <a:blip r:embed="rId2"/>
          <a:stretch/>
        </p:blipFill>
        <p:spPr>
          <a:xfrm>
            <a:off x="250920" y="1484280"/>
            <a:ext cx="53989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1224000" y="5508720"/>
            <a:ext cx="6840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猴山在狮山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长颈鹿馆在狮山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3060720" y="5502240"/>
            <a:ext cx="1295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3586320" y="5950080"/>
            <a:ext cx="158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东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2" name="Picture 9" descr="u1jx04_04"/>
          <p:cNvPicPr/>
          <p:nvPr/>
        </p:nvPicPr>
        <p:blipFill>
          <a:blip r:embed="rId1"/>
          <a:stretch/>
        </p:blipFill>
        <p:spPr>
          <a:xfrm>
            <a:off x="250920" y="1484280"/>
            <a:ext cx="53989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6:08:25Z</dcterms:modified>
  <cp:revision>6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