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11.jpeg" ContentType="image/jpeg"/>
  <Override PartName="/ppt/media/image1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99E-F14E-487D-A6F1-75593B3B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2B7-4420-4E62-8F9C-B76CFED5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E05C1-3E52-4451-B488-D066AD78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A97C1-1C4F-477B-B311-046BD1BF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B440D-69B9-4DF5-8550-03A6018C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450BC-64D6-4181-8FFF-5DA3E0F4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23754-6FBC-4F68-B9EE-BCE6F354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9404E-CC3D-408B-9E22-937C65EA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83332-3D20-4D56-B029-A382EBF9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67068-423B-4811-BB3E-5C0E5FE3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51879-9D40-4404-BF2C-C23131B6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AB209-C8A1-49DA-8D4B-157B9853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372-B474-48E4-A4C9-F38884FB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CE0C8-2CFD-4BA4-A0A6-2EAE5CDB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E8DE8-8BBF-4416-8780-2CCA47E1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4BB3B-8FE7-4FE9-B21A-839A4442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F9525-B83F-4B97-94FC-2BE1038F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C6AE0-27E0-4F52-A766-CD954E4E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89BF4-15B2-4D20-A426-BB1C60F8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4FAE0-9715-4547-BA9B-C9F778BF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FA795-8C25-4DBB-B299-B11A0174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8649C-6C5D-4322-9006-421EFBB9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33374-FCD8-4862-B879-486E183E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F42-85BD-4D32-AEAA-7188814C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5764A-6D9A-494B-8334-9280DFB5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C5089-7175-4B5D-827B-9CB0327C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234B0-5C2F-4C2A-9E7A-202260AD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FAD6B-13BD-428F-9231-D20689BC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694FD-B9F8-4835-B5C4-D47C0A55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ED5E0-F163-4EF2-93AC-21A2012F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7D261-A256-4A16-AD3E-731A102C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D0F67-DC45-44C4-B517-0A616405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22C53-AF8C-48E6-A6D3-CFCB560E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1A8F3-39A9-49F6-9E03-9CE3A79A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5920-4703-4A7B-8E49-219073FF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FC04D-D854-4E67-9583-EE1293BF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B4CBC-9AB1-43E0-AC3B-92C913F4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047C4-2D71-4B2A-A997-711990F0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1ED8E-7B9F-4474-9933-2BD19F59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AF1B2-9BF5-4AD5-9D2A-992182B5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F3E91-D865-43D1-9FC9-6A54800C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440DD-12B1-45B3-92C2-CF255AA3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A4EA8-AE2C-4497-9C98-0BABC014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D04A5-5A56-463D-9276-1F9D26BC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D12A2-43BD-488E-B0B1-A374EF99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FF90-37C5-443D-86FD-A936D382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62ED1-D094-4609-9025-F3B2ADC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BEAE2-C9E3-4D75-AB96-325C6386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A446C-E639-46B8-95F9-37CF0BBB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1AEF1-54DD-490F-B911-B07C55E1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18FB9-A4A1-43D5-A2B0-312DB29E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3A5A-BD11-4ABB-BFDE-2B2D32EC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9DB4-D9DA-4B87-8165-DB3B3449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AA2B-12A1-4DB2-A362-D91AB943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E9F6-A0B5-460B-9EB2-34577F87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1A17-F6C6-4580-8D77-B43BAC9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CAF-3211-48AD-92EF-B077E47F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4E6B-8AD3-4D82-A2BE-BC66E59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ADE0-49FC-4E75-BAA5-C61A64D2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8F74-C073-4894-A499-A887CA3F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4C96-51E8-4F62-A4C3-20204F4C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4AEC-0B72-493D-8B18-7A660958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59E1-3677-4B87-A589-18F8444F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1E81-8803-4549-A662-BEA0166E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BCF7E-EAF7-4153-8466-8FC5BB3E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6E83-4258-4E2D-AFB1-3036B941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072F9-DBB7-4A3E-B935-35EEDB74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F40-044A-4744-B330-A05650A2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E334-69F7-410C-B195-4840187F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83FC-361F-4DED-A222-9FB03CC4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FD50-7ABA-483F-9254-C6A50DC7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7C59-7761-483F-9C16-2E926C0D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5DBD-F03D-4A7B-BD5A-BFF76483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01D0-B570-4EC9-93D5-F65A1EE6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DB03-4657-45A8-9D83-7BA3010B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E0547-E727-4605-9EA5-C437039B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4B26-3CDB-48A4-9A88-0FF9DAA1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243A9-88F3-489A-BE8F-2141E035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3A0-119B-4D4F-A1E2-6290A7CC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573B-CF13-4EB1-94AC-3F0294C1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5350-BA6E-44C5-A8A3-25B472FA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E8FC-9035-468A-A9D0-FB6C0D32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9C118-0770-475E-90A7-155F56A4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FAC78-655C-4768-A216-526AF310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80C90-4795-4251-BD84-B6751A11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EC7B6-7FD7-4F90-9365-859C82B2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F308D-585A-437F-8422-EDFD002C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21198-6A99-44BB-906E-D0067DCD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C1EDA-B502-4C51-9F35-76C71F32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C49-5F00-4AB2-B751-6C0BE346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13719-F591-4175-B4C5-C1293B56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94A27-0BCC-45CD-9DDB-A149A92C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3D193-8528-4D9E-B274-73F35295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D4C8E-1319-4A3D-B043-3788E223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76B83-E790-4CD4-8A65-41347AC4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F0FB5-549F-4AED-902F-26960389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5E657-3C56-43C2-8E54-0E79D784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99EC6-2E3F-4A6C-93A3-89C2053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75771-B352-4D2A-A0D7-3588CF3A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C11F-B699-40DA-9C7D-A5F12B24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5AC-CE47-4788-AC42-864B796B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FEDFB-12FE-4542-873D-DB9D0B5F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91D96-48CE-47B2-A25D-FD4514C9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3AE1E-5914-4A36-9FAF-9DF2FD71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901C0-6283-4498-9F5B-BC7FA2B1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B2C28-3819-4EA4-9F47-FED37732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28397-9074-4342-B897-B65E4CA1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BCC23-381E-4840-A649-FC6689DD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34FA-6148-434E-BC18-5D6A2025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E6B25-BA32-4213-A0F0-02F8930F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F3312-0B13-4689-9E5A-4F334C5F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E30-AAFC-4663-9610-7C93EB6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05F53-CAD5-46D5-92A3-80BF012E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95F04-D143-408B-A739-D64C8DAF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9142F-0CE3-423A-ABB1-AB23DA25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D78A8-4FD8-4A73-9D7F-889E0D9E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B24E3-E047-4BBF-AB06-C496FD21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22126-18C5-4708-B0F6-A4779794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B681A-EAB7-4B2B-A818-D5F9E473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3BA33-83E0-413E-9B86-8042228B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31F1E-E3DB-42E6-9C8A-7E000D1C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997C-58B3-431B-BB92-2713A117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BB8-8781-47AF-BFC0-2E7CF52B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551D0-48FE-4769-A98A-EF35EBFC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4E0E-B84A-4B18-80C1-D9BBFF49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ED9DB-013A-4D57-A295-32D9C2D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4CFF3-8B4A-4E6C-A02D-8A627A4E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C07D7-A462-4B96-B9F2-646293B5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FEDD2-1F29-43C8-AEA9-C539F604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E064-F6AD-4BEE-B08D-2DB2B9D5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CDB9F-F728-4A70-88D9-4EAF9B2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7009C-73F4-4725-BF27-F0100672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8EEC4-6D92-4C9C-8C2F-3893C087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E91-D896-407E-A337-C104464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4892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B416E-2E13-4A1D-AB54-F69AE389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7473C-5760-4710-A8A2-A6ED5AB8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20B30-7D3F-41FD-A787-1B50DE3C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96B0F-08D9-4E17-9884-C67C4AAD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48920" y="3952800"/>
            <a:ext cx="81010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C03B9-DF51-4BC3-BA7D-AA490FBD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00080" y="159516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892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00080" y="3952800"/>
            <a:ext cx="395316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311D2-C70B-4899-8BF3-221B3D79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27040" y="159516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4892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27040" y="3952800"/>
            <a:ext cx="260820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9A761-B7CC-4E61-AF3E-433EECB0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8F6B5-596C-444D-9E61-7F7255D4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ECEC1-788C-4E52-AFDB-AB45C8C6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4DE27-A642-4F96-80AD-EC95461A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4AB101E-B0F6-4BC2-A147-858EF9F1C7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3"/>
          <p:cNvPicPr/>
          <p:nvPr/>
        </p:nvPicPr>
        <p:blipFill>
          <a:blip r:embed="rId3"/>
          <a:stretch/>
        </p:blipFill>
        <p:spPr>
          <a:xfrm>
            <a:off x="0" y="0"/>
            <a:ext cx="9001080" cy="683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567D65B-285B-4E20-ADCF-A34C8509A9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29BD878-BE4D-443D-BC70-2CB6619895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7EC0D3F-1B7A-4717-B33C-86B2D6804E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71C2055-3450-433F-88A4-033284E8B5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3868658-DA4D-4EBA-85F4-62F28624DC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9D3EA8A-B7F9-45E0-AD47-A77A84511D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78BAF04-2B0A-458E-88AB-83AF984E3A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13D5F8F-7C63-417F-B96A-CA3DCF0C2A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0823163-2F00-4F25-B349-5C9C515E50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651C0B95-E4A8-4EE2-8B21-2454BDDF54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892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48920" y="1595160"/>
            <a:ext cx="81010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4928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074760" y="6227280"/>
            <a:ext cx="284940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450120" y="6227280"/>
            <a:ext cx="2100240" cy="4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ED19F00-F915-4EA9-B8F6-5F27784E82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4"/>
          <p:cNvSpPr/>
          <p:nvPr/>
        </p:nvSpPr>
        <p:spPr>
          <a:xfrm>
            <a:off x="95400" y="971640"/>
            <a:ext cx="880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次函数与一元一次不等式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ws_2F7"/>
          <p:cNvPicPr/>
          <p:nvPr/>
        </p:nvPicPr>
        <p:blipFill>
          <a:blip r:embed="rId2"/>
          <a:stretch/>
        </p:blipFill>
        <p:spPr>
          <a:xfrm>
            <a:off x="682560" y="1219320"/>
            <a:ext cx="1498680" cy="3934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ws_2F8"/>
          <p:cNvPicPr/>
          <p:nvPr/>
        </p:nvPicPr>
        <p:blipFill>
          <a:blip r:embed="rId3"/>
          <a:stretch/>
        </p:blipFill>
        <p:spPr>
          <a:xfrm>
            <a:off x="4089240" y="2933640"/>
            <a:ext cx="1359000" cy="18414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4"/>
          <p:cNvSpPr/>
          <p:nvPr/>
        </p:nvSpPr>
        <p:spPr>
          <a:xfrm>
            <a:off x="2261160" y="1827360"/>
            <a:ext cx="4875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是一次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，则关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不等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350880" y="2411280"/>
            <a:ext cx="722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24320" y="2406600"/>
            <a:ext cx="42966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集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6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6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ws_2F9"/>
          <p:cNvPicPr/>
          <p:nvPr/>
        </p:nvPicPr>
        <p:blipFill>
          <a:blip r:embed="rId2"/>
          <a:stretch/>
        </p:blipFill>
        <p:spPr>
          <a:xfrm>
            <a:off x="3632040" y="3219480"/>
            <a:ext cx="2273400" cy="20955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1938600" y="1096920"/>
            <a:ext cx="464472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如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根据图象回答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取什么值时，函数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等于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取什么值时，函数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大于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2030400" y="2724120"/>
            <a:ext cx="36705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取什么值时，函数的图象在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轴下方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4542840" y="549756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99"/>
          <p:cNvSpPr/>
          <p:nvPr/>
        </p:nvSpPr>
        <p:spPr>
          <a:xfrm>
            <a:off x="1523880" y="376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2"/>
          <a:stretch/>
        </p:blipFill>
        <p:spPr>
          <a:xfrm>
            <a:off x="755640" y="1116000"/>
            <a:ext cx="76183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225160" y="1273320"/>
            <a:ext cx="4527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甲、乙两家超市以相同的价格出售同样的商品．为了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87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引顾客，各自推出不同的优惠方案．在甲超市累计购买商品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2041560" y="2430360"/>
            <a:ext cx="48895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之后，超出部分按原价八折优惠．在乙超市累计购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商品超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之后，超出部分按原价八五折优惠．设顾客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计累计购物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0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2435760" y="4167360"/>
            <a:ext cx="4650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请用含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代数式分别表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示顾客在两家超市购物所付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848160" y="4745160"/>
            <a:ext cx="503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费用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2364840" y="5324400"/>
            <a:ext cx="39142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试比较顾客到哪家超市购物更优惠？说明理由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196640" y="760320"/>
            <a:ext cx="437112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在甲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超市购物所付的费用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(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0.8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)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在乙超市购物所付的费用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196280" y="2278080"/>
            <a:ext cx="4651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5(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0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0.85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)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348200" y="2786040"/>
            <a:ext cx="528408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当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5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时，解得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当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5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时，解得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当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5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时，解得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而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∴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864800" y="4811760"/>
            <a:ext cx="525204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当顾客购物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时，到两家超市购物所付费用相同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当顾客购物超过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且不满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时，到乙超市更优惠；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顾客购物超过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时，到甲超市更优惠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0080" y="189000"/>
            <a:ext cx="8078760" cy="5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6200" y="1266480"/>
            <a:ext cx="8786880" cy="52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7170840" y="331920"/>
            <a:ext cx="13683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灯片编号占位符 1"/>
          <p:cNvSpPr/>
          <p:nvPr/>
        </p:nvSpPr>
        <p:spPr>
          <a:xfrm>
            <a:off x="64501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EDFF5A9D-761C-47EE-916B-B4DB486B3A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ws_2F2"/>
          <p:cNvPicPr/>
          <p:nvPr/>
        </p:nvPicPr>
        <p:blipFill>
          <a:blip r:embed="rId2"/>
          <a:stretch/>
        </p:blipFill>
        <p:spPr>
          <a:xfrm>
            <a:off x="663480" y="590400"/>
            <a:ext cx="2971800" cy="6098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"/>
          <p:cNvSpPr/>
          <p:nvPr/>
        </p:nvSpPr>
        <p:spPr>
          <a:xfrm>
            <a:off x="2586600" y="1488960"/>
            <a:ext cx="1072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一次函数与一元一次不等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4352400" y="2779560"/>
            <a:ext cx="1131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064600" y="2139840"/>
            <a:ext cx="5385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探究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一次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函数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自变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355840" y="2790720"/>
            <a:ext cx="24847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所有值，就是一元一次不等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集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214440" y="4048200"/>
            <a:ext cx="113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458000" y="3441600"/>
            <a:ext cx="604512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一次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函数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自变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所有值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12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就是一元一次不等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集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1516320" y="779400"/>
            <a:ext cx="61873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解关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不等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可以转化为：当自变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取何值时，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上的点在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上相应点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849960" y="1863720"/>
            <a:ext cx="503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上方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784680" y="758880"/>
            <a:ext cx="17575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m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1516320" y="2406600"/>
            <a:ext cx="63273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解关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不等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可以转化为：当自变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取何值时，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上的点在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上相应点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849960" y="3492360"/>
            <a:ext cx="503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下方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3846600" y="2373480"/>
            <a:ext cx="17575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m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1969200" y="4033800"/>
            <a:ext cx="497052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归纳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任何一元一次不等式都可以转化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常数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形式，所以解一元一次不等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看作当一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次函数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求自变量相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1017360" y="5662440"/>
            <a:ext cx="100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取值范围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0"/>
          <p:cNvSpPr/>
          <p:nvPr/>
        </p:nvSpPr>
        <p:spPr>
          <a:xfrm>
            <a:off x="6852960" y="4014720"/>
            <a:ext cx="113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1"/>
          <p:cNvSpPr/>
          <p:nvPr/>
        </p:nvSpPr>
        <p:spPr>
          <a:xfrm>
            <a:off x="659880" y="4518000"/>
            <a:ext cx="113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3783600" y="5094360"/>
            <a:ext cx="616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大于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"/>
          <p:cNvSpPr/>
          <p:nvPr/>
        </p:nvSpPr>
        <p:spPr>
          <a:xfrm>
            <a:off x="5195520" y="5079960"/>
            <a:ext cx="616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小于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3574080" y="1913040"/>
            <a:ext cx="1072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一次函数与一元一次不等式在实际中的应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4343040" y="2565360"/>
            <a:ext cx="837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一次函数和一元一次不等式都是刻画现实世界中量与量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2224080" y="3216240"/>
            <a:ext cx="4527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间变化规律的重要模型，在实际问题中二者联系密切，既可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2224080" y="3867120"/>
            <a:ext cx="4527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运用函数图象解不等式，也可以运用解不等式帮助研究函数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1455840" y="4518000"/>
            <a:ext cx="2347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题，二者互相渗透，互相作用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ws_2F3"/>
          <p:cNvPicPr/>
          <p:nvPr/>
        </p:nvPicPr>
        <p:blipFill>
          <a:blip r:embed="rId2"/>
          <a:stretch/>
        </p:blipFill>
        <p:spPr>
          <a:xfrm>
            <a:off x="673200" y="711360"/>
            <a:ext cx="2565360" cy="583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ws_2F4"/>
          <p:cNvPicPr/>
          <p:nvPr/>
        </p:nvPicPr>
        <p:blipFill>
          <a:blip r:embed="rId3"/>
          <a:stretch/>
        </p:blipFill>
        <p:spPr>
          <a:xfrm>
            <a:off x="1763640" y="1441440"/>
            <a:ext cx="1231920" cy="3938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4"/>
          <p:cNvSpPr/>
          <p:nvPr/>
        </p:nvSpPr>
        <p:spPr>
          <a:xfrm>
            <a:off x="4611600" y="1525680"/>
            <a:ext cx="148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一次函数与一元一次不等式的关系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重点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3098160" y="1990800"/>
            <a:ext cx="34873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在同一平面直角坐标系中作出函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1548000" y="2457360"/>
            <a:ext cx="4533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图象，并根据图象说明，当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取何值时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2134080" y="2922480"/>
            <a:ext cx="5259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思路导引：</a:t>
            </a:r>
            <a:r>
              <a:rPr b="0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出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图象，当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图象在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图象的上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771120" y="3389400"/>
            <a:ext cx="1100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楷体_GB2312"/>
              </a:rPr>
              <a:t>时，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&gt;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"/>
          <p:cNvPicPr/>
          <p:nvPr/>
        </p:nvPicPr>
        <p:blipFill>
          <a:blip r:embed="rId4"/>
          <a:stretch/>
        </p:blipFill>
        <p:spPr>
          <a:xfrm>
            <a:off x="677880" y="3905280"/>
            <a:ext cx="74833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ws_2F5"/>
          <p:cNvPicPr/>
          <p:nvPr/>
        </p:nvPicPr>
        <p:blipFill>
          <a:blip r:embed="rId2"/>
          <a:stretch/>
        </p:blipFill>
        <p:spPr>
          <a:xfrm>
            <a:off x="3738600" y="912960"/>
            <a:ext cx="1917720" cy="20444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4376160" y="320364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247760" y="3759120"/>
            <a:ext cx="662292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规律总结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同一坐标系内比较两个一次函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只要看在某一范围内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在上方即可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若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上方，则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gt;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若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上方，则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lt;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若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交，则在交点处，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2126160" y="179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8199"/>
          <p:cNvSpPr/>
          <p:nvPr/>
        </p:nvSpPr>
        <p:spPr>
          <a:xfrm>
            <a:off x="790560" y="42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ws_2F6"/>
          <p:cNvPicPr/>
          <p:nvPr/>
        </p:nvPicPr>
        <p:blipFill>
          <a:blip r:embed="rId2"/>
          <a:stretch/>
        </p:blipFill>
        <p:spPr>
          <a:xfrm>
            <a:off x="1359000" y="826920"/>
            <a:ext cx="1398600" cy="43668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3"/>
          <p:cNvSpPr/>
          <p:nvPr/>
        </p:nvSpPr>
        <p:spPr>
          <a:xfrm>
            <a:off x="4977360" y="944640"/>
            <a:ext cx="837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一次函数与一元一次不等式在实际中的应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87320" y="1522440"/>
            <a:ext cx="5937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底，某公司还有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 00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椪柑库存，这些椪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销售期最多还有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天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天后库存的椪柑不能再销售，需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当垃圾处理，处理费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吨．经测算，椪柑的销售价格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时，平均每天可售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，销售价格降低，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售量可增加，每降低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，每天可多售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如果按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的价格销售，能否在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天内售完这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椪柑？按此价格销售，获得的总毛利润是多少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总毛利润＝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售总收入－库存处理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627200" y="760320"/>
            <a:ext cx="57240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设椪柑销售价格定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≤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时，平均每天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售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，求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关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函数解析式；如果要在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月份售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这些椪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月份按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天计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那么销售价格最高可定为多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精确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2667600" y="2786040"/>
            <a:ext cx="4191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首先由实际问题抽象出函数关系，然后利用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958320" y="3292560"/>
            <a:ext cx="838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等式决策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1945800" y="3798720"/>
            <a:ext cx="56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1)100×6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 000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所以不能在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天内售完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903240" y="4305240"/>
            <a:ext cx="671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些椪柑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1460880" y="4811760"/>
            <a:ext cx="3526920" cy="8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1 0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 0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 000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即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天后还有库存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 00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千克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1565640" y="5824440"/>
            <a:ext cx="5815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总毛利润为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 000×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 000×0.05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1 750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Line 2"/>
          <p:cNvSpPr/>
          <p:nvPr/>
        </p:nvSpPr>
        <p:spPr>
          <a:xfrm>
            <a:off x="2664000" y="1965240"/>
            <a:ext cx="54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2273400" y="4172040"/>
            <a:ext cx="279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651760" y="1644480"/>
            <a:ext cx="565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248840" y="1816200"/>
            <a:ext cx="14072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757960" y="2033640"/>
            <a:ext cx="351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3372480" y="1816200"/>
            <a:ext cx="36622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×5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 100(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≤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1662120" y="2735280"/>
            <a:ext cx="47307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要在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月份售完这些椪柑，售价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必须满足不等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8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 100)≥11 0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378800" y="4033800"/>
            <a:ext cx="7520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解得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2271600" y="3919680"/>
            <a:ext cx="281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3407760" y="4033800"/>
            <a:ext cx="4020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.414.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所以要在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月份售完这些椪柑，销售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1048680" y="4919760"/>
            <a:ext cx="2349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最高可定为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.4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千克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8:15:15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5:50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ac04000000000001024120</vt:lpwstr>
  </property>
</Properties>
</file>