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</p:sldIdLst>
  <p:sldSz cx="8999538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B5E-3C1D-47F8-A108-00AE2BF3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FBBF-CFEC-4A5A-A8A8-9B2FCA2B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77B26-EFAB-44E1-81E6-B09F3A20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82D1D-7952-4135-B09C-C25AC2B5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63CB6-10B0-4BAA-AF9E-D5807F74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719FC-4175-4F09-9875-80FDAC28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324CF-BB01-46AE-B29D-6E533015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9FEF9-D03F-43CE-8059-993EB1C8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B9B6D-00D7-4490-B608-973BAC0A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0277E-E0E3-45AD-AAA1-1E85C6AC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9EC97-32FB-48E4-AE79-1ED4E56E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4D81E-D36C-416F-BB84-8DBC2DA1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4DA-963F-4E1B-9562-C4CD34C2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F38DA-D302-48D0-B163-DFA3A495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F2BEB-9118-4558-9F38-A5B2B172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8AED0-58E5-48CB-9877-922217CA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5CC84-F065-4AA1-B874-C255AEE8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C225B-3349-4291-9D60-6299DA1E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F0436-2108-4FB0-9450-CB36CB4B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A036A-13E6-48D7-A246-801C3A89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73C38-691C-4AF6-9975-E7A750A9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DF715-61F0-4409-B02C-B79E7CCA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F5E62-A564-408E-9E37-BE5190D1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0DB2-D6D4-4C52-A9FA-00244DCE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EF061-0695-42E4-94CF-36F6B937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B66DC-0E63-4EEC-904B-3FDC1B39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E832C-929B-41E6-BF44-5787DF88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2F623-09BF-41BA-B189-E7D68CF7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EE77D-A6CA-41EC-B92F-DE966B9C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97615-7AB6-4887-B305-1B3D2FAD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472C5-3454-442D-997A-C4A4B9B6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55CAA-20DA-4002-BBBD-A661FA60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D4B4B-DFF2-48D7-A84C-30666B34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AD239-39CA-4063-AEDE-BD12B12A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87CD-5ADB-4DC0-BF41-5AB6B0AB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03607-BB41-410C-B903-B9DDFE46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4EB9E-8CA1-49BE-BD51-306692D4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14531-6EBB-47D0-958C-C425F362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D49C8-29C2-4B96-9BE3-91C0C850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69BC5-FD8A-4913-8293-1F872FBE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A62B2-5156-4DB7-BACC-D70AF5F9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8E38E-3241-49AD-B114-69ED3EB6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C253F-51C8-4725-9DA1-689EEC71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19DF2-DBBD-4941-AEFD-B4940ED6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20456-C09A-4233-9428-5921B645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CB13-6E3B-4DC2-A0CE-1D806765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15F1B-7E59-4AB9-8CF4-449F20DF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59D1F-359A-4ECF-9248-BBF2A999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BF564-77A1-449F-8A0C-4A6AB136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04169-06F9-496C-AD4D-6F43DAB8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07667-F748-4ED7-99C3-7BD0B145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43910-6D8F-46CB-AB8E-A17B0619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71553-B553-46B2-92FF-6FD237A8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B53E2-5BD6-4EEA-8953-EAE00FC5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B8B06-509E-4E8A-91C4-76C209D8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E7B03-2B7B-474A-97FC-D939387D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B34A-E010-4DEE-A67A-F05F490A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44B98-72D2-47F5-95D6-01701778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44CB5-22D7-464A-A0F2-25B9274C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45E37-F01D-4560-9ACF-6472BBF1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DB983-AFDB-4DC7-8FF6-FBB35C47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84D9C-367F-4FAD-9BF3-FD8AEE96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82C90-BFCA-41D8-9AAD-8078F60C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624436-5CB8-4BB1-A39C-5821C286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1F335E-627E-443B-97FB-9163AE35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64B72-8068-4980-B2D8-68FD1E87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F7E43-1964-4DAD-A88C-B8957823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79EB-00BE-41DB-B1AB-D0E79196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9BF47-31A9-40B9-9014-E347EE2B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A705DF-BBFF-4645-BD44-9D3EC489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A7C65D-5E58-4451-9776-CAA5A81C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A01DD7-C00F-4334-9ED1-F4241F0E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EB34EB-FD12-45B2-9F11-239F9D7B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B1B2C-9AAA-4211-B8C7-7B6BE8D6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E748E-6891-4F5C-BE57-DBAE7D88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66CE47-37A9-48E9-BD6F-D16540E7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07EA8-735A-47D1-AB6A-AB3FDCEE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0FF30C-9A39-4D77-BBAE-369840F5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809F-039C-4DA6-9BB0-7D71E6D5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7F89DA-DC2E-4497-9AA5-28AF3ED0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86924E-C37B-451D-A7D5-66AC8F44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2FB47-2F22-4DE1-A5BF-12AE7B49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96B394-798E-49C8-81AD-34BCFD72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3A49F9-ADCD-440E-8821-ACDCD3C0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B778CE-7BCA-4CB7-BFA3-349AF391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1564C6-6B85-44D7-B01A-CE38A747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DBF3E-E3A8-4F95-AB51-87EDA33A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6592FD-07FE-43CC-9F2A-B3FF9DE8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8FCC14-1268-40EB-9FC5-551F0636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477E-F26F-46DA-BA3B-D3BE99E9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0A20CC-0335-4FC0-ADB3-D0B05D67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F7CAD-E598-474C-B034-DCC8D74E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0E65D2-8E5C-4C37-A085-D16A48F4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ABB2A8-53F3-436F-B42D-6E3A769C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830097-17D6-489B-BC2F-69B766C4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A4420-7D20-412C-BAC4-57900534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32DD64-4801-48C7-9458-6A888315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237C28-D3C0-4991-885C-BE0CF13B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CEABF5-6644-4CCD-BE57-5BC22FEB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05DE89-D36F-43F5-A5C0-8B7D001E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C365-8F8A-4739-A8FB-7E66E11F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6F586C-1698-43E3-A529-400C6526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6CA916-B343-4CA3-A617-98F12F26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58CFA3-1B61-4F23-9E0F-2FE25241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2059BC-9C02-4F38-8733-3665AEA1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AA9426-CD10-4A9D-A28A-CBDFCD30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4E682B-2DF7-49BF-A385-4B634BCC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6E327-CA0D-4E16-B152-DEA21BC9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2A24E5-6406-4979-98AD-240EEE96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3BE385-7B05-4B82-9760-4FCBEED4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B4977F-CF37-4FC0-B470-9620E130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2FB-2CB7-4217-9ADC-D495604B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1405-9782-4708-ACA7-31B22E30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DE73B9-F160-479C-987C-D356CEB7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E29E26-0E86-4A3E-A8E1-01176709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0DE2B1-1720-482D-82F6-49FBF628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B2D3F7-6BAE-4FFC-AD0F-EEFDCFBE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93DB1-0FBB-4202-AFD4-DAC36911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A6D570-7711-477E-9EF8-3ABD1EE3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F1F85A-6ECB-4CE7-87EB-B8AB5456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5DC5B0-314D-4B2D-A8B8-0A92C353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B07C36-49B5-4651-92F6-A52E23F5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24B974-CFAF-4633-9F86-7013F090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DCC2-7157-4911-94CF-890862B9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FBB3C8-5643-4190-B7D3-61123478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99E42A-9F47-4585-9EE4-31641897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CA650C-627C-4FFD-9AE9-28786C94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A5854E-0FB7-4B28-AB93-54C3A879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9889CB-32E8-4341-8091-B96E816F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59147F-65C3-49A9-AD9F-2B30284D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A9B13D-6543-4578-9C35-D2AD055A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C5825E-9CC9-4F40-B748-24536CE4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1F3569-8390-4DA9-94FE-6533E53B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D8A4A4-AB69-4BB0-84AD-327F3A81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2158-1D42-459C-9DF4-5B51FB70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0AD10C-8D4F-4A8E-86B5-2FDB6BCC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78DE2E-E554-4DD9-97D6-2E4F2BA4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043487-17D0-4B3F-93A9-B3CA791E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409D3B-5F46-4626-8007-FC7E41EB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8F92F3-7698-4255-96DA-BED81DF6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42F819-CCAB-45F1-B1C7-F2680562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ADA038-0637-4856-8D5C-C680BBA0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B60EA6-8DB9-4D7C-BBED-0AE0DA10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4A3041-CB85-4A7A-BB91-500A69E0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6577CE-C0A6-48E1-A20C-39AC773D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0BD4-D9A3-44C5-AE58-BB4814E2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F323F3-CC27-499C-BDC2-6E9361EE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811C24-4887-4320-A63B-FBFE3802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236C10-28D4-451A-ACA8-2445EF7D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BF60B2-CCDA-4BC6-AF8E-A74BA827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377450-29EB-4727-AED7-153AE483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9062FC-8676-411D-A339-69CE29A8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55D38B-A2E5-4A70-8837-1ED8C0B9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3D6251-1EBD-4FDB-93D1-8CDEF1E3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FBE29B-C174-4017-A253-B35F8E98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76A99B-4598-48FA-911B-A304CD16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FDF6-6AD9-4D36-AC4F-D92F09D3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681380-7928-4149-8971-1A188CCA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032745-46CF-4062-902C-5D994379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CCB01E-A4E9-4739-9FF1-3A803161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A14B60-FE6D-4129-809C-F7FF201D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0FCDCD-DCD5-468B-9ADF-5BE5D152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B7774B-4E15-47B6-B4E0-82479CFA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A574D8-0366-4CF5-9DF4-FA3F15DC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5A1B5A-9CF0-4399-B938-24957DB2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2C17D1-7846-4469-83C7-1C6A1DC2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7D6CF5-0791-439F-A318-AD8918C4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97AF-62D5-4D53-83D7-B255260B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08FBE2-4E32-4D27-832B-80090326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4E09DD-2E1C-4571-A491-0A379B4A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F3A210-2DFA-476D-B825-CE97DC6D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B48520-820D-4662-B590-2FA78A67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5ED7A8-3758-43FF-A2BE-95ADAC64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967956-A64D-4237-BDDB-ACD4CC6A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C40208-8655-4DB0-BFBC-04C85CFF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2970B8-B2FC-4B55-BDEB-650D40BD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20592E-3807-4AC7-B9AC-94E262F2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6C8DA2-F5B5-4A3E-B67B-B719ADE3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7F805-6F48-4B43-89CD-B58BF422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F67B1F-1F7F-4769-81A0-2F59CBCE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1C8C7B-C8D9-4593-A443-7359C006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E47481-AC36-4C59-BCF9-5EB99924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B1EDE9-2FE5-4AA7-A06D-BEF300B3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A95E1C-8AC6-470B-8B12-C8B8DE78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D9FE89-7B68-4EAF-A00F-D7E3DBD0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6A69FA-E285-4640-8A3E-C97F1D91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B7619D-67F7-4F44-8F76-29170E71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3EC384-A552-4380-AAA6-E70C003F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2D8D0D-F3EC-4B8D-8004-0D95AA8C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DC2BB-E3CE-4DA5-82C3-72B89041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C38231-ABA4-445B-A943-63E1E1C0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9BD2C3-2DBD-4E41-8477-C98FFE85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F2E6D3-23A8-4527-8AA2-6BC59286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1F67C6-5634-4A80-AB28-52585C21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61AF78-7420-497D-B9BA-7486CCAD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81CD84-81BA-4FA0-950B-6949AE36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05373D-CABB-4BEB-B81D-A7943759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12EA2B-10E2-4027-9A53-BA6E66A2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14D527-EC4E-4C10-A259-6708EFF8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944EDB-A185-4536-A719-555B8264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505FB-CD80-47F5-8B53-52A2469F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F438BC-5331-4D9B-B4EC-6259A956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5240FD-0484-4574-A936-A77A6DA7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7A21B2-C849-4363-AB9E-13CEE70C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306E21-66B9-4F5D-9D12-3A291019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E1D1F5-CB8F-41F2-A3C3-BA6B327D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FFCAA9-DC48-405B-94C7-9EDC8E9E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F33804-7DCD-4543-8945-AB9DA23A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75DD27-F94C-4A6B-8EBB-2BE3CEEA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9A91E8-16B3-44B4-AA7A-B862896E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DC4CC-970F-4444-A36A-276E4512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797-265C-4B0F-A66B-546E50AF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CF37F-4D13-4F62-A958-18840F80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9A74D-23EF-4010-9A6C-FE20B2F7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4F742-6DA7-427B-A757-237BC848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FD8F-5AFB-418C-87F7-9C2CBE8D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81324-2156-4191-B550-535089B0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59785-2EA4-4C53-AC57-34D6B1C9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165FC-193B-46A3-8A47-3309E820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2988C-BA1F-43B1-8C8C-49F250D6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188D5-6EAC-4BF1-9B92-1691E183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E8133-B098-4C59-B321-8DCD4ED4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AA05-FB84-4BBB-BBBE-5C7C952F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24BF6-AD8A-48CD-AFD6-CB8E4C21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F10F5-1A33-4DF1-8CAA-3A743633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AF9B9-2F33-4591-BDCF-3D50A85D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ACCA0-2979-4B02-AF32-D954489F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19E8A-9218-43F4-B470-DE584F6C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D5840-DBBC-437A-85E7-05759031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5F890-575A-4673-A7F8-C932EA80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1929A-92B0-42CF-A7BE-5424A817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E42A9-62E7-4978-A389-F42EC597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1A8E0-C5AA-4FF2-B07B-D280CF2A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FA3-6E54-4C18-BFAC-74F5F269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4C74E-5961-4B45-8E9A-11B3BE87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F95D6-F92C-48F8-AEAA-4D44D86D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BEF45-6D50-4F6B-8303-3CE02B7D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16E48-4029-4BF6-A046-5418F3B1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0D228-B69A-4EC7-AF4E-EF026B64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09896-DCF6-46B1-8CA5-60312699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D24F6-270C-4006-9BCE-17798C06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CB726-7050-4A8F-A211-FD1001B6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2F7F8-75F6-46C6-BAFC-1FB8B800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0B0A4-5185-4EAF-AD81-121F24D2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E8C-F542-4F80-95AA-9985133F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41CC1-B5C0-45E0-8B51-C6DD75E5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FB456-9D1C-4CE4-A711-C5C3A799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BC172-209B-4EB8-A290-22987F62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69BAB-23D8-41E1-B584-60DEDCF7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8B9FE-6018-4B61-A0E6-D85FA123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A2DFA-02B3-4688-A3DF-CF09981F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00348-915E-4E97-A9E7-8F16BD8F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2A140-3823-456A-90EC-110EC5A6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2C70C-E049-4C0D-9412-E20C2872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C352D-8B7B-42F0-B31B-DE39AB9F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307-84BC-45CF-9446-A87E6529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91EF1-A073-435D-8EF6-4E05F2FE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288DC-96DA-420D-A2D0-BBB33612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67302-06F1-4FEC-B429-AFCD3ADF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3C9F0-FAED-4E09-9E75-4F74313E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5E8F9-51ED-421B-87C9-1A46C974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43BA8-CF86-474A-BC2A-B02F8C0D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B3FBD-D69A-41F7-9221-6589929F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5DE4A-A6D8-4EC4-B785-890D90BA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8A7B5-BEC0-49AB-8674-7AAC6BF0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1763F-1EC4-4A32-A47E-03B5B2C8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4C6-FAD7-4794-B5DE-71184FC9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6D554-8F92-4963-A77E-F5FB6EB2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DDA44-22BC-4DFC-8E5D-2577716B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7EB46-42A0-4215-85A3-F232FFE1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2255D-77E3-41A5-8624-2156F31C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D4D8C-63A9-45C0-A1F4-17370C32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F57A4-197E-4536-AFBE-C3661316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5413E-36BE-4F9B-B93E-91E68544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7A397-58F9-4D87-A534-444A26F7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7A6EE-0A4B-46BD-A14F-31A9AEFF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FB99B-B87F-453B-B020-ABE823B1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3AD-64B6-4FF1-AC7A-D1F1D7B6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82C87-A5C4-47C3-B944-728DB661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F1ED0-5250-4010-A224-BC663EF8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CE7B0-5293-4E27-9E73-D2D1FA1B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F40C8-2574-4468-B8DD-275485EC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DDF24-9858-4F3A-ADC5-CCF35624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3A233-DA04-451E-9F74-CC17D36A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A6C91-4C5C-4093-9004-55D2E299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FAE0E-B624-409B-B7A7-DEEFAB94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74FCA-F3C7-470F-9234-B3C81A44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9CE49-5FD8-4667-AA85-58A34E20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4978DB1-9868-4350-ADA1-95439C21A2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3"/>
          <p:cNvPicPr/>
          <p:nvPr/>
        </p:nvPicPr>
        <p:blipFill>
          <a:blip r:embed="rId3"/>
          <a:stretch/>
        </p:blipFill>
        <p:spPr>
          <a:xfrm>
            <a:off x="0" y="0"/>
            <a:ext cx="9001080" cy="683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6293BDCC-650D-479F-941D-8655B052C9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D88E429-9972-4E4D-B898-A8844C0074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DDA2F534-B40D-4B45-928F-548DBF54CC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4897EDB8-565C-4572-A532-0C9FF4EA4E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EC257B1-CD4B-45E3-BBF7-7E996EF21F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6B08C3FD-C21F-4E90-96E8-97C8395DE6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D944BBA0-9284-4E15-B088-5C58662789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E8F62BB4-4B9A-4BEC-BEF0-EC28743D2B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8312974-94F5-4FF3-9C44-A7ED522F47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4F82C73-3C1D-4EFF-BBEA-F520940E95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8FD105C5-F540-4881-88ED-F32DBB9AD8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3"/>
          <p:cNvPicPr/>
          <p:nvPr/>
        </p:nvPicPr>
        <p:blipFill>
          <a:blip r:embed="rId3"/>
          <a:stretch/>
        </p:blipFill>
        <p:spPr>
          <a:xfrm>
            <a:off x="0" y="0"/>
            <a:ext cx="9001080" cy="683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48892D9E-85C3-4AF0-A6C6-3C1181E30D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586C639-7279-4ADB-8951-751335198B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40C55A23-0853-4A89-933F-CED33A3320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E26537D-0593-404C-A207-4278F85E24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280552A-123C-4F52-BF76-4754E7E506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F6B5E204-EAEB-4E7C-8D82-31C09BBC20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C0017C24-D0E0-4DF3-848C-42E714CD6A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C63CAB3-37AF-4F00-973A-2D29D44179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8A385BA8-B1DD-4900-A151-2EF12E0019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54B07D9B-8D3E-46BF-AC56-411BFB82C8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DAA9CD63-BFEA-4154-BCDF-57C6FF3169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F7259BA-36BB-4D42-B7D1-DABDA37F0F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 Box 5"/>
          <p:cNvSpPr/>
          <p:nvPr/>
        </p:nvSpPr>
        <p:spPr>
          <a:xfrm>
            <a:off x="162000" y="2076480"/>
            <a:ext cx="871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一次函数与一元一次方程课件</a:t>
            </a:r>
            <a:r>
              <a:rPr b="1" lang="en-US" sz="4000" spc="-1" strike="noStrike">
                <a:solidFill>
                  <a:srgbClr val="ff00ff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6"/>
          <p:cNvSpPr/>
          <p:nvPr/>
        </p:nvSpPr>
        <p:spPr>
          <a:xfrm>
            <a:off x="2308680" y="3236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Picture 2" descr="ws_2EB"/>
          <p:cNvPicPr/>
          <p:nvPr/>
        </p:nvPicPr>
        <p:blipFill>
          <a:blip r:embed="rId2"/>
          <a:stretch/>
        </p:blipFill>
        <p:spPr>
          <a:xfrm>
            <a:off x="673200" y="711360"/>
            <a:ext cx="3073320" cy="63468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3" descr="ws_2EC"/>
          <p:cNvPicPr/>
          <p:nvPr/>
        </p:nvPicPr>
        <p:blipFill>
          <a:blip r:embed="rId3"/>
          <a:stretch/>
        </p:blipFill>
        <p:spPr>
          <a:xfrm>
            <a:off x="4127400" y="4191120"/>
            <a:ext cx="1282680" cy="1498320"/>
          </a:xfrm>
          <a:prstGeom prst="rect">
            <a:avLst/>
          </a:prstGeom>
          <a:ln w="0">
            <a:noFill/>
          </a:ln>
        </p:spPr>
      </p:pic>
      <p:sp>
        <p:nvSpPr>
          <p:cNvPr id="991" name="Text Box 4"/>
          <p:cNvSpPr/>
          <p:nvPr/>
        </p:nvSpPr>
        <p:spPr>
          <a:xfrm>
            <a:off x="2775240" y="1527120"/>
            <a:ext cx="837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方正黑体_GBK"/>
              </a:rPr>
              <a:t>一次函数与一元一次方程的联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5"/>
          <p:cNvSpPr/>
          <p:nvPr/>
        </p:nvSpPr>
        <p:spPr>
          <a:xfrm>
            <a:off x="1400760" y="2070000"/>
            <a:ext cx="616104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探究：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如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求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轴的交点，可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得到一元一次方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解得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即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点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因此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就是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轴的交点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49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坐标，也是一元一次方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解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6"/>
          <p:cNvSpPr/>
          <p:nvPr/>
        </p:nvSpPr>
        <p:spPr>
          <a:xfrm>
            <a:off x="4542840" y="5875200"/>
            <a:ext cx="448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7"/>
          <p:cNvSpPr/>
          <p:nvPr/>
        </p:nvSpPr>
        <p:spPr>
          <a:xfrm>
            <a:off x="960120" y="2556000"/>
            <a:ext cx="5659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8"/>
          <p:cNvSpPr/>
          <p:nvPr/>
        </p:nvSpPr>
        <p:spPr>
          <a:xfrm>
            <a:off x="6560280" y="2584440"/>
            <a:ext cx="7333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9"/>
          <p:cNvSpPr/>
          <p:nvPr/>
        </p:nvSpPr>
        <p:spPr>
          <a:xfrm>
            <a:off x="1392120" y="3103560"/>
            <a:ext cx="8388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,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0"/>
          <p:cNvSpPr/>
          <p:nvPr/>
        </p:nvSpPr>
        <p:spPr>
          <a:xfrm>
            <a:off x="1026000" y="3664080"/>
            <a:ext cx="1684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11"/>
          <p:cNvSpPr/>
          <p:nvPr/>
        </p:nvSpPr>
        <p:spPr>
          <a:xfrm>
            <a:off x="4764960" y="3649680"/>
            <a:ext cx="11476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文本框 8199"/>
          <p:cNvSpPr/>
          <p:nvPr/>
        </p:nvSpPr>
        <p:spPr>
          <a:xfrm>
            <a:off x="2232000" y="96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Text Box 2"/>
          <p:cNvSpPr/>
          <p:nvPr/>
        </p:nvSpPr>
        <p:spPr>
          <a:xfrm>
            <a:off x="1677240" y="1665360"/>
            <a:ext cx="5732280" cy="35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归纳：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元一次方程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(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≠0)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解是一次函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35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≠0)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象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轴交点的横坐标，反过来，一次函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2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≠0)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象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的交点的横坐标是一元一次方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2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≠0)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解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12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元一次方程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已知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解，就是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2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交点的横坐标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2308680" y="3236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2" descr="ws_2ED"/>
          <p:cNvPicPr/>
          <p:nvPr/>
        </p:nvPicPr>
        <p:blipFill>
          <a:blip r:embed="rId2"/>
          <a:stretch/>
        </p:blipFill>
        <p:spPr>
          <a:xfrm>
            <a:off x="673200" y="711360"/>
            <a:ext cx="2781360" cy="63468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3" descr="ws_2EE"/>
          <p:cNvPicPr/>
          <p:nvPr/>
        </p:nvPicPr>
        <p:blipFill>
          <a:blip r:embed="rId3"/>
          <a:stretch/>
        </p:blipFill>
        <p:spPr>
          <a:xfrm>
            <a:off x="2019240" y="1666800"/>
            <a:ext cx="1400400" cy="4572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4" descr="ws_2EF"/>
          <p:cNvPicPr/>
          <p:nvPr/>
        </p:nvPicPr>
        <p:blipFill>
          <a:blip r:embed="rId4"/>
          <a:stretch/>
        </p:blipFill>
        <p:spPr>
          <a:xfrm>
            <a:off x="6248520" y="3936960"/>
            <a:ext cx="1828800" cy="179064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5"/>
          <p:cNvSpPr/>
          <p:nvPr/>
        </p:nvSpPr>
        <p:spPr>
          <a:xfrm>
            <a:off x="1413720" y="4413240"/>
            <a:ext cx="437976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263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函数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6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图象如图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从函数图象上看，直线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与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交点坐标是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2,0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所以方程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"/>
          <p:cNvSpPr/>
          <p:nvPr/>
        </p:nvSpPr>
        <p:spPr>
          <a:xfrm>
            <a:off x="909000" y="5999040"/>
            <a:ext cx="9439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是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7"/>
          <p:cNvSpPr/>
          <p:nvPr/>
        </p:nvSpPr>
        <p:spPr>
          <a:xfrm>
            <a:off x="6957360" y="5938920"/>
            <a:ext cx="448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图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8"/>
          <p:cNvSpPr/>
          <p:nvPr/>
        </p:nvSpPr>
        <p:spPr>
          <a:xfrm>
            <a:off x="1620000" y="1814400"/>
            <a:ext cx="626256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一次函数与一元一次方程的关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例题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画出函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图象，并根据图象回答方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49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解是什么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85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思路导引：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程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解就是函数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图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交点的横坐标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2" descr="ws_2F0"/>
          <p:cNvPicPr/>
          <p:nvPr/>
        </p:nvPicPr>
        <p:blipFill>
          <a:blip r:embed="rId2"/>
          <a:stretch/>
        </p:blipFill>
        <p:spPr>
          <a:xfrm>
            <a:off x="673200" y="711360"/>
            <a:ext cx="1676160" cy="4316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3" descr="ws_2F1"/>
          <p:cNvPicPr/>
          <p:nvPr/>
        </p:nvPicPr>
        <p:blipFill>
          <a:blip r:embed="rId3"/>
          <a:stretch/>
        </p:blipFill>
        <p:spPr>
          <a:xfrm>
            <a:off x="4152960" y="3174840"/>
            <a:ext cx="1206360" cy="1651320"/>
          </a:xfrm>
          <a:prstGeom prst="rect">
            <a:avLst/>
          </a:prstGeom>
          <a:ln w="0">
            <a:noFill/>
          </a:ln>
        </p:spPr>
      </p:pic>
      <p:sp>
        <p:nvSpPr>
          <p:cNvPr id="1011" name="Text Box 4"/>
          <p:cNvSpPr/>
          <p:nvPr/>
        </p:nvSpPr>
        <p:spPr>
          <a:xfrm>
            <a:off x="4560120" y="1332000"/>
            <a:ext cx="541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2050200" y="1792440"/>
            <a:ext cx="5126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(3,0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4758840" y="1763640"/>
            <a:ext cx="893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(0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，－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7"/>
          <p:cNvSpPr/>
          <p:nvPr/>
        </p:nvSpPr>
        <p:spPr>
          <a:xfrm>
            <a:off x="682560" y="1360440"/>
            <a:ext cx="75614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．方程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的解是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则函数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62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轴交于点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与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轴交于点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8"/>
          <p:cNvSpPr/>
          <p:nvPr/>
        </p:nvSpPr>
        <p:spPr>
          <a:xfrm>
            <a:off x="1862280" y="2238480"/>
            <a:ext cx="54021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62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．如图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已知一次函数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的图象如图，当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73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求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的值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9"/>
          <p:cNvSpPr/>
          <p:nvPr/>
        </p:nvSpPr>
        <p:spPr>
          <a:xfrm>
            <a:off x="4268520" y="4968720"/>
            <a:ext cx="4287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10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0"/>
          <p:cNvSpPr/>
          <p:nvPr/>
        </p:nvSpPr>
        <p:spPr>
          <a:xfrm>
            <a:off x="1450800" y="5506920"/>
            <a:ext cx="6182280" cy="8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73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由图象可知 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时，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，也就是解方程 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，得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73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2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60080" y="189000"/>
            <a:ext cx="8078760" cy="5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106200" y="1266480"/>
            <a:ext cx="8786880" cy="52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7"/>
          <p:cNvSpPr/>
          <p:nvPr/>
        </p:nvSpPr>
        <p:spPr>
          <a:xfrm>
            <a:off x="7170840" y="331920"/>
            <a:ext cx="13683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360" bIns="45360" anchor="ctr">
            <a:noAutofit/>
          </a:bodyPr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灯片编号占位符 1"/>
          <p:cNvSpPr/>
          <p:nvPr/>
        </p:nvSpPr>
        <p:spPr>
          <a:xfrm>
            <a:off x="64501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5A70A745-AD23-4734-9B7C-31359C1990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8:15:15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35:54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e803000000000001024120</vt:lpwstr>
  </property>
</Properties>
</file>