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85B4-525D-4A26-941D-0BD8CF9A2B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5736-5046-4EB1-85C5-4357A8CCF3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826920" y="795240"/>
            <a:ext cx="46674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新魏"/>
              </a:rPr>
              <a:t>教科版四年级科学上册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0" name="WordArt 3" descr=""/>
          <p:cNvPicPr/>
          <p:nvPr/>
        </p:nvPicPr>
        <p:blipFill>
          <a:blip r:embed="rId1"/>
          <a:stretch/>
        </p:blipFill>
        <p:spPr>
          <a:xfrm>
            <a:off x="1319040" y="2265480"/>
            <a:ext cx="6631200" cy="2236680"/>
          </a:xfrm>
          <a:prstGeom prst="rect">
            <a:avLst/>
          </a:prstGeom>
          <a:ln w="0">
            <a:noFill/>
          </a:ln>
        </p:spPr>
      </p:pic>
      <p:sp>
        <p:nvSpPr>
          <p:cNvPr id="81" name="矩形 3"/>
          <p:cNvSpPr/>
          <p:nvPr/>
        </p:nvSpPr>
        <p:spPr>
          <a:xfrm>
            <a:off x="2244960" y="58644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情况下人体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吸进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呼出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气体成分的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1039680"/>
          <a:ext cx="9144000" cy="3975120"/>
        </p:xfrm>
        <a:graphic>
          <a:graphicData uri="http://schemas.openxmlformats.org/drawingml/2006/table">
            <a:tbl>
              <a:tblPr/>
              <a:tblGrid>
                <a:gridCol w="2590920"/>
                <a:gridCol w="1218960"/>
                <a:gridCol w="1371600"/>
                <a:gridCol w="1981440"/>
                <a:gridCol w="1981080"/>
              </a:tblGrid>
              <a:tr h="993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气    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氮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氧化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他气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吸进人体的空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57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呼出体外的气体（一次呼吸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Text Box 29"/>
          <p:cNvSpPr/>
          <p:nvPr/>
        </p:nvSpPr>
        <p:spPr>
          <a:xfrm>
            <a:off x="3635280" y="45831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少了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%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5219640" y="45831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多了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.97%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7162920" y="458316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多了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.03%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1295280" y="2971800"/>
            <a:ext cx="228600" cy="762120"/>
          </a:xfrm>
          <a:prstGeom prst="downArrow">
            <a:avLst>
              <a:gd name="adj1" fmla="val 50000"/>
              <a:gd name="adj2" fmla="val 8333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5087880"/>
          <a:ext cx="9144000" cy="1008000"/>
        </p:xfrm>
        <a:graphic>
          <a:graphicData uri="http://schemas.openxmlformats.org/drawingml/2006/table">
            <a:tbl>
              <a:tblPr/>
              <a:tblGrid>
                <a:gridCol w="2556000"/>
                <a:gridCol w="1295280"/>
                <a:gridCol w="1297080"/>
                <a:gridCol w="2016000"/>
                <a:gridCol w="197964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反复呼吸的气体（多次呼吸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47"/>
          <p:cNvSpPr/>
          <p:nvPr/>
        </p:nvSpPr>
        <p:spPr>
          <a:xfrm>
            <a:off x="2819520" y="533412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3962520" y="53341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少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533412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多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7391520" y="5334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增加一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fill="hold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219320" y="510552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人的呼吸实际上是在进行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气体交换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，把氧气吸收，将二氧化碳等其他气体排出体外的过程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105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762120" y="1523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运动后呼吸的次数就会增加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609480" y="3124080"/>
            <a:ext cx="7696080" cy="2666880"/>
            <a:chOff x="609480" y="3124080"/>
            <a:chExt cx="7696080" cy="2666880"/>
          </a:xfrm>
        </p:grpSpPr>
        <p:sp>
          <p:nvSpPr>
            <p:cNvPr id="145" name="Text Box 4"/>
            <p:cNvSpPr/>
            <p:nvPr/>
          </p:nvSpPr>
          <p:spPr>
            <a:xfrm>
              <a:off x="685800" y="3657600"/>
              <a:ext cx="72388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人体运动的过程中，需要消耗大量氧气，所以呼吸的次数要比平时多，呼出和吸入气体的数量也比平时多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609480" y="3124080"/>
              <a:ext cx="7696080" cy="2666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文本框 2"/>
          <p:cNvSpPr/>
          <p:nvPr/>
        </p:nvSpPr>
        <p:spPr>
          <a:xfrm>
            <a:off x="895320" y="5932440"/>
            <a:ext cx="55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测肺活量的装置"/>
          <p:cNvPicPr/>
          <p:nvPr/>
        </p:nvPicPr>
        <p:blipFill>
          <a:blip r:embed="rId1"/>
          <a:stretch/>
        </p:blipFill>
        <p:spPr>
          <a:xfrm>
            <a:off x="0" y="5335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5105160" y="762120"/>
            <a:ext cx="37335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一次尽力吸气后，再尽力呼出的气体总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越大呼吸能力越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会增大我们的肺活量，获得更多的氧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0"/>
            <a:ext cx="4952880" cy="581400"/>
          </a:xfrm>
          <a:prstGeom prst="rect">
            <a:avLst/>
          </a:prstGeom>
          <a:solidFill>
            <a:srgbClr val="ffff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肺   活   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905120" y="1905120"/>
            <a:ext cx="48006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6000"/>
                    </a:srgbClr>
                  </a:outerShdw>
                </a:effectLst>
                <a:latin typeface="华文行楷"/>
              </a:rPr>
              <a:t>谢谢！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6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97FD-DB16-4008-811C-063E5FEF3C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539640" y="1413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次测量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平静时一分钟的呼吸次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39640" y="2851920"/>
            <a:ext cx="757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次测量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运动后一分钟的呼吸次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11280" y="42195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比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两个数据，说说发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测量一分钟呼吸的次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Kiss - Kiss The Rain - 雨的印记 Rain.mp3" descr=""/>
          <p:cNvPicPr/>
          <p:nvPr/>
        </p:nvPicPr>
        <p:blipFill>
          <a:blip r:embed="rId1"/>
          <a:stretch/>
        </p:blipFill>
        <p:spPr>
          <a:xfrm>
            <a:off x="8388360" y="162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Crazy Frog - Jingle Bells.mp3" descr=""/>
          <p:cNvPicPr/>
          <p:nvPr/>
        </p:nvPicPr>
        <p:blipFill>
          <a:blip r:embed="rId2"/>
          <a:stretch/>
        </p:blipFill>
        <p:spPr>
          <a:xfrm>
            <a:off x="8317080" y="306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45907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2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5215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34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eijing1"/>
          <p:cNvPicPr/>
          <p:nvPr/>
        </p:nvPicPr>
        <p:blipFill>
          <a:blip r:embed="rId1"/>
          <a:stretch/>
        </p:blipFill>
        <p:spPr>
          <a:xfrm>
            <a:off x="6781680" y="509760"/>
            <a:ext cx="2127240" cy="3071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468360" y="2205000"/>
            <a:ext cx="66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我们每时每刻都在进行着呼吸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3357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伴随运动量的增加，每分钟呼吸的次数也会增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886200" cy="3508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143000" y="5257080"/>
            <a:ext cx="20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呼吸演示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4267080" y="1219320"/>
            <a:ext cx="4495680" cy="4711680"/>
            <a:chOff x="4267080" y="1219320"/>
            <a:chExt cx="4495680" cy="4711680"/>
          </a:xfrm>
        </p:grpSpPr>
        <p:sp>
          <p:nvSpPr>
            <p:cNvPr id="94" name="Text Box 5"/>
            <p:cNvSpPr/>
            <p:nvPr/>
          </p:nvSpPr>
          <p:spPr>
            <a:xfrm>
              <a:off x="4876560" y="5410440"/>
              <a:ext cx="1828800" cy="520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呼吸器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6" descr="半身图"/>
            <p:cNvPicPr/>
            <p:nvPr/>
          </p:nvPicPr>
          <p:blipFill>
            <a:blip r:embed="rId2"/>
            <a:stretch/>
          </p:blipFill>
          <p:spPr>
            <a:xfrm>
              <a:off x="4267080" y="1219320"/>
              <a:ext cx="3443400" cy="388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Group 7"/>
            <p:cNvGrpSpPr/>
            <p:nvPr/>
          </p:nvGrpSpPr>
          <p:grpSpPr>
            <a:xfrm>
              <a:off x="6172200" y="1524240"/>
              <a:ext cx="2531520" cy="520560"/>
              <a:chOff x="6172200" y="1524240"/>
              <a:chExt cx="2531520" cy="520560"/>
            </a:xfrm>
          </p:grpSpPr>
          <p:sp>
            <p:nvSpPr>
              <p:cNvPr id="97" name="Text Box 8"/>
              <p:cNvSpPr/>
              <p:nvPr/>
            </p:nvSpPr>
            <p:spPr>
              <a:xfrm>
                <a:off x="6743520" y="1524240"/>
                <a:ext cx="196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鼻腔 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qiā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6172200" y="1722600"/>
                <a:ext cx="571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0"/>
            <p:cNvGrpSpPr/>
            <p:nvPr/>
          </p:nvGrpSpPr>
          <p:grpSpPr>
            <a:xfrm>
              <a:off x="5814720" y="2376720"/>
              <a:ext cx="2795760" cy="520560"/>
              <a:chOff x="5814720" y="2376720"/>
              <a:chExt cx="2795760" cy="520560"/>
            </a:xfrm>
          </p:grpSpPr>
          <p:sp>
            <p:nvSpPr>
              <p:cNvPr id="100" name="Text Box 11"/>
              <p:cNvSpPr/>
              <p:nvPr/>
            </p:nvSpPr>
            <p:spPr>
              <a:xfrm>
                <a:off x="7111800" y="2376720"/>
                <a:ext cx="14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气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2"/>
              <p:cNvSpPr/>
              <p:nvPr/>
            </p:nvSpPr>
            <p:spPr>
              <a:xfrm>
                <a:off x="5814720" y="2667240"/>
                <a:ext cx="134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3"/>
            <p:cNvGrpSpPr/>
            <p:nvPr/>
          </p:nvGrpSpPr>
          <p:grpSpPr>
            <a:xfrm>
              <a:off x="5790960" y="3062520"/>
              <a:ext cx="2941560" cy="520560"/>
              <a:chOff x="5790960" y="3062520"/>
              <a:chExt cx="2941560" cy="520560"/>
            </a:xfrm>
          </p:grpSpPr>
          <p:sp>
            <p:nvSpPr>
              <p:cNvPr id="103" name="Text Box 14"/>
              <p:cNvSpPr/>
              <p:nvPr/>
            </p:nvSpPr>
            <p:spPr>
              <a:xfrm>
                <a:off x="7338600" y="3062520"/>
                <a:ext cx="1393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支气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5"/>
              <p:cNvSpPr/>
              <p:nvPr/>
            </p:nvSpPr>
            <p:spPr>
              <a:xfrm>
                <a:off x="5790960" y="3353040"/>
                <a:ext cx="1569960" cy="14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6324480" y="3657600"/>
              <a:ext cx="2438280" cy="581400"/>
              <a:chOff x="6324480" y="3657600"/>
              <a:chExt cx="2438280" cy="581400"/>
            </a:xfrm>
          </p:grpSpPr>
          <p:sp>
            <p:nvSpPr>
              <p:cNvPr id="106" name="Text Box 17"/>
              <p:cNvSpPr/>
              <p:nvPr/>
            </p:nvSpPr>
            <p:spPr>
              <a:xfrm>
                <a:off x="7451640" y="3657600"/>
                <a:ext cx="1311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肺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fè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6324480" y="3962520"/>
                <a:ext cx="114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360" y="1701720"/>
            <a:ext cx="820764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吸进去的气体和呼出的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气体成分一样吗</a:t>
            </a:r>
            <a:r>
              <a:rPr b="1" lang="en-US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523880" y="1768320"/>
            <a:ext cx="6248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验活动：反复呼吸同一袋空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装一袋空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袋口封住嘴巴和鼻子，反复呼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觉得难受就停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袋里的空气拧紧不要让它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634760" y="1523880"/>
            <a:ext cx="2959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气体发生了什么变化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533520" y="27432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科学原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火柴燃烧需要氧气。当氧气不足或没有时，燃烧的火柴就会熄灭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09480" y="44956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实验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收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一般的空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反复呼吸后的空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一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把点燃的火柴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别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伸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体中，盖上毛玻璃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仔细观察现象，分析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临时用"/>
          <p:cNvPicPr/>
          <p:nvPr/>
        </p:nvPicPr>
        <p:blipFill>
          <a:blip r:embed="rId1"/>
          <a:stretch/>
        </p:blipFill>
        <p:spPr>
          <a:xfrm>
            <a:off x="5562720" y="533520"/>
            <a:ext cx="3276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3"/>
          <p:cNvSpPr/>
          <p:nvPr/>
        </p:nvSpPr>
        <p:spPr>
          <a:xfrm>
            <a:off x="471600" y="192096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s1"/>
          <p:cNvPicPr/>
          <p:nvPr/>
        </p:nvPicPr>
        <p:blipFill>
          <a:blip r:embed="rId1"/>
          <a:stretch/>
        </p:blipFill>
        <p:spPr>
          <a:xfrm>
            <a:off x="304920" y="838080"/>
            <a:ext cx="2361960" cy="192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s3"/>
          <p:cNvPicPr/>
          <p:nvPr/>
        </p:nvPicPr>
        <p:blipFill>
          <a:blip r:embed="rId2"/>
          <a:stretch/>
        </p:blipFill>
        <p:spPr>
          <a:xfrm>
            <a:off x="3352680" y="838080"/>
            <a:ext cx="2438640" cy="1905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s5"/>
          <p:cNvPicPr/>
          <p:nvPr/>
        </p:nvPicPr>
        <p:blipFill>
          <a:blip r:embed="rId3"/>
          <a:stretch/>
        </p:blipFill>
        <p:spPr>
          <a:xfrm>
            <a:off x="6477120" y="838080"/>
            <a:ext cx="2361960" cy="190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s6"/>
          <p:cNvPicPr/>
          <p:nvPr/>
        </p:nvPicPr>
        <p:blipFill>
          <a:blip r:embed="rId4"/>
          <a:stretch/>
        </p:blipFill>
        <p:spPr>
          <a:xfrm>
            <a:off x="838080" y="388620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s7"/>
          <p:cNvPicPr/>
          <p:nvPr/>
        </p:nvPicPr>
        <p:blipFill>
          <a:blip r:embed="rId5"/>
          <a:stretch/>
        </p:blipFill>
        <p:spPr>
          <a:xfrm>
            <a:off x="5562720" y="3809880"/>
            <a:ext cx="1885680" cy="2514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排 水 集 气 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762120" y="2863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灌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124080" y="28195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口朝下，轻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858000" y="2743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收集气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28600" y="5943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水中盖上玻璃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267080" y="4572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拿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634760" y="1523880"/>
            <a:ext cx="2959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气体发生了什么变化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533520" y="27432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科学原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火柴燃烧需要氧气。当氧气不足或没有时，燃烧的火柴就会熄灭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09480" y="44956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实验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收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一般的空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反复呼吸后的空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一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把点燃的火柴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别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伸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体中，盖上毛玻璃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仔细观察现象，分析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临时用"/>
          <p:cNvPicPr/>
          <p:nvPr/>
        </p:nvPicPr>
        <p:blipFill>
          <a:blip r:embed="rId1"/>
          <a:stretch/>
        </p:blipFill>
        <p:spPr>
          <a:xfrm>
            <a:off x="5562720" y="533520"/>
            <a:ext cx="3276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07:09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1:17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