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038-FAD4-43CE-B817-F946C7CA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E97-1742-4893-8BD3-F146D600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C7A-1809-44B7-9081-753C3641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CF0-B7B2-486C-95CB-E8A02ECC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9AD-50E6-43C4-96E9-B054ACEF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A96-78DF-4015-AEA6-D7B87B5A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287-CA68-479D-9BE6-84474603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F10-0152-48C8-94B6-EA3349E6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62F-3FB4-41C6-BC42-69F0FFEE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DDB-5AC8-450B-AEB7-7A8D53B7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057-8CC1-40E3-9683-4BFC5593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8E5-7589-4AED-86C9-563996E4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8A81-717A-45C9-9FC9-838C762E6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F:\ppt\703c\人教版四年级语文上册《雅鲁藏布大峡谷》PPT课件\u=3926481212,177904890&amp;fm=56.jpg"/>
          <p:cNvPicPr/>
          <p:nvPr/>
        </p:nvPicPr>
        <p:blipFill>
          <a:blip r:embed="rId16"/>
          <a:srcRect l="0" t="0" r="1752" b="5123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990720" y="990720"/>
            <a:ext cx="7391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雅鲁藏布大峡谷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2391480" y="59799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0" y="380880"/>
            <a:ext cx="4952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美誉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71600" y="310824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马蹄形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286000" y="380880"/>
            <a:ext cx="4952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固态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0" y="3108240"/>
            <a:ext cx="4952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呈现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286000" y="380880"/>
            <a:ext cx="4952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秘密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86000" y="3108240"/>
            <a:ext cx="4952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秘鲁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205740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皑皑白雪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205740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凌空展开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0960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238480" y="762120"/>
            <a:ext cx="5209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玛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码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脉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泳（       ）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稻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960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38480" y="762120"/>
            <a:ext cx="5209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玛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码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脉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泳（       ）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稻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046400" y="7621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珠穆朗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386240" y="1660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砝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24400" y="257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山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348080" y="3489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游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348080" y="4419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348080" y="5318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水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根据意思选择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112716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不允许提出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形容姿态多种多样，各不相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很少有人去的荒僻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514600" y="20574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不容置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514600" y="3870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千姿百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514600" y="562284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人迹罕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DB08-DB2D-45E5-AEF9-92EABED101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图片"/>
          <p:cNvPicPr/>
          <p:nvPr/>
        </p:nvPicPr>
        <p:blipFill>
          <a:blip r:embed="rId1"/>
          <a:stretch/>
        </p:blipFill>
        <p:spPr>
          <a:xfrm>
            <a:off x="0" y="0"/>
            <a:ext cx="4653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800600" y="1295280"/>
            <a:ext cx="419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cc0066"/>
                </a:solidFill>
                <a:latin typeface="黑体"/>
                <a:ea typeface="黑体"/>
              </a:rPr>
              <a:t>有关雅鲁藏布大峡谷你都知道些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457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800000"/>
                </a:solidFill>
                <a:latin typeface="Arial"/>
              </a:rPr>
              <a:t>雅鲁藏布大峡谷是世界上最长的河流峡谷。在大峡谷，高等植物有</a:t>
            </a: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3700</a:t>
            </a:r>
            <a:r>
              <a:rPr b="1" lang="zh-CN" sz="5400" spc="-1" strike="noStrike">
                <a:solidFill>
                  <a:srgbClr val="800000"/>
                </a:solidFill>
                <a:latin typeface="Arial"/>
              </a:rPr>
              <a:t>种，昆虫也多达</a:t>
            </a: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2000</a:t>
            </a:r>
            <a:r>
              <a:rPr b="1" lang="zh-CN" sz="5400" spc="-1" strike="noStrike">
                <a:solidFill>
                  <a:srgbClr val="800000"/>
                </a:solidFill>
                <a:latin typeface="Arial"/>
              </a:rPr>
              <a:t>多种。大峡谷的核心区不仅瀑布成群，而且彩虹往往伴着瀑布，美得令人着迷。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05740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cc0066"/>
                </a:solidFill>
                <a:latin typeface="黑体"/>
                <a:ea typeface="黑体"/>
              </a:rPr>
              <a:t>珠穆朗玛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203040" y="59832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205740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涓涓细流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205740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滔滔江水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05740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人迹罕至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86000" y="380880"/>
            <a:ext cx="4952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山脉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0" y="3108240"/>
            <a:ext cx="4952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花卉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86000" y="380880"/>
            <a:ext cx="4952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咫尺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0" y="3108240"/>
            <a:ext cx="4952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cc0066"/>
                </a:solidFill>
                <a:latin typeface="黑体"/>
                <a:ea typeface="黑体"/>
              </a:rPr>
              <a:t>堪称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35:22Z</dcterms:modified>
  <cp:revision>1</cp:revision>
  <dc:subject/>
  <dc:title>幻灯片 1</dc:title>
</cp:coreProperties>
</file>