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28.png" ContentType="image/png"/>
  <Override PartName="/ppt/media/image5.jpeg" ContentType="image/jpeg"/>
  <Override PartName="/ppt/media/image26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F655-17FB-4F9A-AC55-8539572FF8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6FDAD-D37F-4BA2-A487-38547CAF46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0C5-E145-494A-8D25-44F6FDA18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BEF9-6C68-49C1-BE1A-507E6E9A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9A5-AB45-4A17-96D6-3C816F171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186-05CC-4CBC-A12F-F4C4EF85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ED25-E9AB-40C5-B8F5-ADCF4F171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6C9E-2F25-4BD9-B5CF-52AA1334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A147-9588-450D-8B8B-E22DADEB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DACD-4D1D-4F38-9859-AB34D502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6D84-B604-4F11-AE33-B40E04AE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59E2-E3CA-4BC4-B6DE-9A15800CF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056D-956F-4D53-80AC-D10034DF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658-1C2B-4DA2-BF0A-4FA8734C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81BB-5ABB-4FB1-B582-31FE786AC37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6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6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5"/>
          <p:cNvSpPr/>
          <p:nvPr/>
        </p:nvSpPr>
        <p:spPr>
          <a:xfrm>
            <a:off x="1008000" y="189216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越来越宽的信息之路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863640" y="749160"/>
            <a:ext cx="42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第二十一章　信息的传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3" descr=""/>
          <p:cNvPicPr/>
          <p:nvPr/>
        </p:nvPicPr>
        <p:blipFill>
          <a:blip r:embed="rId2"/>
          <a:stretch/>
        </p:blipFill>
        <p:spPr>
          <a:xfrm>
            <a:off x="1685880" y="2924280"/>
            <a:ext cx="5869080" cy="3368520"/>
          </a:xfrm>
          <a:prstGeom prst="rect">
            <a:avLst/>
          </a:prstGeom>
          <a:ln w="0">
            <a:noFill/>
          </a:ln>
        </p:spPr>
      </p:pic>
      <p:sp>
        <p:nvSpPr>
          <p:cNvPr id="51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201008243032b2c9d3d7425cbd181e9760d09237"/>
          <p:cNvPicPr/>
          <p:nvPr/>
        </p:nvPicPr>
        <p:blipFill>
          <a:blip r:embed="rId1"/>
          <a:stretch/>
        </p:blipFill>
        <p:spPr>
          <a:xfrm>
            <a:off x="1187280" y="1736640"/>
            <a:ext cx="7093080" cy="430056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4" name="Rectangle 2"/>
          <p:cNvSpPr/>
          <p:nvPr/>
        </p:nvSpPr>
        <p:spPr>
          <a:xfrm>
            <a:off x="431640" y="754200"/>
            <a:ext cx="53787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北斗卫星导航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2268360" y="1341360"/>
            <a:ext cx="4311720" cy="524520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Rectangle 2"/>
          <p:cNvSpPr/>
          <p:nvPr/>
        </p:nvSpPr>
        <p:spPr>
          <a:xfrm>
            <a:off x="431640" y="754200"/>
            <a:ext cx="537876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国北斗卫星导航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8194"/>
          <p:cNvSpPr/>
          <p:nvPr/>
        </p:nvSpPr>
        <p:spPr>
          <a:xfrm>
            <a:off x="1373040" y="3412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tech.southcn.com/t/images/attachement/jpg/site4/20091013/0021279f9e100c3e2ecd05.jpg"/>
          <p:cNvPicPr/>
          <p:nvPr/>
        </p:nvPicPr>
        <p:blipFill>
          <a:blip r:embed="rId1"/>
          <a:stretch/>
        </p:blipFill>
        <p:spPr>
          <a:xfrm>
            <a:off x="647640" y="1521000"/>
            <a:ext cx="3962520" cy="38160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5076720" y="1450080"/>
            <a:ext cx="3456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光是比微波频率高得多的电磁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3924360" y="3648960"/>
            <a:ext cx="47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光通信的“高速公路”更宽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1079640" y="5414400"/>
            <a:ext cx="74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利用频率单一、方向高度集中的激光进行通信，效果很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95" name="矩形 4"/>
          <p:cNvSpPr/>
          <p:nvPr/>
        </p:nvSpPr>
        <p:spPr>
          <a:xfrm>
            <a:off x="1562040" y="411120"/>
            <a:ext cx="3664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三、光纤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431640" y="723960"/>
            <a:ext cx="804420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纤通讯技术是近几十年才发展起来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2843280" y="1268280"/>
            <a:ext cx="51847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6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华裔物理学家高锟首次利用无线电波导通信的原理，提出了低损耗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 db/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的光导纤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简称光纤）的概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美国康宁公司首次研制成功损耗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0 db/k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石英光纤，它是一种理想的传输介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贝尔实验室研制成功室温下连续振荡的半导体激光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。从此，开始了光纤通信迅速发展的时代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0" descr="光纤007"/>
          <p:cNvPicPr/>
          <p:nvPr/>
        </p:nvPicPr>
        <p:blipFill>
          <a:blip r:embed="rId1"/>
          <a:stretch/>
        </p:blipFill>
        <p:spPr>
          <a:xfrm>
            <a:off x="395280" y="2060640"/>
            <a:ext cx="1886040" cy="252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3" descr="0366_da"/>
          <p:cNvPicPr/>
          <p:nvPr/>
        </p:nvPicPr>
        <p:blipFill>
          <a:blip r:embed="rId1"/>
          <a:stretch/>
        </p:blipFill>
        <p:spPr>
          <a:xfrm>
            <a:off x="5003640" y="1305000"/>
            <a:ext cx="3375360" cy="230328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1" name="Rectangle 2"/>
          <p:cNvSpPr/>
          <p:nvPr/>
        </p:nvSpPr>
        <p:spPr>
          <a:xfrm>
            <a:off x="431640" y="748440"/>
            <a:ext cx="36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各种光导纤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9" descr="56855-0l"/>
          <p:cNvPicPr/>
          <p:nvPr/>
        </p:nvPicPr>
        <p:blipFill>
          <a:blip r:embed="rId2"/>
          <a:stretch/>
        </p:blipFill>
        <p:spPr>
          <a:xfrm>
            <a:off x="934920" y="1268280"/>
            <a:ext cx="3179880" cy="231480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3" name="Picture 21" descr="20070802112301777"/>
          <p:cNvPicPr/>
          <p:nvPr/>
        </p:nvPicPr>
        <p:blipFill>
          <a:blip r:embed="rId3"/>
          <a:stretch/>
        </p:blipFill>
        <p:spPr>
          <a:xfrm>
            <a:off x="934920" y="4076640"/>
            <a:ext cx="3273480" cy="223200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4" name="Picture 6" descr="untitled"/>
          <p:cNvPicPr/>
          <p:nvPr/>
        </p:nvPicPr>
        <p:blipFill>
          <a:blip r:embed="rId4"/>
          <a:stretch/>
        </p:blipFill>
        <p:spPr>
          <a:xfrm>
            <a:off x="5111640" y="4076640"/>
            <a:ext cx="3348000" cy="231480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05" name="Picture 9" descr="E:\李燃\教师教学用书\2012人教教师用书项目\ppt\物理\图标.png"/>
          <p:cNvPicPr/>
          <p:nvPr/>
        </p:nvPicPr>
        <p:blipFill>
          <a:blip r:embed="rId5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E:\教科研、论文资料\人教版教学参考编制\21图\21图\21-4-6.jpg"/>
          <p:cNvPicPr/>
          <p:nvPr/>
        </p:nvPicPr>
        <p:blipFill>
          <a:blip r:embed="rId1"/>
          <a:stretch/>
        </p:blipFill>
        <p:spPr>
          <a:xfrm>
            <a:off x="2124000" y="1449360"/>
            <a:ext cx="4678560" cy="43340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2592360" y="5864760"/>
            <a:ext cx="372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光沿着水流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84360" y="65736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验演示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可以沿着水流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E:\教科研、论文资料\人教版教学参考编制\21图\21图\21-4-7.jpg"/>
          <p:cNvPicPr/>
          <p:nvPr/>
        </p:nvPicPr>
        <p:blipFill>
          <a:blip r:embed="rId1"/>
          <a:stretch/>
        </p:blipFill>
        <p:spPr>
          <a:xfrm>
            <a:off x="611280" y="981000"/>
            <a:ext cx="3200400" cy="3092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E:\教科研、论文资料\人教版教学参考编制\21图\21图\21-4-8.jpg"/>
          <p:cNvPicPr/>
          <p:nvPr/>
        </p:nvPicPr>
        <p:blipFill>
          <a:blip r:embed="rId2"/>
          <a:stretch/>
        </p:blipFill>
        <p:spPr>
          <a:xfrm>
            <a:off x="3816360" y="3933720"/>
            <a:ext cx="4986360" cy="200052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1295280" y="41727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光导纤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4464000" y="2997360"/>
            <a:ext cx="39974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光在光导纤维中的传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431640" y="748440"/>
            <a:ext cx="46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光纤通信的优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31640" y="1268280"/>
            <a:ext cx="810108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　　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1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）传输频带极宽，通信容量很大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　　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2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）光纤衰减小，无中继设备，传输距离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　　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3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）频率稳定，信号传输质量高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　　（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4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Arial"/>
              </a:rPr>
              <a:t>）光纤抗电磁干扰，保密性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8194"/>
          <p:cNvSpPr/>
          <p:nvPr/>
        </p:nvSpPr>
        <p:spPr>
          <a:xfrm>
            <a:off x="1490760" y="4230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31640" y="5229360"/>
            <a:ext cx="810108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计算机可以高速处理各种信息，把计算机联在一起，可以进行网络通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http://sc.websbook.com/sc/upimg/allimg/080202/websbook_1058394.jpg"/>
          <p:cNvPicPr/>
          <p:nvPr/>
        </p:nvPicPr>
        <p:blipFill>
          <a:blip r:embed="rId1"/>
          <a:stretch/>
        </p:blipFill>
        <p:spPr>
          <a:xfrm>
            <a:off x="4172040" y="806400"/>
            <a:ext cx="1911240" cy="16448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122" name="矩形 4"/>
          <p:cNvSpPr/>
          <p:nvPr/>
        </p:nvSpPr>
        <p:spPr>
          <a:xfrm>
            <a:off x="431640" y="411120"/>
            <a:ext cx="309564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四、网络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3"/>
          <a:stretch/>
        </p:blipFill>
        <p:spPr>
          <a:xfrm>
            <a:off x="792000" y="2421000"/>
            <a:ext cx="756144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31640" y="121140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通过因特网可以收发电子邮件，看到不断更新的新闻，查到所需的各种资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431640" y="5070240"/>
            <a:ext cx="817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随着通信技术的发展，现在已经可以在很短的时间内传送越来越大的信息量，信息传送的速度甚至能够满足电视等活动画面的需要，我们已经可以轻松地在网上看电视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http://blog.donews.com/chuangshiji/files/2012/12/%E7%89%A9%E8%81%94%E7%BD%91%E6%84%BF%E6%99%AF%E7%9A%84%E5%8F%A6%E4%B8%80%E9%9D%A2%EF%BC%9A%E4%BA%92%E8%81%94%E7%BD%91%E6%97%A5%E7%9B%8A%E9%9A%94%E7%A6%BB%E5%8C%96.jpg"/>
          <p:cNvPicPr/>
          <p:nvPr/>
        </p:nvPicPr>
        <p:blipFill>
          <a:blip r:embed="rId1"/>
          <a:stretch/>
        </p:blipFill>
        <p:spPr>
          <a:xfrm>
            <a:off x="4751280" y="2097000"/>
            <a:ext cx="3600720" cy="2700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http://2b.zol-img.com.cn/product/103/771/cet3Yf4l6KwY2.jpg"/>
          <p:cNvPicPr/>
          <p:nvPr/>
        </p:nvPicPr>
        <p:blipFill>
          <a:blip r:embed="rId2"/>
          <a:stretch/>
        </p:blipFill>
        <p:spPr>
          <a:xfrm>
            <a:off x="1150920" y="2349360"/>
            <a:ext cx="2724120" cy="2533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31640" y="795240"/>
            <a:ext cx="813780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钟内，放电影比讲故事所包含的信息量更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431640" y="5481720"/>
            <a:ext cx="817272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相同时间内，电视广播比电台广播能传递更多的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3" descr=""/>
          <p:cNvPicPr/>
          <p:nvPr/>
        </p:nvPicPr>
        <p:blipFill>
          <a:blip r:embed="rId1"/>
          <a:stretch/>
        </p:blipFill>
        <p:spPr>
          <a:xfrm>
            <a:off x="4500720" y="2060640"/>
            <a:ext cx="4178160" cy="313668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5" name="Picture 14" descr="112122f2c958d2b60a4928f8ff2e0984"/>
          <p:cNvPicPr/>
          <p:nvPr/>
        </p:nvPicPr>
        <p:blipFill>
          <a:blip r:embed="rId2"/>
          <a:stretch/>
        </p:blipFill>
        <p:spPr>
          <a:xfrm>
            <a:off x="287280" y="2097000"/>
            <a:ext cx="3925800" cy="3084480"/>
          </a:xfrm>
          <a:prstGeom prst="rect">
            <a:avLst/>
          </a:prstGeom>
          <a:ln w="1908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56" name="Picture 9" descr="E:\李燃\教师教学用书\2012人教教师用书项目\ppt\物理\图标.png"/>
          <p:cNvPicPr/>
          <p:nvPr/>
        </p:nvPicPr>
        <p:blipFill>
          <a:blip r:embed="rId3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7"/>
          <p:cNvSpPr/>
          <p:nvPr/>
        </p:nvSpPr>
        <p:spPr>
          <a:xfrm>
            <a:off x="460440" y="1766880"/>
            <a:ext cx="8143920" cy="123876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磁波频率越高，相同时间内传输的信息就越多。通信频率越来越高，信息之路越来越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458640" y="4105440"/>
            <a:ext cx="8188560" cy="671400"/>
          </a:xfrm>
          <a:prstGeom prst="roundRect">
            <a:avLst>
              <a:gd name="adj" fmla="val 16667"/>
            </a:avLst>
          </a:prstGeom>
          <a:solidFill>
            <a:srgbClr val="ffdb93"/>
          </a:solidFill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　　微波通信、卫星通信、光纤通信、网络通信。</a:t>
            </a:r>
            <a:r>
              <a:rPr b="1" lang="en-US" sz="2800" spc="-1" strike="noStrike">
                <a:solidFill>
                  <a:srgbClr val="cc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grpSp>
        <p:nvGrpSpPr>
          <p:cNvPr id="132" name="Group 6"/>
          <p:cNvGrpSpPr/>
          <p:nvPr/>
        </p:nvGrpSpPr>
        <p:grpSpPr>
          <a:xfrm>
            <a:off x="431640" y="347760"/>
            <a:ext cx="2789280" cy="920520"/>
            <a:chOff x="431640" y="347760"/>
            <a:chExt cx="2789280" cy="920520"/>
          </a:xfrm>
        </p:grpSpPr>
        <p:pic>
          <p:nvPicPr>
            <p:cNvPr id="133" name="圆角矩形 1" descr=""/>
            <p:cNvPicPr/>
            <p:nvPr/>
          </p:nvPicPr>
          <p:blipFill>
            <a:blip r:embed="rId2"/>
            <a:stretch/>
          </p:blipFill>
          <p:spPr>
            <a:xfrm>
              <a:off x="431640" y="347760"/>
              <a:ext cx="2789280" cy="92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 Box 8"/>
            <p:cNvSpPr/>
            <p:nvPr/>
          </p:nvSpPr>
          <p:spPr>
            <a:xfrm>
              <a:off x="504720" y="514440"/>
              <a:ext cx="26463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课堂小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6344-F7B9-4BDD-8BB4-3F9D4D036A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431640" y="1268280"/>
            <a:ext cx="8244000" cy="25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信息理论表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作为载体的电磁波，频率越高，相同时间内传输的信息就越多。</a:t>
            </a:r>
            <a:r>
              <a:rPr b="1" lang="zh-CN" sz="800" spc="-1" strike="noStrike">
                <a:solidFill>
                  <a:srgbClr val="ffffff"/>
                </a:solidFill>
                <a:latin typeface="宋体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E:\李燃\教师教学用书\2012人教教师用书项目\ppt\物理\图标.png"/>
          <p:cNvPicPr/>
          <p:nvPr/>
        </p:nvPicPr>
        <p:blipFill>
          <a:blip r:embed="rId1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527040" y="1848600"/>
            <a:ext cx="35766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波信号的波长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 m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m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792000" y="3716280"/>
            <a:ext cx="3672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微波信号的频率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0 MHz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5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MH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之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4859280" y="1521000"/>
            <a:ext cx="3462480" cy="4608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63" name="矩形 4"/>
          <p:cNvSpPr/>
          <p:nvPr/>
        </p:nvSpPr>
        <p:spPr>
          <a:xfrm>
            <a:off x="431640" y="411120"/>
            <a:ext cx="2953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一、微波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E:\教科研、论文资料\人教版教学参考编制\21图\21图\21-4-1.jpg"/>
          <p:cNvPicPr/>
          <p:nvPr/>
        </p:nvPicPr>
        <p:blipFill>
          <a:blip r:embed="rId1"/>
          <a:stretch/>
        </p:blipFill>
        <p:spPr>
          <a:xfrm>
            <a:off x="1104840" y="1117440"/>
            <a:ext cx="6367680" cy="4507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431640" y="781200"/>
            <a:ext cx="5378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波几乎沿直线传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664000" y="5337000"/>
            <a:ext cx="282384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f497d"/>
                </a:solidFill>
                <a:latin typeface="宋体"/>
              </a:rPr>
              <a:t>微波中继通信示意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E:\教科研、论文资料\人教版教学参考编制\21图\21图\21-4-2.jpg"/>
          <p:cNvPicPr/>
          <p:nvPr/>
        </p:nvPicPr>
        <p:blipFill>
          <a:blip r:embed="rId1"/>
          <a:stretch/>
        </p:blipFill>
        <p:spPr>
          <a:xfrm>
            <a:off x="527040" y="1873080"/>
            <a:ext cx="5076720" cy="44802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2"/>
          <p:cNvSpPr/>
          <p:nvPr/>
        </p:nvSpPr>
        <p:spPr>
          <a:xfrm>
            <a:off x="5651640" y="2097000"/>
            <a:ext cx="328284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答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太远，不方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5759280" y="3860640"/>
            <a:ext cx="316872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决方案：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人造卫星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431640" y="753120"/>
            <a:ext cx="7334280" cy="10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cc"/>
                </a:solidFill>
                <a:latin typeface="宋体"/>
              </a:rPr>
              <a:t>　　能否用月亮做中继站，实现微波通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http://a0.att.hudong.com/41/74/01300000350394125130745128960.jpg"/>
          <p:cNvPicPr/>
          <p:nvPr/>
        </p:nvPicPr>
        <p:blipFill>
          <a:blip r:embed="rId1"/>
          <a:stretch/>
        </p:blipFill>
        <p:spPr>
          <a:xfrm>
            <a:off x="1692360" y="2205000"/>
            <a:ext cx="5156280" cy="3984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"/>
          <p:cNvSpPr/>
          <p:nvPr/>
        </p:nvSpPr>
        <p:spPr>
          <a:xfrm>
            <a:off x="684360" y="1412280"/>
            <a:ext cx="78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信卫星大多相对地球“静止”——同步卫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  <p:sp>
        <p:nvSpPr>
          <p:cNvPr id="76" name="矩形 4"/>
          <p:cNvSpPr/>
          <p:nvPr/>
        </p:nvSpPr>
        <p:spPr>
          <a:xfrm>
            <a:off x="431640" y="411120"/>
            <a:ext cx="2953080" cy="5814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二、卫星通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E:\教科研、论文资料\人教版教学参考编制\21图\21图\21-4-4.jpg"/>
          <p:cNvPicPr/>
          <p:nvPr/>
        </p:nvPicPr>
        <p:blipFill>
          <a:blip r:embed="rId1"/>
          <a:stretch/>
        </p:blipFill>
        <p:spPr>
          <a:xfrm>
            <a:off x="1727280" y="1844640"/>
            <a:ext cx="5310000" cy="46227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"/>
          <p:cNvSpPr/>
          <p:nvPr/>
        </p:nvSpPr>
        <p:spPr>
          <a:xfrm>
            <a:off x="934920" y="76428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颗同步卫星可以实现全球通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E:\教科研、论文资料\人教版教学参考编制\21图\21图\21-4-3.jpg"/>
          <p:cNvPicPr/>
          <p:nvPr/>
        </p:nvPicPr>
        <p:blipFill>
          <a:blip r:embed="rId1"/>
          <a:stretch/>
        </p:blipFill>
        <p:spPr>
          <a:xfrm>
            <a:off x="1403280" y="1557360"/>
            <a:ext cx="6300720" cy="45576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2"/>
          <p:cNvSpPr/>
          <p:nvPr/>
        </p:nvSpPr>
        <p:spPr>
          <a:xfrm>
            <a:off x="1116000" y="595440"/>
            <a:ext cx="6877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用碟形天线（大锅）接收来自卫星的信号</a:t>
            </a:r>
            <a:r>
              <a:rPr b="1" lang="zh-CN" sz="800" spc="-1" strike="noStrike">
                <a:solidFill>
                  <a:srgbClr val="ffffff"/>
                </a:solidFill>
                <a:latin typeface="Arial"/>
              </a:rPr>
              <a:t>学科网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E:\李燃\教师教学用书\2012人教教师用书项目\ppt\物理\图标.png"/>
          <p:cNvPicPr/>
          <p:nvPr/>
        </p:nvPicPr>
        <p:blipFill>
          <a:blip r:embed="rId2"/>
          <a:stretch/>
        </p:blipFill>
        <p:spPr>
          <a:xfrm>
            <a:off x="8143920" y="142920"/>
            <a:ext cx="88272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10:47Z</dcterms:modified>
  <cp:revision>38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