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460C-C118-4956-8C76-A9011BE53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C36-E4FF-4B43-B015-2D656C38A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CE4-306C-4F95-A279-6A2AC59E7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B99B-CB2C-4949-9195-54352EB89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 rot="3600000">
            <a:off x="335520" y="1100880"/>
            <a:ext cx="2376360" cy="214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52480" y="2057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三角形的内角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19440" y="64515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45720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这里，为了证明的需要，在原来的图形上添画的线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辅助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在平面几何里，辅助线通常画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虚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33520" y="3809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为了证明三个角的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仿宋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转化为一个平角或同旁内角互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这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转化思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是数学中的常用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2438640" cy="762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66ff33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思路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04920" y="14619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口答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下列各组角是同一个三角形的内角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</a:rPr>
              <a:t>为什么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14400" y="3778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60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4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9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1440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6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5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90720" y="2254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15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</a:rPr>
              <a:t>27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553080" y="2254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400800" y="3778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477120" y="5530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828800" cy="63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752480" y="4815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62120" y="9856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=3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=43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:∠B:∠C=2:3: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 B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∠ 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609480" y="359568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直角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钝角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至少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锐角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任意一个三角形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的一个角的度数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2666880" y="16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02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7010280" y="29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8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876920" y="289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6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895480" y="2890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219320" y="5958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48909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4724280" y="4205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724280" y="3519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502920"/>
            <a:ext cx="198108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应用新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28800" y="19051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0" y="4876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472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482920" y="380880"/>
            <a:ext cx="6356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在直角三角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∠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90°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由三角形内角和定力，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∠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°=18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∠B= 90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82880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8"/>
          <p:cNvSpPr/>
          <p:nvPr/>
        </p:nvSpPr>
        <p:spPr>
          <a:xfrm flipH="1">
            <a:off x="304920" y="2362320"/>
            <a:ext cx="175248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2057400" y="236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304920" y="4876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905120" y="4724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1905120" y="4724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438280" y="487692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也就是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直角三角形的两个锐角互余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三角形内角和定理可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两个角互余的三角形是直角三角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04920" y="28954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直角三角形可以用符号“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表示，直角三角形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也可以写成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t△ABC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243080" y="990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8800" y="541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881440" y="5338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482920" y="380880"/>
            <a:ext cx="635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已知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∠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=2∠A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边上的高，求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617040" y="1219320"/>
            <a:ext cx="2735640" cy="4176720"/>
            <a:chOff x="617040" y="1219320"/>
            <a:chExt cx="2735640" cy="4176720"/>
          </a:xfrm>
        </p:grpSpPr>
        <p:grpSp>
          <p:nvGrpSpPr>
            <p:cNvPr id="243" name="Group 7"/>
            <p:cNvGrpSpPr/>
            <p:nvPr/>
          </p:nvGrpSpPr>
          <p:grpSpPr>
            <a:xfrm>
              <a:off x="617040" y="1219320"/>
              <a:ext cx="2735640" cy="4176720"/>
              <a:chOff x="617040" y="1219320"/>
              <a:chExt cx="2735640" cy="4176720"/>
            </a:xfrm>
          </p:grpSpPr>
          <p:grpSp>
            <p:nvGrpSpPr>
              <p:cNvPr id="244" name="Group 8"/>
              <p:cNvGrpSpPr/>
              <p:nvPr/>
            </p:nvGrpSpPr>
            <p:grpSpPr>
              <a:xfrm>
                <a:off x="617040" y="1219320"/>
                <a:ext cx="2521440" cy="4176720"/>
                <a:chOff x="617040" y="1219320"/>
                <a:chExt cx="2521440" cy="4176720"/>
              </a:xfrm>
            </p:grpSpPr>
            <p:grpSp>
              <p:nvGrpSpPr>
                <p:cNvPr id="245" name="Group 9"/>
                <p:cNvGrpSpPr/>
                <p:nvPr/>
              </p:nvGrpSpPr>
              <p:grpSpPr>
                <a:xfrm>
                  <a:off x="617040" y="1219320"/>
                  <a:ext cx="2521440" cy="4176720"/>
                  <a:chOff x="617040" y="1219320"/>
                  <a:chExt cx="2521440" cy="4176720"/>
                </a:xfrm>
              </p:grpSpPr>
              <p:sp>
                <p:nvSpPr>
                  <p:cNvPr id="246" name="Line 10"/>
                  <p:cNvSpPr/>
                  <p:nvPr/>
                </p:nvSpPr>
                <p:spPr>
                  <a:xfrm flipH="1">
                    <a:off x="617040" y="1219320"/>
                    <a:ext cx="107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Line 11"/>
                  <p:cNvSpPr/>
                  <p:nvPr/>
                </p:nvSpPr>
                <p:spPr>
                  <a:xfrm>
                    <a:off x="1697040" y="1219320"/>
                    <a:ext cx="143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12"/>
                  <p:cNvSpPr/>
                  <p:nvPr/>
                </p:nvSpPr>
                <p:spPr>
                  <a:xfrm>
                    <a:off x="617400" y="5396040"/>
                    <a:ext cx="2521080" cy="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Line 13"/>
                <p:cNvSpPr/>
                <p:nvPr/>
              </p:nvSpPr>
              <p:spPr>
                <a:xfrm flipV="1">
                  <a:off x="617400" y="4388040"/>
                  <a:ext cx="2158920" cy="1008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Text Box 14"/>
              <p:cNvSpPr/>
              <p:nvPr/>
            </p:nvSpPr>
            <p:spPr>
              <a:xfrm>
                <a:off x="2920680" y="39564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Line 15"/>
            <p:cNvSpPr/>
            <p:nvPr/>
          </p:nvSpPr>
          <p:spPr>
            <a:xfrm>
              <a:off x="2560320" y="4530960"/>
              <a:ext cx="73080" cy="217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V="1">
              <a:off x="2633400" y="4674960"/>
              <a:ext cx="216000" cy="7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17"/>
          <p:cNvSpPr/>
          <p:nvPr/>
        </p:nvSpPr>
        <p:spPr>
          <a:xfrm>
            <a:off x="2362320" y="1676520"/>
            <a:ext cx="64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解：设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则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362320" y="230040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5334120" y="2286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564000" y="28954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解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4125960" y="3429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×3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555480" y="5653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643200" y="4191120"/>
            <a:ext cx="55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，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三角形高的定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457200" y="611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25"/>
          <p:cNvSpPr/>
          <p:nvPr/>
        </p:nvSpPr>
        <p:spPr>
          <a:xfrm>
            <a:off x="1038240" y="5194440"/>
            <a:ext cx="7128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1254240" y="49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182880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33520" y="45576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。求下面各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57200" y="182880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∠D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 ∠E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CA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722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572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(2)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</a:rPr>
              <a:t>从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</a:rPr>
              <a:t>岛看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</a:rPr>
              <a:t>两岛的视角∠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</a:rPr>
              <a:t>是多少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66688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4800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2057400" y="22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80880" y="350532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1"/>
          <p:cNvGrpSpPr/>
          <p:nvPr/>
        </p:nvGrpSpPr>
        <p:grpSpPr>
          <a:xfrm>
            <a:off x="6095880" y="1218960"/>
            <a:ext cx="2743200" cy="1904760"/>
            <a:chOff x="6095880" y="1218960"/>
            <a:chExt cx="2743200" cy="1904760"/>
          </a:xfrm>
        </p:grpSpPr>
        <p:sp>
          <p:nvSpPr>
            <p:cNvPr id="273" name="Line 12"/>
            <p:cNvSpPr/>
            <p:nvPr/>
          </p:nvSpPr>
          <p:spPr>
            <a:xfrm flipH="1">
              <a:off x="6552720" y="1904760"/>
              <a:ext cx="1143000" cy="1218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 flipV="1">
              <a:off x="6553080" y="2590200"/>
              <a:ext cx="167652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 flipV="1">
              <a:off x="6553080" y="1828440"/>
              <a:ext cx="0" cy="12186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 flipV="1">
              <a:off x="8229600" y="1218960"/>
              <a:ext cx="0" cy="13712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6553080" y="1523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82296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7238880" y="1600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19"/>
            <p:cNvSpPr/>
            <p:nvPr/>
          </p:nvSpPr>
          <p:spPr>
            <a:xfrm>
              <a:off x="79246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0"/>
            <p:cNvSpPr/>
            <p:nvPr/>
          </p:nvSpPr>
          <p:spPr>
            <a:xfrm>
              <a:off x="7696080" y="1904760"/>
              <a:ext cx="533520" cy="68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1"/>
            <p:cNvSpPr/>
            <p:nvPr/>
          </p:nvSpPr>
          <p:spPr>
            <a:xfrm>
              <a:off x="6095880" y="14475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Text Box 22"/>
          <p:cNvSpPr/>
          <p:nvPr/>
        </p:nvSpPr>
        <p:spPr>
          <a:xfrm>
            <a:off x="8229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4572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457200" y="4038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5"/>
          <p:cNvSpPr/>
          <p:nvPr/>
        </p:nvSpPr>
        <p:spPr>
          <a:xfrm>
            <a:off x="457200" y="396252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352680" y="3290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∴ 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DAB﹢∠AB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762120" y="3809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   ∴ 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</a:rPr>
              <a:t>ABE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华文中宋"/>
              </a:rPr>
              <a:t>＝ 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180°</a:t>
            </a:r>
            <a:r>
              <a:rPr b="0" lang="zh-CN" sz="2800" spc="-1" strike="noStrike">
                <a:solidFill>
                  <a:srgbClr val="3333cc"/>
                </a:solidFill>
                <a:latin typeface="华文中宋"/>
              </a:rPr>
              <a:t>－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D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8"/>
          <p:cNvSpPr/>
          <p:nvPr/>
        </p:nvSpPr>
        <p:spPr>
          <a:xfrm>
            <a:off x="266688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80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80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380880" y="5562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∠C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80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－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AB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－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0"/>
          <p:cNvSpPr/>
          <p:nvPr/>
        </p:nvSpPr>
        <p:spPr>
          <a:xfrm>
            <a:off x="3048120" y="601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80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30 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60 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>
            <a:off x="1219320" y="4648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BE﹣∠C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4876920" y="2209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3062520" y="510552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0°﹣40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05720" y="502920"/>
            <a:ext cx="182880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 flipH="1">
            <a:off x="6197400" y="1371600"/>
            <a:ext cx="120636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"/>
          <p:cNvSpPr/>
          <p:nvPr/>
        </p:nvSpPr>
        <p:spPr>
          <a:xfrm flipV="1">
            <a:off x="6197760" y="2057400"/>
            <a:ext cx="17697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"/>
          <p:cNvSpPr/>
          <p:nvPr/>
        </p:nvSpPr>
        <p:spPr>
          <a:xfrm flipH="1" flipV="1">
            <a:off x="6171840" y="837720"/>
            <a:ext cx="2556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"/>
          <p:cNvSpPr/>
          <p:nvPr/>
        </p:nvSpPr>
        <p:spPr>
          <a:xfrm flipV="1">
            <a:off x="7967520" y="685800"/>
            <a:ext cx="0" cy="13716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095880" y="609480"/>
            <a:ext cx="8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7010280" y="99072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7620120" y="6094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7404120" y="1371600"/>
            <a:ext cx="563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715000" y="6094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58672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rc 12"/>
          <p:cNvSpPr/>
          <p:nvPr/>
        </p:nvSpPr>
        <p:spPr>
          <a:xfrm>
            <a:off x="6248520" y="2362320"/>
            <a:ext cx="75960" cy="75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617220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rc 14"/>
          <p:cNvSpPr/>
          <p:nvPr/>
        </p:nvSpPr>
        <p:spPr>
          <a:xfrm flipH="1">
            <a:off x="7771680" y="175248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6172200" y="137160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 flipH="1" rot="16504800">
            <a:off x="6066000" y="1324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77724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75438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792468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5638680" y="1219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8077320" y="1143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60948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中宋"/>
              </a:rPr>
              <a:t>在△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AMC</a:t>
            </a:r>
            <a:r>
              <a:rPr b="0" lang="zh-CN" sz="2800" spc="-1" strike="noStrike">
                <a:solidFill>
                  <a:srgbClr val="3333cc"/>
                </a:solidFill>
                <a:latin typeface="华文中宋"/>
              </a:rPr>
              <a:t>中   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AMC=90°, ∠MAC=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304920" y="18730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解：过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画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MN⊥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分别交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BE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于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rc 25"/>
          <p:cNvSpPr/>
          <p:nvPr/>
        </p:nvSpPr>
        <p:spPr>
          <a:xfrm flipH="1" flipV="1">
            <a:off x="7085880" y="1370880"/>
            <a:ext cx="15228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67816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rc 27"/>
          <p:cNvSpPr/>
          <p:nvPr/>
        </p:nvSpPr>
        <p:spPr>
          <a:xfrm flipH="1">
            <a:off x="7467480" y="137160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rc 28"/>
          <p:cNvSpPr/>
          <p:nvPr/>
        </p:nvSpPr>
        <p:spPr>
          <a:xfrm flipV="1">
            <a:off x="7543800" y="137088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7543800" y="1295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57200" y="533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1325520" y="3352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1=180 °-90°-50° =4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925920" y="3886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∵  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1032120" y="434340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∴ 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AMC+ ∠BNC =18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5"/>
          <p:cNvSpPr/>
          <p:nvPr/>
        </p:nvSpPr>
        <p:spPr>
          <a:xfrm>
            <a:off x="959040" y="487692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∴  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BNC =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6"/>
          <p:cNvSpPr/>
          <p:nvPr/>
        </p:nvSpPr>
        <p:spPr>
          <a:xfrm>
            <a:off x="3967200" y="487692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中宋"/>
              </a:rPr>
              <a:t>同理得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2 =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7"/>
          <p:cNvSpPr/>
          <p:nvPr/>
        </p:nvSpPr>
        <p:spPr>
          <a:xfrm>
            <a:off x="1056600" y="54100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∴ ∠</a:t>
            </a: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ACB =180 ° -∠1 -∠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2883960" y="594360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华文中宋"/>
              </a:rPr>
              <a:t>=180 °-40°-50° =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629040" y="5913360"/>
            <a:ext cx="198108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562720" y="3049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938320" y="1676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685800" y="533520"/>
            <a:ext cx="2573280" cy="2364480"/>
            <a:chOff x="685800" y="533520"/>
            <a:chExt cx="2573280" cy="2364480"/>
          </a:xfrm>
        </p:grpSpPr>
        <p:sp>
          <p:nvSpPr>
            <p:cNvPr id="335" name="Line 5"/>
            <p:cNvSpPr/>
            <p:nvPr/>
          </p:nvSpPr>
          <p:spPr>
            <a:xfrm flipH="1">
              <a:off x="1168200" y="1219320"/>
              <a:ext cx="120636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 flipV="1">
              <a:off x="1168560" y="1904760"/>
              <a:ext cx="17697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"/>
            <p:cNvSpPr/>
            <p:nvPr/>
          </p:nvSpPr>
          <p:spPr>
            <a:xfrm flipV="1">
              <a:off x="1168560" y="1142640"/>
              <a:ext cx="0" cy="1219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"/>
            <p:cNvSpPr/>
            <p:nvPr/>
          </p:nvSpPr>
          <p:spPr>
            <a:xfrm flipV="1">
              <a:off x="2938320" y="533520"/>
              <a:ext cx="0" cy="13716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168560" y="838080"/>
              <a:ext cx="8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1981080" y="838080"/>
              <a:ext cx="8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2616120" y="60948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>
              <a:off x="2374920" y="1219320"/>
              <a:ext cx="5634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685800" y="762120"/>
              <a:ext cx="11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838080" y="243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AutoShape 15"/>
          <p:cNvSpPr/>
          <p:nvPr/>
        </p:nvSpPr>
        <p:spPr>
          <a:xfrm>
            <a:off x="5181480" y="762120"/>
            <a:ext cx="3276720" cy="1752480"/>
          </a:xfrm>
          <a:prstGeom prst="cloudCallout">
            <a:avLst>
              <a:gd name="adj1" fmla="val -100583"/>
              <a:gd name="adj2" fmla="val 3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334120" y="990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你能想出一个更简捷的方法来求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的度数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2362320" y="1295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rc 18"/>
          <p:cNvSpPr/>
          <p:nvPr/>
        </p:nvSpPr>
        <p:spPr>
          <a:xfrm flipH="1" flipV="1">
            <a:off x="2133000" y="1447200"/>
            <a:ext cx="22860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19810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rc 20"/>
          <p:cNvSpPr/>
          <p:nvPr/>
        </p:nvSpPr>
        <p:spPr>
          <a:xfrm flipV="1">
            <a:off x="2362320" y="137088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362320" y="14479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rc 22"/>
          <p:cNvSpPr/>
          <p:nvPr/>
        </p:nvSpPr>
        <p:spPr>
          <a:xfrm>
            <a:off x="1219320" y="2209680"/>
            <a:ext cx="7596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1143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rc 24"/>
          <p:cNvSpPr/>
          <p:nvPr/>
        </p:nvSpPr>
        <p:spPr>
          <a:xfrm flipH="1">
            <a:off x="2742480" y="160020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25146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6"/>
          <p:cNvSpPr/>
          <p:nvPr/>
        </p:nvSpPr>
        <p:spPr>
          <a:xfrm>
            <a:off x="685800" y="31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解： 过点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画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F∥AD     ∴ ∠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DA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50 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251460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762120" y="3657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F∥AD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D ∥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60948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F∥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609480" y="47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∴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BE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∴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CB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﹢∠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50 °﹢ 40 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00440" y="6019560"/>
            <a:ext cx="205740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2"/>
          <p:cNvSpPr/>
          <p:nvPr/>
        </p:nvSpPr>
        <p:spPr>
          <a:xfrm>
            <a:off x="457200" y="27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解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A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  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AD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30 ° ∠D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20"/>
          <p:cNvGrpSpPr/>
          <p:nvPr/>
        </p:nvGrpSpPr>
        <p:grpSpPr>
          <a:xfrm>
            <a:off x="5715000" y="380880"/>
            <a:ext cx="3276720" cy="1907640"/>
            <a:chOff x="5715000" y="380880"/>
            <a:chExt cx="3276720" cy="1907640"/>
          </a:xfrm>
        </p:grpSpPr>
        <p:sp>
          <p:nvSpPr>
            <p:cNvPr id="365" name="Text Box 11"/>
            <p:cNvSpPr/>
            <p:nvPr/>
          </p:nvSpPr>
          <p:spPr>
            <a:xfrm>
              <a:off x="8153280" y="1676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19"/>
            <p:cNvGrpSpPr/>
            <p:nvPr/>
          </p:nvGrpSpPr>
          <p:grpSpPr>
            <a:xfrm>
              <a:off x="5715000" y="380880"/>
              <a:ext cx="3123720" cy="1907640"/>
              <a:chOff x="5715000" y="380880"/>
              <a:chExt cx="3123720" cy="1907640"/>
            </a:xfrm>
          </p:grpSpPr>
          <p:sp>
            <p:nvSpPr>
              <p:cNvPr id="367" name="Line 3"/>
              <p:cNvSpPr/>
              <p:nvPr/>
            </p:nvSpPr>
            <p:spPr>
              <a:xfrm flipH="1">
                <a:off x="6095880" y="609480"/>
                <a:ext cx="205704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4"/>
              <p:cNvSpPr/>
              <p:nvPr/>
            </p:nvSpPr>
            <p:spPr>
              <a:xfrm>
                <a:off x="6095880" y="182880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5"/>
              <p:cNvSpPr/>
              <p:nvPr/>
            </p:nvSpPr>
            <p:spPr>
              <a:xfrm>
                <a:off x="8153280" y="6094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7"/>
              <p:cNvSpPr/>
              <p:nvPr/>
            </p:nvSpPr>
            <p:spPr>
              <a:xfrm flipV="1">
                <a:off x="6933960" y="609120"/>
                <a:ext cx="121896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8"/>
              <p:cNvSpPr/>
              <p:nvPr/>
            </p:nvSpPr>
            <p:spPr>
              <a:xfrm>
                <a:off x="5715000" y="1752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9"/>
              <p:cNvSpPr/>
              <p:nvPr/>
            </p:nvSpPr>
            <p:spPr>
              <a:xfrm>
                <a:off x="6705360" y="18288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Text Box 10"/>
              <p:cNvSpPr/>
              <p:nvPr/>
            </p:nvSpPr>
            <p:spPr>
              <a:xfrm>
                <a:off x="8229240" y="3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13"/>
              <p:cNvSpPr/>
              <p:nvPr/>
            </p:nvSpPr>
            <p:spPr>
              <a:xfrm>
                <a:off x="8000640" y="167616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14"/>
              <p:cNvSpPr/>
              <p:nvPr/>
            </p:nvSpPr>
            <p:spPr>
              <a:xfrm>
                <a:off x="8000640" y="167616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Rectangle 15"/>
          <p:cNvSpPr/>
          <p:nvPr/>
        </p:nvSpPr>
        <p:spPr>
          <a:xfrm>
            <a:off x="1066680" y="3443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D =180 ° -30 ° -90 °=6 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1143000" y="39765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BD = 45 ° ∠D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0 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1143000" y="4815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CD = 180 °- 90°-45 °=45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1431720" y="5348160"/>
            <a:ext cx="62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B = ∠ACD - ∠BCD = 6 0 °- 45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22"/>
          <p:cNvSpPr/>
          <p:nvPr/>
        </p:nvSpPr>
        <p:spPr>
          <a:xfrm>
            <a:off x="7137360" y="16398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24"/>
          <p:cNvSpPr/>
          <p:nvPr/>
        </p:nvSpPr>
        <p:spPr>
          <a:xfrm>
            <a:off x="6400800" y="16542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0" y="6019560"/>
            <a:ext cx="1752480" cy="533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685800" y="638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处时仰角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A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30°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处时仰角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45°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两处时视角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C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2037960" y="17445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两边的夹角叫做三角形的内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58164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4"/>
          <p:cNvSpPr/>
          <p:nvPr/>
        </p:nvSpPr>
        <p:spPr>
          <a:xfrm>
            <a:off x="2786040" y="4614840"/>
            <a:ext cx="174600" cy="233280"/>
          </a:xfrm>
          <a:custGeom>
            <a:avLst/>
            <a:gdLst/>
            <a:ahLst/>
            <a:rect l="l" t="t" r="r" b="b"/>
            <a:pathLst>
              <a:path w="110" h="147">
                <a:moveTo>
                  <a:pt x="0" y="0"/>
                </a:moveTo>
                <a:cubicBezTo>
                  <a:pt x="75" y="10"/>
                  <a:pt x="80" y="1"/>
                  <a:pt x="101" y="64"/>
                </a:cubicBezTo>
                <a:cubicBezTo>
                  <a:pt x="110" y="141"/>
                  <a:pt x="110" y="113"/>
                  <a:pt x="110" y="14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5"/>
          <p:cNvSpPr/>
          <p:nvPr/>
        </p:nvSpPr>
        <p:spPr>
          <a:xfrm>
            <a:off x="2666880" y="4876920"/>
            <a:ext cx="30481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6"/>
          <p:cNvSpPr/>
          <p:nvPr/>
        </p:nvSpPr>
        <p:spPr>
          <a:xfrm flipV="1">
            <a:off x="2666880" y="3048120"/>
            <a:ext cx="990720" cy="1828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533520" y="580536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609480" y="102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某同学把一块三角形的玻璃打碎成三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现在他要到玻璃店去配一块形状完全一样的玻璃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那么最省事的办法是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286000" y="5638680"/>
            <a:ext cx="342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24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419360" cy="23097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5"/>
          <p:cNvSpPr/>
          <p:nvPr/>
        </p:nvSpPr>
        <p:spPr>
          <a:xfrm>
            <a:off x="1295280" y="4724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①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②去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③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①和②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487692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6960"/>
            <a:ext cx="167652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533520" y="114300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3.△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若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＋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则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锐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直角三角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钝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等腰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685800" y="37339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一个三角形至少有（          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一个锐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两个锐角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一个钝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一个直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7640640" y="11113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4821120" y="36576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175248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685800" y="457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如图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C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平分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CB,DE∥B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∠ADE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50°,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求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的度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19"/>
          <p:cNvGrpSpPr/>
          <p:nvPr/>
        </p:nvGrpSpPr>
        <p:grpSpPr>
          <a:xfrm>
            <a:off x="5562720" y="1905120"/>
            <a:ext cx="3504600" cy="2314440"/>
            <a:chOff x="5562720" y="1905120"/>
            <a:chExt cx="3504600" cy="2314440"/>
          </a:xfrm>
        </p:grpSpPr>
        <p:sp>
          <p:nvSpPr>
            <p:cNvPr id="397" name="AutoShape 6"/>
            <p:cNvSpPr/>
            <p:nvPr/>
          </p:nvSpPr>
          <p:spPr>
            <a:xfrm>
              <a:off x="5889240" y="2378160"/>
              <a:ext cx="2481120" cy="1390680"/>
            </a:xfrm>
            <a:prstGeom prst="triangle">
              <a:avLst>
                <a:gd name="adj" fmla="val 18750"/>
              </a:avLst>
            </a:prstGeom>
            <a:solidFill>
              <a:srgbClr val="ccffff"/>
            </a:solidFill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 flipH="1" flipV="1">
              <a:off x="6084360" y="3143160"/>
              <a:ext cx="2285640" cy="62532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6084720" y="3143520"/>
              <a:ext cx="1371240" cy="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171840" y="19051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5562720" y="3699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8283240" y="369900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5649840" y="2819520"/>
              <a:ext cx="52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7413480" y="2743560"/>
              <a:ext cx="5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699480" y="16081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720360" y="2133720"/>
            <a:ext cx="19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794160" y="2666880"/>
            <a:ext cx="37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=18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∠A-∠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300760" y="320040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-70°-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2087640" y="365760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423080" y="16002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//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1"/>
          <p:cNvSpPr/>
          <p:nvPr/>
        </p:nvSpPr>
        <p:spPr>
          <a:xfrm>
            <a:off x="3417840" y="1523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∠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922320" y="403848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分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Object 24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5029200" cy="89676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25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4572000" cy="42408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26" descr=""/>
          <p:cNvPicPr/>
          <p:nvPr/>
        </p:nvPicPr>
        <p:blipFill>
          <a:blip r:embed="rId3"/>
          <a:stretch/>
        </p:blipFill>
        <p:spPr>
          <a:xfrm>
            <a:off x="2057400" y="5562720"/>
            <a:ext cx="251460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81320" y="5867280"/>
            <a:ext cx="175284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Line 2"/>
          <p:cNvSpPr/>
          <p:nvPr/>
        </p:nvSpPr>
        <p:spPr>
          <a:xfrm flipH="1">
            <a:off x="8295840" y="6165720"/>
            <a:ext cx="289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4640400" y="6165720"/>
            <a:ext cx="43513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105520" y="2852640"/>
            <a:ext cx="382320" cy="331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 flipH="1">
            <a:off x="6640560" y="616572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8151840" y="3036960"/>
            <a:ext cx="382680" cy="31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4551120" y="6165720"/>
            <a:ext cx="4394880" cy="277920"/>
            <a:chOff x="4551120" y="6165720"/>
            <a:chExt cx="4394880" cy="277920"/>
          </a:xfrm>
        </p:grpSpPr>
        <p:sp>
          <p:nvSpPr>
            <p:cNvPr id="423" name="Line 8"/>
            <p:cNvSpPr/>
            <p:nvPr/>
          </p:nvSpPr>
          <p:spPr>
            <a:xfrm flipH="1">
              <a:off x="692856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 flipH="1">
              <a:off x="728892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 flipH="1">
              <a:off x="764964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1"/>
            <p:cNvSpPr/>
            <p:nvPr/>
          </p:nvSpPr>
          <p:spPr>
            <a:xfrm flipH="1">
              <a:off x="7936560" y="6165720"/>
              <a:ext cx="2890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Group 12"/>
            <p:cNvGrpSpPr/>
            <p:nvPr/>
          </p:nvGrpSpPr>
          <p:grpSpPr>
            <a:xfrm>
              <a:off x="4551120" y="6165720"/>
              <a:ext cx="4394880" cy="277920"/>
              <a:chOff x="4551120" y="6165720"/>
              <a:chExt cx="4394880" cy="277920"/>
            </a:xfrm>
          </p:grpSpPr>
          <p:sp>
            <p:nvSpPr>
              <p:cNvPr id="428" name="Line 13"/>
              <p:cNvSpPr/>
              <p:nvPr/>
            </p:nvSpPr>
            <p:spPr>
              <a:xfrm flipH="1">
                <a:off x="45511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 flipH="1">
                <a:off x="491148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 flipH="1">
                <a:off x="527184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 flipH="1">
                <a:off x="555984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592020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628056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 flipH="1">
                <a:off x="86569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Group 20"/>
          <p:cNvGrpSpPr/>
          <p:nvPr/>
        </p:nvGrpSpPr>
        <p:grpSpPr>
          <a:xfrm>
            <a:off x="5105520" y="2362320"/>
            <a:ext cx="3045960" cy="3803400"/>
            <a:chOff x="5105520" y="2362320"/>
            <a:chExt cx="3045960" cy="3803400"/>
          </a:xfrm>
        </p:grpSpPr>
        <p:sp>
          <p:nvSpPr>
            <p:cNvPr id="436" name="Line 21"/>
            <p:cNvSpPr/>
            <p:nvPr/>
          </p:nvSpPr>
          <p:spPr>
            <a:xfrm>
              <a:off x="5105520" y="2362320"/>
              <a:ext cx="3045960" cy="38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22"/>
            <p:cNvGrpSpPr/>
            <p:nvPr/>
          </p:nvGrpSpPr>
          <p:grpSpPr>
            <a:xfrm>
              <a:off x="6120720" y="3673440"/>
              <a:ext cx="362880" cy="392760"/>
              <a:chOff x="6120720" y="3673440"/>
              <a:chExt cx="362880" cy="392760"/>
            </a:xfrm>
          </p:grpSpPr>
          <p:sp>
            <p:nvSpPr>
              <p:cNvPr id="438" name="Line 23"/>
              <p:cNvSpPr/>
              <p:nvPr/>
            </p:nvSpPr>
            <p:spPr>
              <a:xfrm>
                <a:off x="6410160" y="3673440"/>
                <a:ext cx="73440" cy="39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 flipH="1" flipV="1">
                <a:off x="6120720" y="3934800"/>
                <a:ext cx="362520" cy="131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25"/>
          <p:cNvSpPr/>
          <p:nvPr/>
        </p:nvSpPr>
        <p:spPr>
          <a:xfrm>
            <a:off x="457200" y="988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甲楼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乙楼座落在甲楼的正北面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已知当地冬至中午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太阳光线与水平面夹角为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中宋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如果甲楼的影子刚好不落在乙楼上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那么两楼的距离应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4978440" y="3862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8077320" y="3862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8"/>
          <p:cNvSpPr/>
          <p:nvPr/>
        </p:nvSpPr>
        <p:spPr>
          <a:xfrm>
            <a:off x="467028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29"/>
          <p:cNvGrpSpPr/>
          <p:nvPr/>
        </p:nvGrpSpPr>
        <p:grpSpPr>
          <a:xfrm>
            <a:off x="4249800" y="2852280"/>
            <a:ext cx="1008000" cy="3313440"/>
            <a:chOff x="4249800" y="2852280"/>
            <a:chExt cx="1008000" cy="3313440"/>
          </a:xfrm>
        </p:grpSpPr>
        <p:sp>
          <p:nvSpPr>
            <p:cNvPr id="445" name="Line 30"/>
            <p:cNvSpPr/>
            <p:nvPr/>
          </p:nvSpPr>
          <p:spPr>
            <a:xfrm flipV="1">
              <a:off x="4826160" y="285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4826160" y="49417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32"/>
            <p:cNvSpPr/>
            <p:nvPr/>
          </p:nvSpPr>
          <p:spPr>
            <a:xfrm>
              <a:off x="4249800" y="4149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6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Arc 33"/>
          <p:cNvSpPr/>
          <p:nvPr/>
        </p:nvSpPr>
        <p:spPr>
          <a:xfrm flipH="1">
            <a:off x="7502400" y="5662440"/>
            <a:ext cx="21600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4"/>
          <p:cNvSpPr/>
          <p:nvPr/>
        </p:nvSpPr>
        <p:spPr>
          <a:xfrm>
            <a:off x="6783480" y="5662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35"/>
          <p:cNvGrpSpPr/>
          <p:nvPr/>
        </p:nvGrpSpPr>
        <p:grpSpPr>
          <a:xfrm>
            <a:off x="5486400" y="5734080"/>
            <a:ext cx="504720" cy="431640"/>
            <a:chOff x="5486400" y="5734080"/>
            <a:chExt cx="504720" cy="431640"/>
          </a:xfrm>
        </p:grpSpPr>
        <p:sp>
          <p:nvSpPr>
            <p:cNvPr id="451" name="Line 36"/>
            <p:cNvSpPr/>
            <p:nvPr/>
          </p:nvSpPr>
          <p:spPr>
            <a:xfrm>
              <a:off x="5486400" y="5734080"/>
              <a:ext cx="504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7"/>
            <p:cNvSpPr/>
            <p:nvPr/>
          </p:nvSpPr>
          <p:spPr>
            <a:xfrm>
              <a:off x="5991120" y="5734080"/>
              <a:ext cx="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Arc 38"/>
          <p:cNvSpPr/>
          <p:nvPr/>
        </p:nvSpPr>
        <p:spPr>
          <a:xfrm flipV="1">
            <a:off x="5486400" y="3342600"/>
            <a:ext cx="360360" cy="160200"/>
          </a:xfrm>
          <a:custGeom>
            <a:avLst/>
            <a:gdLst/>
            <a:ahLst/>
            <a:rect l="l" t="t" r="r" b="b"/>
            <a:pathLst>
              <a:path fill="none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</a:path>
              <a:path stroke="0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9"/>
          <p:cNvSpPr/>
          <p:nvPr/>
        </p:nvSpPr>
        <p:spPr>
          <a:xfrm>
            <a:off x="5486400" y="3502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0"/>
          <p:cNvSpPr/>
          <p:nvPr/>
        </p:nvSpPr>
        <p:spPr>
          <a:xfrm>
            <a:off x="5602320" y="4119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41"/>
          <p:cNvGrpSpPr/>
          <p:nvPr/>
        </p:nvGrpSpPr>
        <p:grpSpPr>
          <a:xfrm>
            <a:off x="7359480" y="6165720"/>
            <a:ext cx="792000" cy="360360"/>
            <a:chOff x="7359480" y="6165720"/>
            <a:chExt cx="792000" cy="360360"/>
          </a:xfrm>
        </p:grpSpPr>
        <p:sp>
          <p:nvSpPr>
            <p:cNvPr id="457" name="Line 42"/>
            <p:cNvSpPr/>
            <p:nvPr/>
          </p:nvSpPr>
          <p:spPr>
            <a:xfrm>
              <a:off x="815148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735948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44"/>
          <p:cNvGrpSpPr/>
          <p:nvPr/>
        </p:nvGrpSpPr>
        <p:grpSpPr>
          <a:xfrm>
            <a:off x="5486400" y="6165720"/>
            <a:ext cx="792000" cy="360360"/>
            <a:chOff x="5486400" y="6165720"/>
            <a:chExt cx="792000" cy="360360"/>
          </a:xfrm>
        </p:grpSpPr>
        <p:sp>
          <p:nvSpPr>
            <p:cNvPr id="460" name="Line 45"/>
            <p:cNvSpPr/>
            <p:nvPr/>
          </p:nvSpPr>
          <p:spPr>
            <a:xfrm>
              <a:off x="548640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46"/>
            <p:cNvSpPr/>
            <p:nvPr/>
          </p:nvSpPr>
          <p:spPr>
            <a:xfrm flipH="1">
              <a:off x="548640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47"/>
          <p:cNvSpPr/>
          <p:nvPr/>
        </p:nvSpPr>
        <p:spPr>
          <a:xfrm>
            <a:off x="6278400" y="6021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48"/>
          <p:cNvSpPr/>
          <p:nvPr/>
        </p:nvSpPr>
        <p:spPr>
          <a:xfrm>
            <a:off x="840600" y="2133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由题意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9"/>
          <p:cNvSpPr/>
          <p:nvPr/>
        </p:nvSpPr>
        <p:spPr>
          <a:xfrm>
            <a:off x="54180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0"/>
          <p:cNvSpPr/>
          <p:nvPr/>
        </p:nvSpPr>
        <p:spPr>
          <a:xfrm>
            <a:off x="5029200" y="56386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51"/>
          <p:cNvSpPr/>
          <p:nvPr/>
        </p:nvSpPr>
        <p:spPr>
          <a:xfrm>
            <a:off x="8150760" y="56689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Object 53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657600" cy="449280"/>
          </a:xfrm>
          <a:prstGeom prst="rect">
            <a:avLst/>
          </a:prstGeom>
          <a:ln w="0">
            <a:noFill/>
          </a:ln>
        </p:spPr>
      </p:pic>
      <p:pic>
        <p:nvPicPr>
          <p:cNvPr id="468" name="Object 54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88620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Object 56" descr=""/>
          <p:cNvPicPr/>
          <p:nvPr/>
        </p:nvPicPr>
        <p:blipFill>
          <a:blip r:embed="rId3"/>
          <a:stretch/>
        </p:blipFill>
        <p:spPr>
          <a:xfrm>
            <a:off x="1676520" y="3581280"/>
            <a:ext cx="2743200" cy="43668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57" descr=""/>
          <p:cNvPicPr/>
          <p:nvPr/>
        </p:nvPicPr>
        <p:blipFill>
          <a:blip r:embed="rId4"/>
          <a:stretch/>
        </p:blipFill>
        <p:spPr>
          <a:xfrm>
            <a:off x="1676520" y="4038480"/>
            <a:ext cx="914400" cy="4273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58"/>
          <p:cNvSpPr/>
          <p:nvPr/>
        </p:nvSpPr>
        <p:spPr>
          <a:xfrm>
            <a:off x="931680" y="4697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BC=AB=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9"/>
          <p:cNvSpPr/>
          <p:nvPr/>
        </p:nvSpPr>
        <p:spPr>
          <a:xfrm>
            <a:off x="1029600" y="538308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楼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502920"/>
            <a:ext cx="220968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609480" y="958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、在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ＡＢＣ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中，如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∠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B=     ∠ 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那么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△ＡＢＣ是什么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Object 15" descr=""/>
          <p:cNvPicPr/>
          <p:nvPr/>
        </p:nvPicPr>
        <p:blipFill>
          <a:blip r:embed="rId1"/>
          <a:stretch/>
        </p:blipFill>
        <p:spPr>
          <a:xfrm>
            <a:off x="5486400" y="806400"/>
            <a:ext cx="343080" cy="838080"/>
          </a:xfrm>
          <a:prstGeom prst="rect">
            <a:avLst/>
          </a:prstGeom>
          <a:ln w="0">
            <a:noFill/>
          </a:ln>
        </p:spPr>
      </p:pic>
      <p:pic>
        <p:nvPicPr>
          <p:cNvPr id="476" name="Object 16" descr=""/>
          <p:cNvPicPr/>
          <p:nvPr/>
        </p:nvPicPr>
        <p:blipFill>
          <a:blip r:embed="rId2"/>
          <a:stretch/>
        </p:blipFill>
        <p:spPr>
          <a:xfrm>
            <a:off x="6788160" y="806400"/>
            <a:ext cx="298440" cy="8380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20"/>
          <p:cNvSpPr/>
          <p:nvPr/>
        </p:nvSpPr>
        <p:spPr>
          <a:xfrm>
            <a:off x="1004040" y="1897200"/>
            <a:ext cx="20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=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3842640" y="1905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2x°,∠C=3x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1532160" y="2590920"/>
            <a:ext cx="14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据题意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Object 23" descr=""/>
          <p:cNvPicPr/>
          <p:nvPr/>
        </p:nvPicPr>
        <p:blipFill>
          <a:blip r:embed="rId3"/>
          <a:stretch/>
        </p:blipFill>
        <p:spPr>
          <a:xfrm>
            <a:off x="2819520" y="3124080"/>
            <a:ext cx="3657600" cy="60984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25"/>
          <p:cNvSpPr/>
          <p:nvPr/>
        </p:nvSpPr>
        <p:spPr>
          <a:xfrm>
            <a:off x="1347120" y="380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Object 26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1295280" cy="4777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29"/>
          <p:cNvSpPr/>
          <p:nvPr/>
        </p:nvSpPr>
        <p:spPr>
          <a:xfrm>
            <a:off x="1777320" y="45720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=30°,∠B=60°,∠C=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0"/>
          <p:cNvSpPr/>
          <p:nvPr/>
        </p:nvSpPr>
        <p:spPr>
          <a:xfrm>
            <a:off x="3079080" y="541008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△ＡＢＣ是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243864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52680" y="762120"/>
            <a:ext cx="2038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850560" y="1828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三角形的内角和：三角形三个内角之和为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367360" y="24382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由三角形内角和等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可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1425600" y="312408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直角三角形两锐角互余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3056400" y="380988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三角形最多有一个直角或钝角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09480" y="449568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任意一个三角形中，最多有三个锐角，最少有两个锐角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3333960" y="5638680"/>
            <a:ext cx="20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三角形中至少有一个角小于或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36E-5C4B-4970-9EB9-AB3A0C8C62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990720" y="571680"/>
            <a:ext cx="3744720" cy="1714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33520" y="2819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在一个直角三角形里住着三个内角，平时，它们三兄弟非常团结。可是有一天，老二突然不高兴，发起脾气来，它指着老大说：“你凭什么度数最大，我也要和你一样大！”“不行啊！”老大说：“这是不可能的，否则，我们这个家就再也围不起来了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……”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为什么？”老二很纳闷。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</a:rPr>
              <a:t>同学们，你们知道其中的道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Object 4" descr=""/>
          <p:cNvPicPr/>
          <p:nvPr/>
        </p:nvPicPr>
        <p:blipFill>
          <a:blip r:embed="rId2"/>
          <a:stretch/>
        </p:blipFill>
        <p:spPr>
          <a:xfrm>
            <a:off x="1371600" y="571680"/>
            <a:ext cx="2557440" cy="1676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724280" y="838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3048120" cy="63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内角三兄弟之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9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60" name="Object 2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745080" cy="219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83220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24" descr=""/>
          <p:cNvPicPr/>
          <p:nvPr/>
        </p:nvPicPr>
        <p:blipFill>
          <a:blip r:embed="rId3"/>
          <a:stretch/>
        </p:blipFill>
        <p:spPr>
          <a:xfrm>
            <a:off x="5164200" y="1898640"/>
            <a:ext cx="2303280" cy="2139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5"/>
          <p:cNvSpPr/>
          <p:nvPr/>
        </p:nvSpPr>
        <p:spPr>
          <a:xfrm>
            <a:off x="2034000" y="914400"/>
            <a:ext cx="53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如下图所示是我们常用的三角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它们的三个角之和为多少度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457200" y="5867280"/>
            <a:ext cx="8229600" cy="8366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中宋"/>
              </a:rPr>
              <a:t>想一想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</a:rPr>
              <a:t>: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</a:rPr>
              <a:t>任意三角形的三个内角之和也为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</a:rPr>
              <a:t>180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</a:rPr>
              <a:t>度吗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1674360" y="1752480"/>
            <a:ext cx="2612880" cy="520560"/>
            <a:chOff x="1674360" y="1752480"/>
            <a:chExt cx="2612880" cy="520560"/>
          </a:xfrm>
        </p:grpSpPr>
        <p:sp>
          <p:nvSpPr>
            <p:cNvPr id="66" name="Text Box 28"/>
            <p:cNvSpPr/>
            <p:nvPr/>
          </p:nvSpPr>
          <p:spPr>
            <a:xfrm>
              <a:off x="1674360" y="175248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  <a:ea typeface="宋体"/>
                </a:rPr>
                <a:t>30+60+90=1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9"/>
            <p:cNvSpPr/>
            <p:nvPr/>
          </p:nvSpPr>
          <p:spPr>
            <a:xfrm>
              <a:off x="2179800" y="18237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30"/>
            <p:cNvSpPr/>
            <p:nvPr/>
          </p:nvSpPr>
          <p:spPr>
            <a:xfrm>
              <a:off x="282744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31"/>
            <p:cNvSpPr/>
            <p:nvPr/>
          </p:nvSpPr>
          <p:spPr>
            <a:xfrm>
              <a:off x="3403800" y="1823760"/>
              <a:ext cx="730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32"/>
            <p:cNvSpPr/>
            <p:nvPr/>
          </p:nvSpPr>
          <p:spPr>
            <a:xfrm>
              <a:off x="419580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33"/>
          <p:cNvGrpSpPr/>
          <p:nvPr/>
        </p:nvGrpSpPr>
        <p:grpSpPr>
          <a:xfrm>
            <a:off x="5484240" y="1828800"/>
            <a:ext cx="2612880" cy="520560"/>
            <a:chOff x="5484240" y="1828800"/>
            <a:chExt cx="2612880" cy="520560"/>
          </a:xfrm>
        </p:grpSpPr>
        <p:sp>
          <p:nvSpPr>
            <p:cNvPr id="72" name="Text Box 34"/>
            <p:cNvSpPr/>
            <p:nvPr/>
          </p:nvSpPr>
          <p:spPr>
            <a:xfrm>
              <a:off x="5484240" y="182880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  <a:ea typeface="宋体"/>
                </a:rPr>
                <a:t>45+45+90=1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6639120" y="182880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6"/>
            <p:cNvSpPr/>
            <p:nvPr/>
          </p:nvSpPr>
          <p:spPr>
            <a:xfrm>
              <a:off x="5991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37"/>
            <p:cNvSpPr/>
            <p:nvPr/>
          </p:nvSpPr>
          <p:spPr>
            <a:xfrm>
              <a:off x="7215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38"/>
            <p:cNvSpPr/>
            <p:nvPr/>
          </p:nvSpPr>
          <p:spPr>
            <a:xfrm>
              <a:off x="8007480" y="190044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1828800" cy="487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思考与探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9"/>
          <p:cNvSpPr/>
          <p:nvPr/>
        </p:nvSpPr>
        <p:spPr>
          <a:xfrm>
            <a:off x="53352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三角形的三个内角和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858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把三个角拼在一起试试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94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你有什么办法可以验证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30"/>
          <p:cNvSpPr/>
          <p:nvPr/>
        </p:nvSpPr>
        <p:spPr>
          <a:xfrm rot="10835400">
            <a:off x="615600" y="477324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32"/>
          <p:cNvSpPr/>
          <p:nvPr/>
        </p:nvSpPr>
        <p:spPr>
          <a:xfrm rot="10819200">
            <a:off x="1842840" y="477972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31"/>
          <p:cNvSpPr/>
          <p:nvPr/>
        </p:nvSpPr>
        <p:spPr>
          <a:xfrm>
            <a:off x="1378080" y="48006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49"/>
          <p:cNvSpPr/>
          <p:nvPr/>
        </p:nvSpPr>
        <p:spPr>
          <a:xfrm>
            <a:off x="914400" y="56451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51"/>
          <p:cNvSpPr/>
          <p:nvPr/>
        </p:nvSpPr>
        <p:spPr>
          <a:xfrm>
            <a:off x="2022480" y="564516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7"/>
          <p:cNvGrpSpPr/>
          <p:nvPr/>
        </p:nvGrpSpPr>
        <p:grpSpPr>
          <a:xfrm>
            <a:off x="914400" y="4800600"/>
            <a:ext cx="2924280" cy="1666800"/>
            <a:chOff x="914400" y="4800600"/>
            <a:chExt cx="2924280" cy="1666800"/>
          </a:xfrm>
        </p:grpSpPr>
        <p:sp>
          <p:nvSpPr>
            <p:cNvPr id="87" name="Freeform 33"/>
            <p:cNvSpPr/>
            <p:nvPr/>
          </p:nvSpPr>
          <p:spPr>
            <a:xfrm>
              <a:off x="914400" y="5634000"/>
              <a:ext cx="120168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2109600" y="5614920"/>
              <a:ext cx="696960" cy="19548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2038320" y="5829480"/>
              <a:ext cx="127080" cy="63792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1379520" y="480060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116080" y="5634000"/>
              <a:ext cx="172260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1379520" y="563400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Freeform 40"/>
          <p:cNvSpPr/>
          <p:nvPr/>
        </p:nvSpPr>
        <p:spPr>
          <a:xfrm>
            <a:off x="4114800" y="350532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41"/>
          <p:cNvSpPr/>
          <p:nvPr/>
        </p:nvSpPr>
        <p:spPr>
          <a:xfrm>
            <a:off x="4572000" y="266688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42"/>
          <p:cNvSpPr/>
          <p:nvPr/>
        </p:nvSpPr>
        <p:spPr>
          <a:xfrm>
            <a:off x="5257800" y="350532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4114800" y="2666880"/>
            <a:ext cx="2924280" cy="1666800"/>
            <a:chOff x="4114800" y="2666880"/>
            <a:chExt cx="2924280" cy="1666800"/>
          </a:xfrm>
        </p:grpSpPr>
        <p:sp>
          <p:nvSpPr>
            <p:cNvPr id="97" name="Freeform 43"/>
            <p:cNvSpPr/>
            <p:nvPr/>
          </p:nvSpPr>
          <p:spPr>
            <a:xfrm>
              <a:off x="4114800" y="3500280"/>
              <a:ext cx="120204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5345280" y="3500280"/>
              <a:ext cx="696960" cy="19512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5239080" y="3695400"/>
              <a:ext cx="126720" cy="63828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4580280" y="266688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5316840" y="3500280"/>
              <a:ext cx="172224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4580280" y="350028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Freeform 50"/>
          <p:cNvSpPr/>
          <p:nvPr/>
        </p:nvSpPr>
        <p:spPr>
          <a:xfrm rot="10806000">
            <a:off x="6055560" y="329076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55"/>
          <p:cNvSpPr/>
          <p:nvPr/>
        </p:nvSpPr>
        <p:spPr>
          <a:xfrm rot="21531600">
            <a:off x="7059240" y="34905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3962520" y="5334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</a:rPr>
              <a:t>从刚才拼角的过程你能想出证明的办法吗</a:t>
            </a:r>
            <a:r>
              <a:rPr b="0" lang="en-US" sz="3200" spc="-1" strike="noStrike">
                <a:solidFill>
                  <a:srgbClr val="0000cc"/>
                </a:solidFill>
                <a:latin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9"/>
          <p:cNvSpPr/>
          <p:nvPr/>
        </p:nvSpPr>
        <p:spPr>
          <a:xfrm>
            <a:off x="4114800" y="43434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73"/>
          <p:cNvSpPr/>
          <p:nvPr/>
        </p:nvSpPr>
        <p:spPr>
          <a:xfrm>
            <a:off x="762120" y="2743200"/>
            <a:ext cx="2971800" cy="167652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lnTo>
                  <a:pt x="1872" y="1056"/>
                </a:lnTo>
                <a:lnTo>
                  <a:pt x="576" y="0"/>
                </a:lnTo>
                <a:lnTo>
                  <a:pt x="0" y="105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76"/>
          <p:cNvSpPr/>
          <p:nvPr/>
        </p:nvSpPr>
        <p:spPr>
          <a:xfrm>
            <a:off x="762120" y="358128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7"/>
          <p:cNvSpPr/>
          <p:nvPr/>
        </p:nvSpPr>
        <p:spPr>
          <a:xfrm>
            <a:off x="1219320" y="27432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78"/>
          <p:cNvSpPr/>
          <p:nvPr/>
        </p:nvSpPr>
        <p:spPr>
          <a:xfrm>
            <a:off x="1905120" y="358128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5"/>
          <p:cNvSpPr/>
          <p:nvPr/>
        </p:nvSpPr>
        <p:spPr>
          <a:xfrm>
            <a:off x="457200" y="48006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5614920" y="4572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</a:rPr>
              <a:t>180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81320" y="533160"/>
            <a:ext cx="1752840" cy="56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实践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3"/>
          <p:cNvSpPr/>
          <p:nvPr/>
        </p:nvSpPr>
        <p:spPr>
          <a:xfrm>
            <a:off x="7513560" y="5189400"/>
            <a:ext cx="32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4"/>
          <p:cNvSpPr/>
          <p:nvPr/>
        </p:nvSpPr>
        <p:spPr>
          <a:xfrm>
            <a:off x="7058160" y="5003640"/>
            <a:ext cx="32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rc 56"/>
          <p:cNvSpPr/>
          <p:nvPr/>
        </p:nvSpPr>
        <p:spPr>
          <a:xfrm>
            <a:off x="7292880" y="5489640"/>
            <a:ext cx="119160" cy="11592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lnTo>
                  <a:pt x="-1" y="115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rc 57"/>
          <p:cNvSpPr/>
          <p:nvPr/>
        </p:nvSpPr>
        <p:spPr>
          <a:xfrm>
            <a:off x="7122960" y="5398920"/>
            <a:ext cx="179640" cy="10800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lnTo>
                  <a:pt x="-1" y="12479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8"/>
          <p:cNvSpPr/>
          <p:nvPr/>
        </p:nvSpPr>
        <p:spPr>
          <a:xfrm flipH="1">
            <a:off x="4973400" y="4286160"/>
            <a:ext cx="717480" cy="13194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59"/>
          <p:cNvSpPr/>
          <p:nvPr/>
        </p:nvSpPr>
        <p:spPr>
          <a:xfrm>
            <a:off x="4973760" y="5605560"/>
            <a:ext cx="225900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0"/>
          <p:cNvSpPr/>
          <p:nvPr/>
        </p:nvSpPr>
        <p:spPr>
          <a:xfrm>
            <a:off x="5710320" y="4281480"/>
            <a:ext cx="1541520" cy="13176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1"/>
          <p:cNvSpPr/>
          <p:nvPr/>
        </p:nvSpPr>
        <p:spPr>
          <a:xfrm>
            <a:off x="7232760" y="5605560"/>
            <a:ext cx="9936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2"/>
          <p:cNvSpPr/>
          <p:nvPr/>
        </p:nvSpPr>
        <p:spPr>
          <a:xfrm flipH="1">
            <a:off x="7232400" y="4478400"/>
            <a:ext cx="610920" cy="1127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5"/>
          <p:cNvSpPr/>
          <p:nvPr/>
        </p:nvSpPr>
        <p:spPr>
          <a:xfrm>
            <a:off x="7827840" y="4214880"/>
            <a:ext cx="433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华文中宋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"/>
          <p:cNvSpPr/>
          <p:nvPr/>
        </p:nvSpPr>
        <p:spPr>
          <a:xfrm>
            <a:off x="8091360" y="5629320"/>
            <a:ext cx="443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</a:rPr>
              <a:t>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7"/>
          <p:cNvSpPr/>
          <p:nvPr/>
        </p:nvSpPr>
        <p:spPr>
          <a:xfrm>
            <a:off x="7058160" y="5659560"/>
            <a:ext cx="514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8"/>
          <p:cNvSpPr/>
          <p:nvPr/>
        </p:nvSpPr>
        <p:spPr>
          <a:xfrm>
            <a:off x="4876920" y="5595840"/>
            <a:ext cx="538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9"/>
          <p:cNvSpPr/>
          <p:nvPr/>
        </p:nvSpPr>
        <p:spPr>
          <a:xfrm>
            <a:off x="5583240" y="3886200"/>
            <a:ext cx="520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2514600" y="533520"/>
            <a:ext cx="5181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4"/>
          <p:cNvSpPr/>
          <p:nvPr/>
        </p:nvSpPr>
        <p:spPr>
          <a:xfrm>
            <a:off x="762120" y="1447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"/>
          <p:cNvSpPr/>
          <p:nvPr/>
        </p:nvSpPr>
        <p:spPr>
          <a:xfrm>
            <a:off x="68580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于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E∥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6"/>
          <p:cNvSpPr/>
          <p:nvPr/>
        </p:nvSpPr>
        <p:spPr>
          <a:xfrm>
            <a:off x="3276720" y="2666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内错角相等，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7"/>
          <p:cNvSpPr/>
          <p:nvPr/>
        </p:nvSpPr>
        <p:spPr>
          <a:xfrm>
            <a:off x="6094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=∠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8"/>
          <p:cNvSpPr/>
          <p:nvPr/>
        </p:nvSpPr>
        <p:spPr>
          <a:xfrm>
            <a:off x="60948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9"/>
          <p:cNvSpPr/>
          <p:nvPr/>
        </p:nvSpPr>
        <p:spPr>
          <a:xfrm>
            <a:off x="68580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0"/>
          <p:cNvSpPr/>
          <p:nvPr/>
        </p:nvSpPr>
        <p:spPr>
          <a:xfrm>
            <a:off x="981000" y="519588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3987720" y="1447920"/>
            <a:ext cx="34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外部，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一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2"/>
          <p:cNvSpPr/>
          <p:nvPr/>
        </p:nvSpPr>
        <p:spPr>
          <a:xfrm>
            <a:off x="1238400" y="2057400"/>
            <a:ext cx="33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另一边作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=∠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52388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3"/>
          <p:cNvSpPr/>
          <p:nvPr/>
        </p:nvSpPr>
        <p:spPr>
          <a:xfrm>
            <a:off x="7550280" y="542592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4"/>
          <p:cNvSpPr/>
          <p:nvPr/>
        </p:nvSpPr>
        <p:spPr>
          <a:xfrm>
            <a:off x="7010280" y="521172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rc 46"/>
          <p:cNvSpPr/>
          <p:nvPr/>
        </p:nvSpPr>
        <p:spPr>
          <a:xfrm>
            <a:off x="7288200" y="5775480"/>
            <a:ext cx="141480" cy="13320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lnTo>
                  <a:pt x="-1" y="115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47"/>
          <p:cNvSpPr/>
          <p:nvPr/>
        </p:nvSpPr>
        <p:spPr>
          <a:xfrm>
            <a:off x="7086600" y="5668920"/>
            <a:ext cx="212760" cy="12528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lnTo>
                  <a:pt x="-1" y="12479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8"/>
          <p:cNvSpPr/>
          <p:nvPr/>
        </p:nvSpPr>
        <p:spPr>
          <a:xfrm flipH="1">
            <a:off x="4533840" y="437976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4533840" y="5908680"/>
            <a:ext cx="268308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5410080" y="4373640"/>
            <a:ext cx="1830600" cy="15285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1"/>
          <p:cNvSpPr/>
          <p:nvPr/>
        </p:nvSpPr>
        <p:spPr>
          <a:xfrm>
            <a:off x="7216920" y="5908680"/>
            <a:ext cx="11808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2"/>
          <p:cNvSpPr/>
          <p:nvPr/>
        </p:nvSpPr>
        <p:spPr>
          <a:xfrm flipH="1">
            <a:off x="7216560" y="4602240"/>
            <a:ext cx="726840" cy="1306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7924680" y="429732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8237520" y="5935680"/>
            <a:ext cx="52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7010280" y="597384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4419720" y="5897520"/>
            <a:ext cx="63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5257800" y="3916440"/>
            <a:ext cx="61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2438280" y="601560"/>
            <a:ext cx="518184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60948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2971800" y="1523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E∥B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609480" y="2286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 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=∠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3352680" y="2286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两直线平行，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99072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3276720" y="31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609480" y="3886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941400" y="464832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1523880" cy="60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rc 37"/>
          <p:cNvSpPr/>
          <p:nvPr/>
        </p:nvSpPr>
        <p:spPr>
          <a:xfrm rot="3738000">
            <a:off x="6610320" y="3570120"/>
            <a:ext cx="353880" cy="163440"/>
          </a:xfrm>
          <a:custGeom>
            <a:avLst/>
            <a:gdLst/>
            <a:ahLst/>
            <a:rect l="l" t="t" r="r" b="b"/>
            <a:pathLst>
              <a:path fill="none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</a:path>
              <a:path stroke="0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  <a:lnTo>
                  <a:pt x="0" y="21573"/>
                </a:lnTo>
                <a:lnTo>
                  <a:pt x="1077" y="-1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38"/>
          <p:cNvSpPr/>
          <p:nvPr/>
        </p:nvSpPr>
        <p:spPr>
          <a:xfrm rot="9673800">
            <a:off x="5867280" y="3429000"/>
            <a:ext cx="370080" cy="419040"/>
          </a:xfrm>
          <a:custGeom>
            <a:avLst/>
            <a:gdLst/>
            <a:ahLst/>
            <a:rect l="l" t="t" r="r" b="b"/>
            <a:pathLst>
              <a:path fill="none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</a:path>
              <a:path stroke="0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  <a:lnTo>
                  <a:pt x="0" y="20551"/>
                </a:lnTo>
                <a:lnTo>
                  <a:pt x="6649" y="-1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796160" y="32702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5638680" y="368784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6934320" y="355140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9"/>
          <p:cNvSpPr/>
          <p:nvPr/>
        </p:nvSpPr>
        <p:spPr>
          <a:xfrm flipH="1">
            <a:off x="5524560" y="351144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40"/>
          <p:cNvSpPr/>
          <p:nvPr/>
        </p:nvSpPr>
        <p:spPr>
          <a:xfrm>
            <a:off x="5524560" y="5040360"/>
            <a:ext cx="268272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6400800" y="3505320"/>
            <a:ext cx="1830240" cy="15285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5029200" y="3475080"/>
            <a:ext cx="285768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"/>
          <p:cNvSpPr/>
          <p:nvPr/>
        </p:nvSpPr>
        <p:spPr>
          <a:xfrm>
            <a:off x="4572000" y="30942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8001000" y="51055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7"/>
          <p:cNvSpPr/>
          <p:nvPr/>
        </p:nvSpPr>
        <p:spPr>
          <a:xfrm>
            <a:off x="5410080" y="502920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6248520" y="30481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2590920" y="533520"/>
            <a:ext cx="52578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685800" y="1447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F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6858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304812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10666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=∠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2120" y="3657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76212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2+∠1+∠BA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106280" y="541008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1371600" cy="563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4"/>
          <p:cNvSpPr/>
          <p:nvPr/>
        </p:nvSpPr>
        <p:spPr>
          <a:xfrm>
            <a:off x="4038480" y="601992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1143000" y="597384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rc 24"/>
          <p:cNvSpPr/>
          <p:nvPr/>
        </p:nvSpPr>
        <p:spPr>
          <a:xfrm rot="9673800">
            <a:off x="1816200" y="4494240"/>
            <a:ext cx="380880" cy="350640"/>
          </a:xfrm>
          <a:custGeom>
            <a:avLst/>
            <a:gdLst/>
            <a:ahLst/>
            <a:rect l="l" t="t" r="r" b="b"/>
            <a:pathLst>
              <a:path fill="none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</a:path>
              <a:path stroke="0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  <a:lnTo>
                  <a:pt x="0" y="17993"/>
                </a:lnTo>
                <a:lnTo>
                  <a:pt x="11950" y="-1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9"/>
          <p:cNvSpPr/>
          <p:nvPr/>
        </p:nvSpPr>
        <p:spPr>
          <a:xfrm flipH="1">
            <a:off x="1409760" y="4532400"/>
            <a:ext cx="852480" cy="15285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0"/>
          <p:cNvSpPr/>
          <p:nvPr/>
        </p:nvSpPr>
        <p:spPr>
          <a:xfrm>
            <a:off x="1409760" y="6060960"/>
            <a:ext cx="2682720" cy="18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2286000" y="4525920"/>
            <a:ext cx="1830240" cy="15289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914400" y="45259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704880" y="41148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2133720" y="40687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971800" y="533520"/>
            <a:ext cx="48769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143000" y="1600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E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143000" y="2286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=∠B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962520" y="2286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219320" y="29718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AB+∠BAC+∠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327672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</a:rPr>
              <a:t>同旁内角互补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3773160" y="419112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579240"/>
            <a:ext cx="1295280" cy="63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4:29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17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