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chimes.wav" ContentType="audio/x-wav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0E6-6E56-4625-89C5-0708229C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DED-9AF6-46C9-8DD4-F57F6FD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CAF-4D84-41DE-AA44-404DEC81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C1C-512A-44FD-98D2-05C609F7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D77-0A85-4099-8170-13D7E6C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F5E-F830-47F3-90EF-667ACC6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308-D0DB-4D8D-9ACF-314E67B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A2C-8E2D-4F7C-9E64-CBA11D11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B6A-B875-40F4-B70D-6DBC53E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476-FF05-4FE8-A007-026C1A9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AB5-EDE1-4394-91D8-12BF5F1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110-A1A5-4052-8E63-0B08493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2E5-17A2-4325-82D8-372593CE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wmf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00704181012239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990720" y="2657520"/>
            <a:ext cx="701028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用心灵去倾听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43" name="Picture 14" descr="u=3033815390,2943943328&amp;gp=20"/>
          <p:cNvPicPr/>
          <p:nvPr/>
        </p:nvPicPr>
        <p:blipFill>
          <a:blip r:embed="rId2"/>
          <a:stretch/>
        </p:blipFill>
        <p:spPr>
          <a:xfrm>
            <a:off x="0" y="548640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50560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2006112211067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3352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苏珊？你能告诉我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‘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修理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’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这个词怎么拼写吗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她沉默了一会儿，说：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我希望你的手指已经好了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汤米，我要到另一个世界去歌唱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5800" y="2286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课文中找出与这些句子相对应的句子。说说这样写有什么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20061124044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 rot="5400000">
            <a:off x="304560" y="1676160"/>
            <a:ext cx="3809880" cy="274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FA4C-5E88-42FB-87CE-28957AFA5E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1129266218"/>
          <p:cNvPicPr/>
          <p:nvPr/>
        </p:nvPicPr>
        <p:blipFill>
          <a:blip r:embed="rId16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MCj02389810000[1]"/>
          <p:cNvPicPr/>
          <p:nvPr/>
        </p:nvPicPr>
        <p:blipFill>
          <a:blip r:embed="rId17"/>
          <a:stretch/>
        </p:blipFill>
        <p:spPr>
          <a:xfrm>
            <a:off x="7162920" y="5105520"/>
            <a:ext cx="1798560" cy="1253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14400" y="21337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中写了苏珊和“我”之间发生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苏珊的美好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583720" y="533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00412821191484215"/>
          <p:cNvPicPr/>
          <p:nvPr/>
        </p:nvPicPr>
        <p:blipFill>
          <a:blip r:embed="rId18"/>
          <a:stretch/>
        </p:blipFill>
        <p:spPr>
          <a:xfrm>
            <a:off x="1752480" y="5638680"/>
            <a:ext cx="5256360" cy="58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fhj"/>
          <p:cNvPicPr/>
          <p:nvPr/>
        </p:nvPicPr>
        <p:blipFill>
          <a:blip r:embed="rId19"/>
          <a:stretch/>
        </p:blipFill>
        <p:spPr>
          <a:xfrm>
            <a:off x="6705720" y="152280"/>
            <a:ext cx="2438280" cy="180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all2"/>
          <p:cNvPicPr/>
          <p:nvPr/>
        </p:nvPicPr>
        <p:blipFill>
          <a:blip r:embed="rId20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838080" y="2438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课文真实地记录了“我”与问讯处工作人员苏珊交往的过程，赞美了苏珊用心灵倾听孩子的心声、用爱心帮助孩子的善良品质，表达了“我”对苏珊的深切怀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banner_service"/>
          <p:cNvPicPr/>
          <p:nvPr/>
        </p:nvPicPr>
        <p:blipFill>
          <a:blip r:embed="rId2"/>
          <a:srcRect l="53134" t="10810" r="0" b="0"/>
          <a:stretch/>
        </p:blipFill>
        <p:spPr>
          <a:xfrm>
            <a:off x="6791400" y="4971960"/>
            <a:ext cx="2352600" cy="18860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"/>
          <p:cNvSpPr/>
          <p:nvPr/>
        </p:nvSpPr>
        <p:spPr>
          <a:xfrm>
            <a:off x="0" y="635004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83808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我找到了听我说话的人，不由得放声大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62120" y="1447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找到听“我”说话的人，其实就是找到了希望。那天，“我”在玩耍的时候，手指被锤子砸伤了，非常希望得到帮助，可是“家里没有人，哭也不会有谁听见”，“我”显得多么的孤独无助。只好把希望寄托在那个叫“问讯处”的小精灵身上。听到苏珊的温柔的嗓音，“我”孤独的心灵一下子得到了抚慰，终于放声大哭。这既是伤痛带来的痛苦的哭，更是在孤独中找到了希望的幸福的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kfhj"/>
          <p:cNvPicPr/>
          <p:nvPr/>
        </p:nvPicPr>
        <p:blipFill>
          <a:blip r:embed="rId2"/>
          <a:srcRect l="0" t="0" r="0" b="15601"/>
          <a:stretch/>
        </p:blipFill>
        <p:spPr>
          <a:xfrm>
            <a:off x="7315200" y="57150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6212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②小精灵总是耐心地回答我的问题，一遍遍地向我解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85800" y="2209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在“我”的记忆中，苏珊是个无所不知的小精灵。苏珊面对“我”一个个简单而幼稚的问题，就像一位母亲那样“耐心地回答我的问题，一遍遍地向我解释。”在一次次心与心的交流中，两个人的心走在了一起，结成了母子般的情谊。这句话形象地写出了苏珊的爱心，语言虽然朴实，读来却令人十分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kefu"/>
          <p:cNvPicPr/>
          <p:nvPr/>
        </p:nvPicPr>
        <p:blipFill>
          <a:blip r:embed="rId2"/>
          <a:stretch/>
        </p:blipFill>
        <p:spPr>
          <a:xfrm>
            <a:off x="0" y="0"/>
            <a:ext cx="1971720" cy="17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kfhj"/>
          <p:cNvPicPr/>
          <p:nvPr/>
        </p:nvPicPr>
        <p:blipFill>
          <a:blip r:embed="rId3"/>
          <a:srcRect l="0" t="0" r="0" b="15601"/>
          <a:stretch/>
        </p:blipFill>
        <p:spPr>
          <a:xfrm>
            <a:off x="7315200" y="57150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85800" y="914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你知道吗，这只可爱的小鸟，它要到另一个世界去歌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9480" y="2362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心爱的金丝雀突然死了，“我”不仅痛苦，同时对死亡充满了恐惧。如何化解“我”心中的伤痛，不让死亡留给“我”太多的恐惧呢？苏珊采用了更美好的一种说法。是啊，小鸟到另外一个世界去唱歌了，这是多么美好的事啊！听着这样的话，笼罩在孩子心头的阴影立刻消散了，快乐又回到了孩子的身边。苏珊的善良、乐观由此可见一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kefu"/>
          <p:cNvPicPr/>
          <p:nvPr/>
        </p:nvPicPr>
        <p:blipFill>
          <a:blip r:embed="rId2"/>
          <a:stretch/>
        </p:blipFill>
        <p:spPr>
          <a:xfrm>
            <a:off x="0" y="0"/>
            <a:ext cx="1971720" cy="178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kfhj"/>
          <p:cNvPicPr/>
          <p:nvPr/>
        </p:nvPicPr>
        <p:blipFill>
          <a:blip r:embed="rId3"/>
          <a:srcRect l="0" t="0" r="0" b="15601"/>
          <a:stretch/>
        </p:blipFill>
        <p:spPr>
          <a:xfrm>
            <a:off x="7315200" y="57150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但是我非常想认识苏珊，认识这个从未谋面却如同我第二个母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14050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谋面”就是见面的意思，用“如同我第二个母亲”来形容苏珊，看得出“我”对苏珊的爱。苏珊不是“我”的母亲，我们也从没见过面，是电话线把两个人紧紧地连在一起：苏珊就像母亲那样，耐心倾听“我”的心声，困难时给予帮助，痛苦时予以安慰。这就是“我”长大后，离开家乡，知道电话是怎么回事后想见到苏珊的真正原因。文章这样写，也为下文“我”回到家乡后主动与苏珊联系作了铺垫，推动了情节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kfhj"/>
          <p:cNvPicPr/>
          <p:nvPr/>
        </p:nvPicPr>
        <p:blipFill>
          <a:blip r:embed="rId2"/>
          <a:srcRect l="0" t="0" r="0" b="15601"/>
          <a:stretch/>
        </p:blipFill>
        <p:spPr>
          <a:xfrm>
            <a:off x="7315200" y="57150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762120" y="228600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当“我”的手指被砸伤时，她从孩子的哭声中，听出了孤单、恐惧与无助，她用悦耳的声音帮助孩子消除恐惧，指导孩子实现自救，赢得了孩子的信任；“我”总是问她很多事情，她总是耐心地回答我的问题，一遍遍地向我解释；当“我”因心爱的金丝雀突然死去伤心时，苏珊宽慰孩子，消除孩子对死亡的恐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85800" y="685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中写了苏珊和“我”之间发生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33520" y="2590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苏珊作为问讯处一名普通的工作人员，尽心尽力做好服务工作。对于文中的孩子，苏珊不仅用心灵倾听，更用心与孩子交流，抚慰孩子幼小的心灵，做孩子健康成长的心灵守护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7652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苏珊的美好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43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28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