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285-FD67-49C7-BC72-DE85FA7F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B69-D987-4AD9-90D2-F3A65328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B9F-7556-4463-974A-034DE455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5E8-18B8-4345-BE05-15D47F3D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7FF-03AE-4F80-9563-771BEA4D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769-4679-439B-9052-0BF9E293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560-6306-4469-B948-B5C0D2C6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C7C-8647-459B-88E1-AFE1A01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7F7-7847-49D2-AE47-CBE9FB08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A67-B645-4F8B-9AEB-733772E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BCE-DC43-432A-B7A0-BE630A81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1DB-D994-46E6-8AA7-5492F0AE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0B15-99DB-4986-B2B5-FB9C30C88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nbam.com/cpzs.asp?lbid=&#31481;&#31181;&#31481;&#26448;&amp;offset=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5-8-14-175961550">
            <a:hlinkClick r:id="rId1"/>
          </p:cNvPr>
          <p:cNvPicPr/>
          <p:nvPr/>
        </p:nvPicPr>
        <p:blipFill>
          <a:blip r:embed="rId2"/>
          <a:srcRect l="0" t="0" r="0" b="7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页脚占位符 2"/>
          <p:cNvSpPr/>
          <p:nvPr/>
        </p:nvSpPr>
        <p:spPr>
          <a:xfrm>
            <a:off x="2717640" y="6207120"/>
            <a:ext cx="378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33520" y="1752480"/>
            <a:ext cx="81532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25560">
                  <a:solidFill>
                    <a:srgbClr val="99cc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应有格物致知精神</a:t>
            </a:r>
            <a:endParaRPr b="0" lang="en-US" sz="8000" spc="1" strike="noStrike">
              <a:ln w="25560">
                <a:solidFill>
                  <a:srgbClr val="99cc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424920" y="33577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方正黄草简体"/>
              </a:rPr>
              <a:t>丁肇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1"/>
          <p:cNvSpPr/>
          <p:nvPr/>
        </p:nvSpPr>
        <p:spPr>
          <a:xfrm>
            <a:off x="222120" y="612468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403280" y="170028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9640" y="90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方正启体简体"/>
                <a:ea typeface="方正启体简体"/>
              </a:rPr>
              <a:t>一、论点：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应有格物致知精神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1280" y="6021360"/>
            <a:ext cx="64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方正启体简体"/>
              </a:rPr>
              <a:t>三、论证方法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举例论证 </a:t>
            </a:r>
            <a:r>
              <a:rPr b="1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道理论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8360" y="141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方正启体简体"/>
                <a:ea typeface="方正启体简体"/>
              </a:rPr>
              <a:t>二、论证结构</a:t>
            </a:r>
            <a:r>
              <a:rPr b="1" lang="en-US" sz="2800" spc="-1" strike="noStrike">
                <a:solidFill>
                  <a:srgbClr val="cc0000"/>
                </a:solidFill>
                <a:latin typeface="方正启体简体"/>
                <a:ea typeface="方正启体简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39640" y="3213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硬笔楷书简体"/>
              </a:rPr>
              <a:t>分析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611280" y="465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硬笔楷书简体"/>
              </a:rPr>
              <a:t>得出结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2484360" y="4724280"/>
            <a:ext cx="38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必须重视格物致知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6112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3--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900000" y="5157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829080" y="191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方正硬笔楷书简体"/>
              </a:rPr>
              <a:t>提出论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2124000" y="2708280"/>
            <a:ext cx="216000" cy="14907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4576320" y="2421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首先，指出传统教育的弊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546948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然后，分析科学上的实验精神的重要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2340000" y="3645000"/>
            <a:ext cx="66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接着，指出当今的中国学生依然轻视实验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755640" y="26370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--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29"/>
          <p:cNvSpPr txBox="1"/>
          <p:nvPr/>
        </p:nvSpPr>
        <p:spPr>
          <a:xfrm>
            <a:off x="3059280" y="0"/>
            <a:ext cx="244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    结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5219280" y="19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谈谈中国学生应该怎样学习自然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84360" y="177336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士虽有学而行为本焉。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墨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耳闻之不如目见之，目见之不如足践之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刘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纸上得来终觉浅，绝知此事要躬行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陆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不入虎穴，焉得虎子。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后汉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其实地上本没有路，走的人多了，也便成了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鲁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一切推理都必须从观察与实验中来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伽利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除了实验之外，没有别的办法可以识别错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狄德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3059280" y="620640"/>
            <a:ext cx="30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格言名句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156360" y="6222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403280" y="170028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要实现你的目标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最重要的是好奇心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并且永远对自己充满信心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大胆尝试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做你自己认为最正确的事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932360" y="393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-------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丁肇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2006613152219514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64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006613152219397"/>
          <p:cNvPicPr/>
          <p:nvPr/>
        </p:nvPicPr>
        <p:blipFill>
          <a:blip r:embed="rId2"/>
          <a:stretch/>
        </p:blipFill>
        <p:spPr>
          <a:xfrm>
            <a:off x="0" y="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lxmgzhongxingshu2"/>
          <p:cNvPicPr/>
          <p:nvPr/>
        </p:nvPicPr>
        <p:blipFill>
          <a:blip r:embed="rId3"/>
          <a:stretch/>
        </p:blipFill>
        <p:spPr>
          <a:xfrm>
            <a:off x="0" y="364500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005315173539640"/>
          <p:cNvPicPr/>
          <p:nvPr/>
        </p:nvPicPr>
        <p:blipFill>
          <a:blip r:embed="rId4"/>
          <a:stretch/>
        </p:blipFill>
        <p:spPr>
          <a:xfrm>
            <a:off x="4427640" y="3645000"/>
            <a:ext cx="4716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11104555L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SC02049_0"/>
          <p:cNvPicPr/>
          <p:nvPr/>
        </p:nvPicPr>
        <p:blipFill>
          <a:blip r:embed="rId2"/>
          <a:stretch/>
        </p:blipFill>
        <p:spPr>
          <a:xfrm>
            <a:off x="0" y="357336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20060222185320909"/>
          <p:cNvPicPr/>
          <p:nvPr/>
        </p:nvPicPr>
        <p:blipFill>
          <a:blip r:embed="rId3"/>
          <a:stretch/>
        </p:blipFill>
        <p:spPr>
          <a:xfrm>
            <a:off x="4572000" y="357336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20048114531977098"/>
          <p:cNvPicPr/>
          <p:nvPr/>
        </p:nvPicPr>
        <p:blipFill>
          <a:blip r:embed="rId4"/>
          <a:stretch/>
        </p:blipFill>
        <p:spPr>
          <a:xfrm>
            <a:off x="0" y="0"/>
            <a:ext cx="4572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7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684360" y="2060640"/>
            <a:ext cx="80769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方正硬笔楷书简体"/>
                <a:ea typeface="方正硬笔楷书简体"/>
              </a:rPr>
              <a:t>肇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zhào)</a:t>
            </a:r>
            <a:r>
              <a:rPr b="1" lang="en-US" sz="44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cc0000"/>
                </a:solidFill>
                <a:latin typeface="方正硬笔楷书简体"/>
                <a:ea typeface="方正硬笔楷书简体"/>
              </a:rPr>
              <a:t>彷徨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áng huáng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方正硬笔楷书简体"/>
                <a:ea typeface="方正硬笔楷书简体"/>
              </a:rPr>
              <a:t>格物致知            不知所措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方正硬笔楷书简体"/>
                <a:ea typeface="方正硬笔楷书简体"/>
              </a:rPr>
              <a:t>一帆风顺             袖手旁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556000" y="476280"/>
            <a:ext cx="35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方正启体简体"/>
              </a:rPr>
              <a:t>掌握字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0CDC-78E1-47D4-8710-CD9BE437B2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492360" y="1268280"/>
            <a:ext cx="380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方正隶二简体"/>
              </a:rPr>
              <a:t>有人说中国的孩子“高分低能”“会读书不会研究”缺乏创新精神和实践动手能力。问题出在哪里呢？丁肇中教授的文章会给我们极大的启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27000" y="6359400"/>
            <a:ext cx="81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533520" y="333360"/>
            <a:ext cx="86104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方正硬笔楷书简体"/>
                <a:ea typeface="方正硬笔楷书简体"/>
              </a:rPr>
              <a:t>丁肇中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1936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方正硬笔楷书简体"/>
              </a:rPr>
              <a:t>——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），美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    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华裔物理学家。生于密执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    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州安阿伯。</a:t>
            </a:r>
            <a:r>
              <a:rPr b="1" lang="en-US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1962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年获哲学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    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士学位</a:t>
            </a:r>
            <a:r>
              <a:rPr b="1" lang="en-US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.1969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年后任马萨诸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    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理工学院教授。主要从事高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    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能物理学研究。</a:t>
            </a:r>
            <a:r>
              <a:rPr b="1" lang="en-US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1974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年领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    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的研 究小组在实验中发现新粒子（</a:t>
            </a:r>
            <a:r>
              <a:rPr b="1" lang="en-US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J/ψ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粒子），并导致了一系列与之相关的新粒子的发现，使粒子物理学进入了一个新的发展阶段。因此于</a:t>
            </a:r>
            <a:r>
              <a:rPr b="1" lang="en-US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1976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年与里克特同获</a:t>
            </a:r>
            <a:r>
              <a:rPr b="1" lang="zh-CN" sz="3600" spc="-1" strike="noStrike">
                <a:solidFill>
                  <a:srgbClr val="cc0000"/>
                </a:solidFill>
                <a:latin typeface="方正硬笔楷书简体"/>
                <a:ea typeface="方正硬笔楷书简体"/>
              </a:rPr>
              <a:t>诺贝尔物理学</a:t>
            </a:r>
            <a:r>
              <a:rPr b="1" lang="zh-CN" sz="3600" spc="-1" strike="noStrike">
                <a:solidFill>
                  <a:srgbClr val="000066"/>
                </a:solidFill>
                <a:latin typeface="方正硬笔楷书简体"/>
                <a:ea typeface="方正硬笔楷书简体"/>
              </a:rPr>
              <a:t>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丁肇中"/>
          <p:cNvPicPr/>
          <p:nvPr/>
        </p:nvPicPr>
        <p:blipFill>
          <a:blip r:embed="rId1"/>
          <a:stretch/>
        </p:blipFill>
        <p:spPr>
          <a:xfrm>
            <a:off x="0" y="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14600" y="5335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1835280" y="19162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朗读课文，说说课文论述的话题是什么，作者的观点是怎样的</a:t>
            </a:r>
            <a:r>
              <a:rPr b="0" lang="en-US" sz="4000" spc="-1" strike="noStrike">
                <a:solidFill>
                  <a:srgbClr val="cc0000"/>
                </a:solidFill>
                <a:latin typeface="隶书"/>
                <a:ea typeface="隶书"/>
              </a:rPr>
              <a:t>?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理清作者从几个方面来谈问题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514600" y="5335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研讨课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230000" y="18255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一、课文论述的话题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532400" y="2708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方正启体简体"/>
              </a:rPr>
              <a:t>谈谈中国学生应该怎样学习自然科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048920" y="3573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二、作者的观点是怎样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2774880" y="4365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方正启体简体"/>
              </a:rPr>
              <a:t>应有格物致知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3663720" y="5157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方正启体简体"/>
              </a:rPr>
              <a:t>从探察物体而得到知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2454480" y="580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方正启体简体"/>
              </a:rPr>
              <a:t>实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611280" y="7365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三、“格物致知”在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《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大学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》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里早已提到，这种精神在中国传统教育里是否得到了大力传扬？为什么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84360" y="256536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传统的中国教育不重视真正的格物和致知，即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然科学的实验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55640" y="4365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原因是：传统的中国教育的目的“并不是寻求新知识，而是适应一个固定的社会制度”，埋没了格物致知的真正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571120" y="371628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方正硬笔楷书简体"/>
              </a:rPr>
              <a:t>以王阳明“格”院子里的竹子为例。（事实论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826920" y="1916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科学发展的历史告诉我们，新的知识只能通过实地实验而得到，不是由自我检讨或哲理的清谈就可求到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611280" y="736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三、实验精神（“格物致知”精神）为什么很重要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?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应该怎样进行实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826920" y="465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方正启体简体"/>
                <a:ea typeface="方正启体简体"/>
              </a:rPr>
              <a:t>1.</a:t>
            </a:r>
            <a:r>
              <a:rPr b="1" lang="zh-CN" sz="2800" spc="-1" strike="noStrike">
                <a:solidFill>
                  <a:srgbClr val="660066"/>
                </a:solidFill>
                <a:latin typeface="方正启体简体"/>
                <a:ea typeface="方正启体简体"/>
              </a:rPr>
              <a:t>实验的过程不是消极的观察，而是积极的探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55640" y="5229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方正启体简体"/>
                <a:ea typeface="方正启体简体"/>
              </a:rPr>
              <a:t>2.</a:t>
            </a:r>
            <a:r>
              <a:rPr b="1" lang="zh-CN" sz="2800" spc="-1" strike="noStrike">
                <a:solidFill>
                  <a:srgbClr val="660066"/>
                </a:solidFill>
                <a:latin typeface="方正启体简体"/>
                <a:ea typeface="方正启体简体"/>
              </a:rPr>
              <a:t>实验不是毫无选择的测量，它需要有细致具体的计划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方正启体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1188360" y="400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方正硬笔楷书简体"/>
              </a:rPr>
              <a:t>实验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5571720" y="2852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你能举一些例子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611280" y="736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四、既然实验精神如此重要，当今的中国学生是否很重视它了呢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11280" y="2349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中国学生大都偏向于理论而轻视实验，偏向于抽象思维而不愿动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11280" y="3573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误以为埋头读书可以应付一切，结果对实际毫无帮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124360" y="4653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方正硬笔楷书简体"/>
              </a:rPr>
              <a:t>以自己的经历为例（事实论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611280" y="736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五、格物致知精神仅仅应用于自然科学研究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6920" y="1989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不论是研究自然科学，研究人文科学，还是在个人行动上，都不可缺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11280" y="3213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六、那么怎样才是真正的格物致知精神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4360" y="4508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第一，寻求真理的唯一途径是对事物客观的探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第二，探索的过程不是消极的袖手旁观，而是有想象力的有计划的探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15:50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0:56Z</dcterms:modified>
  <cp:revision>40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