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0786-9075-4135-8CD2-40E2D817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9BE-E3CB-459C-9A09-12582C9E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10D-EAC7-4E2B-B866-6F98DB20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DF6-59B5-4295-B454-44836F34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7E3-E997-4E24-9DE6-20706C55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C16-9EB2-4490-8E18-4B7E5B83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D6E5-7F91-4F90-9028-C6045E0D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C012-0503-4417-B02E-B0F69D27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734C-A90D-4BC6-A69D-E54046EC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C701-0B2C-4B1E-8B9E-7C95CA65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ECA-1EDC-44FF-93E8-6C8EA23D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3CD4-B321-48EC-9642-2BA2D4CA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1A4D-74F4-4FA3-ADEE-CA0286ADE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539640" y="476280"/>
            <a:ext cx="7056720" cy="366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1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一亿有多大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3132000" y="3935520"/>
            <a:ext cx="4896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00000000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61540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79280" y="1125360"/>
            <a:ext cx="8713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亚洲严重缺水，缺乏符合卫生标准的饮用水人数约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。因缺水不能使用卫生设备人数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后，全世界缺水人口可能达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758600" y="4076640"/>
            <a:ext cx="54612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亿个小朋友手拉手，可以绕地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赤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圈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地球赤道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0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9"/>
          <p:cNvSpPr txBox="1"/>
          <p:nvPr/>
        </p:nvSpPr>
        <p:spPr>
          <a:xfrm>
            <a:off x="468360" y="0"/>
            <a:ext cx="1390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资料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4427640" y="5373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0" y="1254240"/>
            <a:ext cx="91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如果一个人能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，以亿计算，其度过的岁月不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多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5"/>
          <p:cNvSpPr txBox="1"/>
          <p:nvPr/>
        </p:nvSpPr>
        <p:spPr>
          <a:xfrm>
            <a:off x="468360" y="0"/>
            <a:ext cx="1390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资料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356560" y="3573360"/>
            <a:ext cx="401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我们学校大约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学生，如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人每学年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书，那么一亿本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够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1254240"/>
            <a:ext cx="914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468360" y="0"/>
            <a:ext cx="1390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资料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50920" y="981000"/>
            <a:ext cx="864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分钟如果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次心跳，一亿次心跳大约要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滴水大约可以汇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33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升水，能够装四辆大型运水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张纸叠在一起，约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高，比珠穆朗玛峰还要高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"/>
          <p:cNvSpPr/>
          <p:nvPr/>
        </p:nvSpPr>
        <p:spPr>
          <a:xfrm>
            <a:off x="468360" y="617364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3"/>
          <p:cNvSpPr txBox="1"/>
          <p:nvPr/>
        </p:nvSpPr>
        <p:spPr>
          <a:xfrm>
            <a:off x="468360" y="0"/>
            <a:ext cx="1390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资料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95280" y="981000"/>
            <a:ext cx="84978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中国移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底的财务公布平均每天净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新明日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电，爆发禽流感的亚洲迄今已杀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多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地球是一个年轻的星球，她的年龄大约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岁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8"/>
          <p:cNvSpPr txBox="1"/>
          <p:nvPr/>
        </p:nvSpPr>
        <p:spPr>
          <a:xfrm>
            <a:off x="468360" y="0"/>
            <a:ext cx="1390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资料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241200" y="1197000"/>
            <a:ext cx="8651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据国家统计局统计，全国每月消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双一次性筷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刻不停数一亿个数大约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。人总得吃饭睡觉，假如每天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小时数完一亿就会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。也就是说，你今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，从现在就开始数，要数到十八岁才能把一亿本练习本数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B60C-EFC7-407C-88A3-1277BCA5E4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4920" y="2492280"/>
          <a:ext cx="9109080" cy="2448000"/>
        </p:xfrm>
        <a:graphic>
          <a:graphicData uri="http://schemas.openxmlformats.org/drawingml/2006/table">
            <a:tbl>
              <a:tblPr/>
              <a:tblGrid>
                <a:gridCol w="1584360"/>
                <a:gridCol w="1081080"/>
                <a:gridCol w="1295280"/>
                <a:gridCol w="1619280"/>
                <a:gridCol w="1513080"/>
                <a:gridCol w="2016000"/>
              </a:tblGrid>
              <a:tr h="1222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下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31"/>
          <p:cNvSpPr/>
          <p:nvPr/>
        </p:nvSpPr>
        <p:spPr>
          <a:xfrm>
            <a:off x="46656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活动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数一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1693800" y="4005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1"/>
          <p:cNvSpPr/>
          <p:nvPr/>
        </p:nvSpPr>
        <p:spPr>
          <a:xfrm>
            <a:off x="2776320" y="40053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2"/>
          <p:cNvSpPr/>
          <p:nvPr/>
        </p:nvSpPr>
        <p:spPr>
          <a:xfrm>
            <a:off x="4067280" y="4005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5"/>
          <p:cNvSpPr/>
          <p:nvPr/>
        </p:nvSpPr>
        <p:spPr>
          <a:xfrm>
            <a:off x="7157520" y="400536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0"/>
          <p:cNvSpPr/>
          <p:nvPr/>
        </p:nvSpPr>
        <p:spPr>
          <a:xfrm>
            <a:off x="5343480" y="5235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1"/>
          <p:cNvSpPr/>
          <p:nvPr/>
        </p:nvSpPr>
        <p:spPr>
          <a:xfrm>
            <a:off x="3471840" y="5091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2"/>
          <p:cNvSpPr/>
          <p:nvPr/>
        </p:nvSpPr>
        <p:spPr>
          <a:xfrm>
            <a:off x="5709960" y="400536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1"/>
          <p:cNvSpPr/>
          <p:nvPr/>
        </p:nvSpPr>
        <p:spPr>
          <a:xfrm>
            <a:off x="162720" y="40053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0"/>
          <p:cNvSpPr/>
          <p:nvPr/>
        </p:nvSpPr>
        <p:spPr>
          <a:xfrm>
            <a:off x="6084720" y="256536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1"/>
          <p:cNvSpPr/>
          <p:nvPr/>
        </p:nvSpPr>
        <p:spPr>
          <a:xfrm>
            <a:off x="8244000" y="24922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"/>
          <p:cNvSpPr/>
          <p:nvPr/>
        </p:nvSpPr>
        <p:spPr>
          <a:xfrm>
            <a:off x="7380360" y="24922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3"/>
          <p:cNvSpPr/>
          <p:nvPr/>
        </p:nvSpPr>
        <p:spPr>
          <a:xfrm>
            <a:off x="8172360" y="4005360"/>
            <a:ext cx="0" cy="718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5"/>
          <p:cNvSpPr/>
          <p:nvPr/>
        </p:nvSpPr>
        <p:spPr>
          <a:xfrm>
            <a:off x="6012000" y="4005360"/>
            <a:ext cx="0" cy="718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1173240" y="1197000"/>
            <a:ext cx="392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0000000÷6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2340000" y="12682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6012000" y="119700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101960" y="2349360"/>
            <a:ext cx="37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000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÷6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1350360" y="3500280"/>
            <a:ext cx="285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00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÷24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1588680" y="4653000"/>
            <a:ext cx="296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42÷365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1979640" y="234936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5219640" y="234936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1476360" y="35002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4984920" y="1268280"/>
            <a:ext cx="33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00000(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4765320" y="2349360"/>
            <a:ext cx="265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5000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4195800" y="3500280"/>
            <a:ext cx="21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42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4771440" y="4653000"/>
            <a:ext cx="134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6"/>
          <p:cNvSpPr/>
          <p:nvPr/>
        </p:nvSpPr>
        <p:spPr>
          <a:xfrm>
            <a:off x="1258920" y="542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95280" y="155736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刻不停数一亿个数大约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。人总得吃饭睡觉，假如每天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小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数完一亿就会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。也就是说，你今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，从现在就开始数，要数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才能把一亿本练习本数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95280" y="155736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刻不停数一亿个数大约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。人总得吃饭睡觉，假如每天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小时数完一亿就会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。也就是说，你今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，从现在就开始数，要数到十八岁才能把一亿本练习本数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mingzhudianshita20070826_51"/>
          <p:cNvPicPr/>
          <p:nvPr/>
        </p:nvPicPr>
        <p:blipFill>
          <a:blip r:embed="rId1"/>
          <a:stretch/>
        </p:blipFill>
        <p:spPr>
          <a:xfrm>
            <a:off x="0" y="0"/>
            <a:ext cx="4782960" cy="7174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4859280" y="106200"/>
            <a:ext cx="42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海东方明珠电视塔的高度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6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亿张纸叠起来的高度会有它高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840200" y="3413160"/>
            <a:ext cx="430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有的话，一亿张纸叠起来有几个上海东方明珠电视塔的高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7928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活动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量一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24000" y="1557360"/>
          <a:ext cx="8064360" cy="2448000"/>
        </p:xfrm>
        <a:graphic>
          <a:graphicData uri="http://schemas.openxmlformats.org/drawingml/2006/table">
            <a:tbl>
              <a:tblPr/>
              <a:tblGrid>
                <a:gridCol w="1727280"/>
                <a:gridCol w="1152360"/>
                <a:gridCol w="1224000"/>
                <a:gridCol w="1513080"/>
                <a:gridCol w="2447640"/>
              </a:tblGrid>
              <a:tr h="1222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(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张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31"/>
          <p:cNvSpPr/>
          <p:nvPr/>
        </p:nvSpPr>
        <p:spPr>
          <a:xfrm>
            <a:off x="2895480" y="4443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250920" y="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活动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量一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324000" y="414972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楼房每层大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米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亿张纸叠起来的高度大约相当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33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层楼房，大约相当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上海东方明珠电视塔，比珠穆朗玛峰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84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米）还要高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2"/>
          <p:cNvSpPr/>
          <p:nvPr/>
        </p:nvSpPr>
        <p:spPr>
          <a:xfrm>
            <a:off x="1908000" y="3137040"/>
            <a:ext cx="15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4"/>
          <p:cNvSpPr/>
          <p:nvPr/>
        </p:nvSpPr>
        <p:spPr>
          <a:xfrm>
            <a:off x="3309840" y="3141720"/>
            <a:ext cx="9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5"/>
          <p:cNvSpPr/>
          <p:nvPr/>
        </p:nvSpPr>
        <p:spPr>
          <a:xfrm>
            <a:off x="4572000" y="3141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6"/>
          <p:cNvSpPr/>
          <p:nvPr/>
        </p:nvSpPr>
        <p:spPr>
          <a:xfrm>
            <a:off x="5867280" y="314172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1"/>
          <p:cNvSpPr/>
          <p:nvPr/>
        </p:nvSpPr>
        <p:spPr>
          <a:xfrm>
            <a:off x="318960" y="2997360"/>
            <a:ext cx="14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厘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6"/>
          <p:cNvSpPr/>
          <p:nvPr/>
        </p:nvSpPr>
        <p:spPr>
          <a:xfrm>
            <a:off x="4932360" y="155736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8"/>
          <p:cNvSpPr/>
          <p:nvPr/>
        </p:nvSpPr>
        <p:spPr>
          <a:xfrm>
            <a:off x="7020000" y="155736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9"/>
          <p:cNvSpPr/>
          <p:nvPr/>
        </p:nvSpPr>
        <p:spPr>
          <a:xfrm>
            <a:off x="6227640" y="155736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1"/>
          <p:cNvSpPr/>
          <p:nvPr/>
        </p:nvSpPr>
        <p:spPr>
          <a:xfrm>
            <a:off x="6227640" y="3141720"/>
            <a:ext cx="0" cy="718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755640" y="3068640"/>
          <a:ext cx="5830920" cy="2376360"/>
        </p:xfrm>
        <a:graphic>
          <a:graphicData uri="http://schemas.openxmlformats.org/drawingml/2006/table">
            <a:tbl>
              <a:tblPr/>
              <a:tblGrid>
                <a:gridCol w="2014560"/>
                <a:gridCol w="1224000"/>
                <a:gridCol w="2592360"/>
              </a:tblGrid>
              <a:tr h="11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粒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29"/>
          <p:cNvSpPr/>
          <p:nvPr/>
        </p:nvSpPr>
        <p:spPr>
          <a:xfrm>
            <a:off x="2895480" y="4443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1"/>
          <p:cNvSpPr/>
          <p:nvPr/>
        </p:nvSpPr>
        <p:spPr>
          <a:xfrm>
            <a:off x="4068360" y="436248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00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4"/>
          <p:cNvSpPr/>
          <p:nvPr/>
        </p:nvSpPr>
        <p:spPr>
          <a:xfrm>
            <a:off x="2773080" y="43624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395280" y="1890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活动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称一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1"/>
          <p:cNvSpPr/>
          <p:nvPr/>
        </p:nvSpPr>
        <p:spPr>
          <a:xfrm>
            <a:off x="30312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7"/>
          <p:cNvSpPr/>
          <p:nvPr/>
        </p:nvSpPr>
        <p:spPr>
          <a:xfrm>
            <a:off x="914400" y="436248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3059280" y="30700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4"/>
          <p:cNvSpPr/>
          <p:nvPr/>
        </p:nvSpPr>
        <p:spPr>
          <a:xfrm>
            <a:off x="5076720" y="30700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5"/>
          <p:cNvSpPr/>
          <p:nvPr/>
        </p:nvSpPr>
        <p:spPr>
          <a:xfrm>
            <a:off x="4284720" y="30700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7"/>
          <p:cNvSpPr/>
          <p:nvPr/>
        </p:nvSpPr>
        <p:spPr>
          <a:xfrm>
            <a:off x="4859280" y="42940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0"/>
          <p:cNvSpPr/>
          <p:nvPr/>
        </p:nvSpPr>
        <p:spPr>
          <a:xfrm>
            <a:off x="250920" y="126828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数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粒大米，称称大约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克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照这样计算，一亿粒大米约重多少克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0" y="95724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、我们全国大约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亿人，如果每人每天节省一粒米，全国一天大约能节省多少克粮食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749680" y="3478320"/>
            <a:ext cx="29426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、如果每人每天吃大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克，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些节省下来的大米可供一个人吃多少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约合多少年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671200" y="5229360"/>
            <a:ext cx="59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2500000÷400=8125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天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1250÷365≈22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年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340720" y="2565360"/>
            <a:ext cx="660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500000×13=3250000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克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496080" y="115920"/>
            <a:ext cx="13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活动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6516720" y="256536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2916360" y="256536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3419640" y="522936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6227640" y="522936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2987640" y="580536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11:46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1:27Z</dcterms:modified>
  <cp:revision>3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