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23.wmf" ContentType="image/x-wmf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3.png" ContentType="image/png"/>
  <Override PartName="/ppt/media/image8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0D5-047C-4499-996F-70B52E3E3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22D-C79F-450A-93B8-8B70491BDC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74A3-8E41-4A31-9616-3E3197E27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6E8-EF87-4B60-8D82-5EBC8BF6B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1D44-57CB-4CD6-82D2-8A1220002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B3A8-0A79-4268-9F05-E5B77173F9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ABBF-06ED-493E-91FD-47E2F88D4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BC1-5747-4852-B4E8-C16CA2E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F3F-C3B4-432D-A96A-9E42146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447-B7DA-47F5-8BEA-771FB02C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229-35C2-4EEF-84E0-2703003A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D6C-A7A0-44F7-BE3F-232F6092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2D1-D65F-415E-83F2-C4E146E8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3C7-8ED7-4A4C-AA61-5199F0A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A0E-3C38-4D53-89EF-714B243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F23-D085-4AB2-BBB7-8D57446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104-275C-4844-AA81-032B5A0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218-3E35-472C-ADB3-BAEF4DA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F16-E8F0-4B1A-ACF1-B23253C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FC8-783C-4A1A-BD0F-ACD0F15064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 rot="21130800">
            <a:off x="2763720" y="2763720"/>
            <a:ext cx="3533400" cy="2775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新魏"/>
              </a:rPr>
              <a:t>圆锥的体积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336400" y="569916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029080" y="5940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锥在生活中的应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79280" y="639720"/>
            <a:ext cx="8820360" cy="59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13920" y="5940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锥在生活中的应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努力吧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图片2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4788000" y="1989000"/>
            <a:ext cx="388944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38440" y="8859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说说下列各图是由哪些图形组成的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000600" cy="37447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/>
          <p:cNvSpPr/>
          <p:nvPr/>
        </p:nvSpPr>
        <p:spPr>
          <a:xfrm>
            <a:off x="468360" y="1989000"/>
            <a:ext cx="395928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755640" y="3282840"/>
            <a:ext cx="3311640" cy="1729440"/>
            <a:chOff x="755640" y="3282840"/>
            <a:chExt cx="3311640" cy="1729440"/>
          </a:xfrm>
        </p:grpSpPr>
        <p:grpSp>
          <p:nvGrpSpPr>
            <p:cNvPr id="134" name="Group 8"/>
            <p:cNvGrpSpPr/>
            <p:nvPr/>
          </p:nvGrpSpPr>
          <p:grpSpPr>
            <a:xfrm>
              <a:off x="1097640" y="3571920"/>
              <a:ext cx="2588760" cy="1440360"/>
              <a:chOff x="1097640" y="3571920"/>
              <a:chExt cx="2588760" cy="1440360"/>
            </a:xfrm>
          </p:grpSpPr>
          <p:sp>
            <p:nvSpPr>
              <p:cNvPr id="135" name="AutoShape 9"/>
              <p:cNvSpPr/>
              <p:nvPr/>
            </p:nvSpPr>
            <p:spPr>
              <a:xfrm>
                <a:off x="1097640" y="3571920"/>
                <a:ext cx="850680" cy="144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c8e0f"/>
                  </a:gs>
                  <a:gs pos="50000">
                    <a:srgbClr val="33cc33"/>
                  </a:gs>
                  <a:gs pos="100000">
                    <a:srgbClr val="0c8e0f"/>
                  </a:gs>
                </a:gsLst>
                <a:lin ang="0"/>
              </a:gra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10"/>
              <p:cNvSpPr/>
              <p:nvPr/>
            </p:nvSpPr>
            <p:spPr>
              <a:xfrm>
                <a:off x="2835720" y="3571920"/>
                <a:ext cx="850680" cy="144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c8e0f"/>
                  </a:gs>
                  <a:gs pos="50000">
                    <a:srgbClr val="33cc33"/>
                  </a:gs>
                  <a:gs pos="100000">
                    <a:srgbClr val="0c8e0f"/>
                  </a:gs>
                </a:gsLst>
                <a:lin ang="0"/>
              </a:gra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AutoShape 11"/>
            <p:cNvSpPr/>
            <p:nvPr/>
          </p:nvSpPr>
          <p:spPr>
            <a:xfrm>
              <a:off x="755640" y="3282840"/>
              <a:ext cx="3311640" cy="72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c8e0f"/>
                </a:gs>
                <a:gs pos="100000">
                  <a:srgbClr val="33cc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4"/>
          <p:cNvGrpSpPr/>
          <p:nvPr/>
        </p:nvGrpSpPr>
        <p:grpSpPr>
          <a:xfrm>
            <a:off x="204840" y="1305000"/>
            <a:ext cx="8750160" cy="5207040"/>
            <a:chOff x="204840" y="1305000"/>
            <a:chExt cx="8750160" cy="520704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204840" y="1305000"/>
              <a:ext cx="8750160" cy="52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Line 3"/>
            <p:cNvSpPr/>
            <p:nvPr/>
          </p:nvSpPr>
          <p:spPr>
            <a:xfrm flipH="1">
              <a:off x="871560" y="3106800"/>
              <a:ext cx="666720" cy="160956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>
              <a:off x="1523880" y="3090960"/>
              <a:ext cx="696960" cy="162540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3614760" y="3468600"/>
              <a:ext cx="565200" cy="167004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 flipV="1">
              <a:off x="4194000" y="3497040"/>
              <a:ext cx="567000" cy="165564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7010280" y="3483000"/>
              <a:ext cx="1727280" cy="63972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 flipV="1">
              <a:off x="7054920" y="4106520"/>
              <a:ext cx="1682640" cy="62388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885960" y="4475160"/>
              <a:ext cx="1320840" cy="450720"/>
            </a:xfrm>
            <a:prstGeom prst="ellipse">
              <a:avLst/>
            </a:prstGeom>
            <a:noFill/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627360" y="3268800"/>
              <a:ext cx="1131840" cy="450720"/>
            </a:xfrm>
            <a:prstGeom prst="ellipse">
              <a:avLst/>
            </a:prstGeom>
            <a:noFill/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 rot="5400000">
              <a:off x="6389280" y="3884400"/>
              <a:ext cx="1249200" cy="436680"/>
            </a:xfrm>
            <a:prstGeom prst="ellipse">
              <a:avLst/>
            </a:prstGeom>
            <a:noFill/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4194000" y="3497400"/>
              <a:ext cx="0" cy="161100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550880" y="3132000"/>
              <a:ext cx="0" cy="161136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>
              <a:off x="7021440" y="3494160"/>
              <a:ext cx="0" cy="120492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1549080" y="4697280"/>
              <a:ext cx="62388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6989760" y="4114800"/>
              <a:ext cx="169848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H="1">
              <a:off x="3622320" y="3505320"/>
              <a:ext cx="552600" cy="0"/>
            </a:xfrm>
            <a:prstGeom prst="line">
              <a:avLst/>
            </a:prstGeom>
            <a:ln w="2844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523880" y="310500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2220840" y="4687920"/>
              <a:ext cx="189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4761000" y="3483000"/>
              <a:ext cx="493560" cy="30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4194000" y="5137200"/>
              <a:ext cx="10303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88280" y="4746600"/>
              <a:ext cx="5364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"/>
            <p:cNvSpPr/>
            <p:nvPr/>
          </p:nvSpPr>
          <p:spPr>
            <a:xfrm>
              <a:off x="6473880" y="3468600"/>
              <a:ext cx="550800" cy="14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4"/>
            <p:cNvSpPr/>
            <p:nvPr/>
          </p:nvSpPr>
          <p:spPr>
            <a:xfrm>
              <a:off x="8723160" y="4122720"/>
              <a:ext cx="0" cy="928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7024680" y="4732200"/>
              <a:ext cx="0" cy="34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>
              <a:off x="3629160" y="3019320"/>
              <a:ext cx="0" cy="449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4194000" y="3048120"/>
              <a:ext cx="0" cy="465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798480" y="4762080"/>
              <a:ext cx="420840" cy="274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2292480" y="4179960"/>
              <a:ext cx="0" cy="479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 flipH="1" flipV="1">
              <a:off x="2278080" y="3147480"/>
              <a:ext cx="14400" cy="335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4992840" y="468792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V="1">
              <a:off x="4978440" y="3539880"/>
              <a:ext cx="0" cy="37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7052760" y="4919760"/>
              <a:ext cx="436680" cy="14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>
              <a:off x="8272440" y="4919760"/>
              <a:ext cx="422280" cy="14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>
              <a:off x="6575400" y="4513320"/>
              <a:ext cx="0" cy="203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V="1">
              <a:off x="6575400" y="3527280"/>
              <a:ext cx="0" cy="231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7"/>
            <p:cNvSpPr/>
            <p:nvPr/>
          </p:nvSpPr>
          <p:spPr>
            <a:xfrm>
              <a:off x="3381840" y="2467080"/>
              <a:ext cx="1070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d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8"/>
            <p:cNvSpPr/>
            <p:nvPr/>
          </p:nvSpPr>
          <p:spPr>
            <a:xfrm>
              <a:off x="7251120" y="4641840"/>
              <a:ext cx="1255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2c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Object 40" descr=""/>
            <p:cNvPicPr/>
            <p:nvPr/>
          </p:nvPicPr>
          <p:blipFill>
            <a:blip r:embed="rId2"/>
            <a:stretch/>
          </p:blipFill>
          <p:spPr>
            <a:xfrm>
              <a:off x="301680" y="4994280"/>
              <a:ext cx="15699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41"/>
            <p:cNvSpPr/>
            <p:nvPr/>
          </p:nvSpPr>
          <p:spPr>
            <a:xfrm rot="16200000">
              <a:off x="1809720" y="3566880"/>
              <a:ext cx="1162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.6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 rot="16200000">
              <a:off x="4470120" y="3986640"/>
              <a:ext cx="1070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8d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3"/>
            <p:cNvSpPr/>
            <p:nvPr/>
          </p:nvSpPr>
          <p:spPr>
            <a:xfrm rot="16200000">
              <a:off x="6286680" y="3552120"/>
              <a:ext cx="79524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8c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45"/>
          <p:cNvSpPr/>
          <p:nvPr/>
        </p:nvSpPr>
        <p:spPr>
          <a:xfrm>
            <a:off x="1964880" y="730080"/>
            <a:ext cx="31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下面各圆锥的体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8520" y="480960"/>
            <a:ext cx="8853480" cy="6464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 rot="21034800">
            <a:off x="814320" y="1631880"/>
            <a:ext cx="42782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一个圆锥形零件，底面积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平方厘米，高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厘米，这个零件的体积是多少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689440" y="907920"/>
            <a:ext cx="18352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4643280" y="3357720"/>
            <a:ext cx="4321440" cy="1439640"/>
            <a:chOff x="4643280" y="3357720"/>
            <a:chExt cx="4321440" cy="1439640"/>
          </a:xfrm>
        </p:grpSpPr>
        <p:sp>
          <p:nvSpPr>
            <p:cNvPr id="187" name="Rectangle 6"/>
            <p:cNvSpPr/>
            <p:nvPr/>
          </p:nvSpPr>
          <p:spPr>
            <a:xfrm>
              <a:off x="4643280" y="3357720"/>
              <a:ext cx="43214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a0000"/>
                  </a:solidFill>
                  <a:latin typeface="楷体_GB2312"/>
                </a:rPr>
                <a:t>V</a:t>
              </a:r>
              <a:r>
                <a:rPr b="1" lang="zh-CN" sz="5400" spc="-1" strike="noStrike">
                  <a:solidFill>
                    <a:srgbClr val="ea0000"/>
                  </a:solidFill>
                  <a:latin typeface="Arial"/>
                </a:rPr>
                <a:t>＝  </a:t>
              </a:r>
              <a:r>
                <a:rPr b="1" lang="en-US" sz="5400" spc="-1" strike="noStrike">
                  <a:solidFill>
                    <a:srgbClr val="ea0000"/>
                  </a:solidFill>
                  <a:latin typeface="Estrangelo Edessa"/>
                </a:rPr>
                <a:t>sh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661080" y="35478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0000"/>
                  </a:solidFill>
                  <a:latin typeface="Arial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6654600" y="4051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6662520" y="4095720"/>
              <a:ext cx="501840" cy="0"/>
            </a:xfrm>
            <a:prstGeom prst="line">
              <a:avLst/>
            </a:prstGeom>
            <a:ln w="25560">
              <a:solidFill>
                <a:srgbClr val="e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0"/>
          <p:cNvGrpSpPr/>
          <p:nvPr/>
        </p:nvGrpSpPr>
        <p:grpSpPr>
          <a:xfrm>
            <a:off x="1904760" y="4653000"/>
            <a:ext cx="5668200" cy="1139040"/>
            <a:chOff x="1904760" y="4653000"/>
            <a:chExt cx="5668200" cy="1139040"/>
          </a:xfrm>
        </p:grpSpPr>
        <p:sp>
          <p:nvSpPr>
            <p:cNvPr id="192" name="Text Box 11"/>
            <p:cNvSpPr/>
            <p:nvPr/>
          </p:nvSpPr>
          <p:spPr>
            <a:xfrm>
              <a:off x="2839320" y="4925880"/>
              <a:ext cx="473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×19×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立方厘米）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2"/>
            <p:cNvGrpSpPr/>
            <p:nvPr/>
          </p:nvGrpSpPr>
          <p:grpSpPr>
            <a:xfrm>
              <a:off x="1904760" y="4653000"/>
              <a:ext cx="436680" cy="1139040"/>
              <a:chOff x="1904760" y="4653000"/>
              <a:chExt cx="436680" cy="1139040"/>
            </a:xfrm>
          </p:grpSpPr>
          <p:sp>
            <p:nvSpPr>
              <p:cNvPr id="194" name="Text Box 13"/>
              <p:cNvSpPr/>
              <p:nvPr/>
            </p:nvSpPr>
            <p:spPr>
              <a:xfrm>
                <a:off x="1904760" y="465300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4"/>
              <p:cNvSpPr/>
              <p:nvPr/>
            </p:nvSpPr>
            <p:spPr>
              <a:xfrm>
                <a:off x="1906200" y="51494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1906200" y="52160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Rectangle 16"/>
          <p:cNvSpPr/>
          <p:nvPr/>
        </p:nvSpPr>
        <p:spPr>
          <a:xfrm>
            <a:off x="3573360" y="5734080"/>
            <a:ext cx="34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这个零件的体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V="1">
            <a:off x="1951200" y="2316240"/>
            <a:ext cx="2442960" cy="5061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2844720" y="2859120"/>
            <a:ext cx="1665360" cy="309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Image0000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166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971640" y="4437000"/>
            <a:ext cx="7273800" cy="1943280"/>
          </a:xfrm>
          <a:prstGeom prst="roundRect">
            <a:avLst>
              <a:gd name="adj" fmla="val 16667"/>
            </a:avLst>
          </a:pr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堆大米，近似于圆锥形，量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底面周长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4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厘米，高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厘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它的体积是多少立方厘米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050920" y="692280"/>
            <a:ext cx="5473800" cy="3736800"/>
            <a:chOff x="2050920" y="692280"/>
            <a:chExt cx="5473800" cy="3736800"/>
          </a:xfrm>
        </p:grpSpPr>
        <p:pic>
          <p:nvPicPr>
            <p:cNvPr id="204" name="Picture 5" descr=""/>
            <p:cNvPicPr/>
            <p:nvPr/>
          </p:nvPicPr>
          <p:blipFill>
            <a:blip r:embed="rId2"/>
            <a:stretch/>
          </p:blipFill>
          <p:spPr>
            <a:xfrm>
              <a:off x="2124000" y="692280"/>
              <a:ext cx="54007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6"/>
            <p:cNvSpPr/>
            <p:nvPr/>
          </p:nvSpPr>
          <p:spPr>
            <a:xfrm>
              <a:off x="2050920" y="692280"/>
              <a:ext cx="5042160" cy="3600360"/>
            </a:xfrm>
            <a:prstGeom prst="roundRect">
              <a:avLst>
                <a:gd name="adj" fmla="val 16667"/>
              </a:avLst>
            </a:prstGeom>
            <a:noFill/>
            <a:ln w="101520">
              <a:solidFill>
                <a:srgbClr val="0c8e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7"/>
          <p:cNvPicPr/>
          <p:nvPr/>
        </p:nvPicPr>
        <p:blipFill>
          <a:blip r:embed="rId1"/>
          <a:stretch/>
        </p:blipFill>
        <p:spPr>
          <a:xfrm>
            <a:off x="171360" y="581040"/>
            <a:ext cx="8801280" cy="5943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116000" y="1341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把一个棱长是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厘米的正方体木块，加工成一个最大圆锥体，圆锥的体积是多少立方厘米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5724360" y="3716280"/>
            <a:ext cx="2016360" cy="201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EA1-67E3-44AF-A666-00F61EA126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po"/>
          <p:cNvPicPr/>
          <p:nvPr/>
        </p:nvPicPr>
        <p:blipFill>
          <a:blip r:embed="rId1"/>
          <a:stretch/>
        </p:blipFill>
        <p:spPr>
          <a:xfrm>
            <a:off x="179280" y="62064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457440" y="51595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丰收的喜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642960"/>
            <a:ext cx="8771040" cy="5877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3048120" y="855720"/>
            <a:ext cx="4701960" cy="2047680"/>
          </a:xfrm>
          <a:prstGeom prst="cloudCallout">
            <a:avLst>
              <a:gd name="adj1" fmla="val -18939"/>
              <a:gd name="adj2" fmla="val 87597"/>
            </a:avLst>
          </a:prstGeom>
          <a:solidFill>
            <a:srgbClr val="ff99cc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堆小麦的体积是多少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638280" y="5954760"/>
            <a:ext cx="66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8763120" cy="589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47760" y="2612880"/>
            <a:ext cx="3352680" cy="39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322800" y="2932200"/>
            <a:ext cx="1771560" cy="463320"/>
          </a:xfrm>
          <a:prstGeom prst="leftArrow">
            <a:avLst>
              <a:gd name="adj1" fmla="val 50000"/>
              <a:gd name="adj2" fmla="val 955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803760" y="725400"/>
            <a:ext cx="4092480" cy="1843200"/>
          </a:xfrm>
          <a:prstGeom prst="cloudCallout">
            <a:avLst>
              <a:gd name="adj1" fmla="val 38828"/>
              <a:gd name="adj2" fmla="val 930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锥的体积怎么求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17440" y="623880"/>
            <a:ext cx="8737560" cy="589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22360" y="2011320"/>
            <a:ext cx="3853080" cy="4491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147680" y="1025640"/>
            <a:ext cx="62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准备等底等高的圆柱形容器和圆锥形容器各一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7440" y="623880"/>
            <a:ext cx="8737560" cy="589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46280" y="91908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圆锥形容器装满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倒入圆柱形容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几次能倒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3092400" y="3316320"/>
            <a:ext cx="2579760" cy="3200400"/>
            <a:chOff x="3092400" y="3316320"/>
            <a:chExt cx="2579760" cy="3200400"/>
          </a:xfrm>
        </p:grpSpPr>
        <p:pic>
          <p:nvPicPr>
            <p:cNvPr id="72" name="Picture 3" descr=""/>
            <p:cNvPicPr/>
            <p:nvPr/>
          </p:nvPicPr>
          <p:blipFill>
            <a:blip r:embed="rId1"/>
            <a:stretch/>
          </p:blipFill>
          <p:spPr>
            <a:xfrm>
              <a:off x="3092400" y="3316320"/>
              <a:ext cx="25797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Line 6"/>
            <p:cNvSpPr/>
            <p:nvPr/>
          </p:nvSpPr>
          <p:spPr>
            <a:xfrm>
              <a:off x="3497400" y="4935600"/>
              <a:ext cx="29880" cy="1262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529160" y="4978440"/>
              <a:ext cx="0" cy="12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 flipV="1">
              <a:off x="4484520" y="3962520"/>
              <a:ext cx="1089360" cy="420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441680" y="3367080"/>
              <a:ext cx="1103400" cy="595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13240" y="6183360"/>
              <a:ext cx="985680" cy="163440"/>
            </a:xfrm>
            <a:custGeom>
              <a:avLst/>
              <a:gdLst/>
              <a:ahLst/>
              <a:rect l="l" t="t" r="r" b="b"/>
              <a:pathLst>
                <a:path w="621" h="103">
                  <a:moveTo>
                    <a:pt x="0" y="0"/>
                  </a:moveTo>
                  <a:cubicBezTo>
                    <a:pt x="31" y="25"/>
                    <a:pt x="62" y="50"/>
                    <a:pt x="91" y="64"/>
                  </a:cubicBezTo>
                  <a:cubicBezTo>
                    <a:pt x="120" y="78"/>
                    <a:pt x="143" y="76"/>
                    <a:pt x="173" y="82"/>
                  </a:cubicBezTo>
                  <a:cubicBezTo>
                    <a:pt x="203" y="88"/>
                    <a:pt x="242" y="97"/>
                    <a:pt x="274" y="100"/>
                  </a:cubicBezTo>
                  <a:cubicBezTo>
                    <a:pt x="306" y="103"/>
                    <a:pt x="329" y="101"/>
                    <a:pt x="365" y="100"/>
                  </a:cubicBezTo>
                  <a:cubicBezTo>
                    <a:pt x="401" y="99"/>
                    <a:pt x="463" y="100"/>
                    <a:pt x="493" y="91"/>
                  </a:cubicBezTo>
                  <a:cubicBezTo>
                    <a:pt x="523" y="82"/>
                    <a:pt x="527" y="60"/>
                    <a:pt x="548" y="46"/>
                  </a:cubicBezTo>
                  <a:cubicBezTo>
                    <a:pt x="569" y="32"/>
                    <a:pt x="603" y="15"/>
                    <a:pt x="621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8"/>
            <p:cNvSpPr/>
            <p:nvPr/>
          </p:nvSpPr>
          <p:spPr>
            <a:xfrm>
              <a:off x="3483000" y="4775040"/>
              <a:ext cx="1074600" cy="3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9"/>
            <p:cNvSpPr/>
            <p:nvPr/>
          </p:nvSpPr>
          <p:spPr>
            <a:xfrm rot="16200000">
              <a:off x="3889440" y="3712680"/>
              <a:ext cx="1044360" cy="3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90560" y="163656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圆锥的体积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</a:rPr>
              <a:t>V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等于和它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华文新魏"/>
              </a:rPr>
              <a:t>等底等高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的圆柱体积的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三分之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3995640" y="3429000"/>
            <a:ext cx="4679640" cy="1610640"/>
            <a:chOff x="3995640" y="3429000"/>
            <a:chExt cx="4679640" cy="1610640"/>
          </a:xfrm>
        </p:grpSpPr>
        <p:sp>
          <p:nvSpPr>
            <p:cNvPr id="84" name="Rectangle 5"/>
            <p:cNvSpPr/>
            <p:nvPr/>
          </p:nvSpPr>
          <p:spPr>
            <a:xfrm>
              <a:off x="3995640" y="3525840"/>
              <a:ext cx="4679640" cy="14400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ea0000"/>
                  </a:solidFill>
                  <a:latin typeface="楷体_GB2312"/>
                </a:rPr>
                <a:t>V</a:t>
              </a:r>
              <a:r>
                <a:rPr b="1" lang="zh-CN" sz="6000" spc="-1" strike="noStrike">
                  <a:solidFill>
                    <a:srgbClr val="ea0000"/>
                  </a:solidFill>
                  <a:latin typeface="Arial"/>
                </a:rPr>
                <a:t>＝    </a:t>
              </a:r>
              <a:r>
                <a:rPr b="1" lang="en-US" sz="7200" spc="-1" strike="noStrike">
                  <a:solidFill>
                    <a:srgbClr val="ea0000"/>
                  </a:solidFill>
                  <a:latin typeface="Estrangelo Edessa"/>
                </a:rPr>
                <a:t>sh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6"/>
            <p:cNvGrpSpPr/>
            <p:nvPr/>
          </p:nvGrpSpPr>
          <p:grpSpPr>
            <a:xfrm>
              <a:off x="6206040" y="3429000"/>
              <a:ext cx="581760" cy="1610640"/>
              <a:chOff x="6206040" y="3429000"/>
              <a:chExt cx="581760" cy="1610640"/>
            </a:xfrm>
          </p:grpSpPr>
          <p:sp>
            <p:nvSpPr>
              <p:cNvPr id="86" name="Text Box 7"/>
              <p:cNvSpPr/>
              <p:nvPr/>
            </p:nvSpPr>
            <p:spPr>
              <a:xfrm>
                <a:off x="6211800" y="3429000"/>
                <a:ext cx="561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ea0000"/>
                    </a:solidFill>
                    <a:latin typeface="Arial"/>
                  </a:rPr>
                  <a:t>1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8"/>
              <p:cNvSpPr/>
              <p:nvPr/>
            </p:nvSpPr>
            <p:spPr>
              <a:xfrm>
                <a:off x="6206040" y="4122720"/>
                <a:ext cx="561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ea0000"/>
                    </a:solidFill>
                    <a:latin typeface="Arial"/>
                  </a:rPr>
                  <a:t>3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6258600" y="4272120"/>
                <a:ext cx="529200" cy="0"/>
              </a:xfrm>
              <a:prstGeom prst="line">
                <a:avLst/>
              </a:prstGeom>
              <a:ln w="63360">
                <a:solidFill>
                  <a:srgbClr val="e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Text Box 10"/>
          <p:cNvSpPr/>
          <p:nvPr/>
        </p:nvSpPr>
        <p:spPr>
          <a:xfrm>
            <a:off x="-181080" y="4803840"/>
            <a:ext cx="2737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e4f5"/>
                </a:solidFill>
                <a:latin typeface="Comic Sans MS"/>
              </a:rPr>
              <a:t>V</a:t>
            </a:r>
            <a:r>
              <a:rPr b="0" lang="zh-CN" sz="2400" spc="-1" strike="noStrike" baseline="-25000">
                <a:solidFill>
                  <a:srgbClr val="ade4f5"/>
                </a:solidFill>
                <a:latin typeface="Comic Sans MS"/>
              </a:rPr>
              <a:t>圆柱</a:t>
            </a:r>
            <a:r>
              <a:rPr b="1" lang="zh-CN" sz="3600" spc="-1" strike="noStrike">
                <a:solidFill>
                  <a:srgbClr val="ade4f5"/>
                </a:solidFill>
                <a:latin typeface="Comic Sans MS"/>
              </a:rPr>
              <a:t>＝</a:t>
            </a:r>
            <a:r>
              <a:rPr b="1" lang="en-US" sz="3600" spc="-1" strike="noStrike">
                <a:solidFill>
                  <a:srgbClr val="ade4f5"/>
                </a:solidFill>
                <a:latin typeface="Comic Sans MS"/>
              </a:rPr>
              <a:t>s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755640" y="3573360"/>
            <a:ext cx="865080" cy="12240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9be9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701640" y="3284640"/>
            <a:ext cx="990720" cy="164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17326 1.48148E-006 E"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00808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24000" y="2997360"/>
            <a:ext cx="8496000" cy="33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7650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打谷场上，有一个近似于圆锥的小麦堆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测得底面半径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米，高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米。你能计算出这堆小麦的体积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未标题-1 拷贝"/>
          <p:cNvPicPr/>
          <p:nvPr/>
        </p:nvPicPr>
        <p:blipFill>
          <a:blip r:embed="rId1"/>
          <a:stretch/>
        </p:blipFill>
        <p:spPr>
          <a:xfrm>
            <a:off x="2244600" y="2405160"/>
            <a:ext cx="374508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Object 10" descr=""/>
          <p:cNvPicPr/>
          <p:nvPr/>
        </p:nvPicPr>
        <p:blipFill>
          <a:blip r:embed="rId2"/>
          <a:stretch/>
        </p:blipFill>
        <p:spPr>
          <a:xfrm>
            <a:off x="4297320" y="31622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Object 11" descr=""/>
          <p:cNvPicPr/>
          <p:nvPr/>
        </p:nvPicPr>
        <p:blipFill>
          <a:blip r:embed="rId3"/>
          <a:stretch/>
        </p:blipFill>
        <p:spPr>
          <a:xfrm>
            <a:off x="2411280" y="3930480"/>
            <a:ext cx="3337200" cy="121608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2" descr=""/>
          <p:cNvPicPr/>
          <p:nvPr/>
        </p:nvPicPr>
        <p:blipFill>
          <a:blip r:embed="rId4"/>
          <a:stretch/>
        </p:blipFill>
        <p:spPr>
          <a:xfrm>
            <a:off x="2062080" y="5105520"/>
            <a:ext cx="2316240" cy="666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344240" y="5807160"/>
            <a:ext cx="51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堆小麦的体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74600" y="623880"/>
            <a:ext cx="8780400" cy="5892840"/>
          </a:xfrm>
          <a:prstGeom prst="rect">
            <a:avLst/>
          </a:prstGeom>
          <a:solidFill>
            <a:srgbClr val="0099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6400" y="646200"/>
            <a:ext cx="77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圆锥形零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底面直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零件的体积是多少立方厘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 rot="3407400">
            <a:off x="3266640" y="1489320"/>
            <a:ext cx="1835280" cy="309564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6" descr=""/>
          <p:cNvPicPr/>
          <p:nvPr/>
        </p:nvPicPr>
        <p:blipFill>
          <a:blip r:embed="rId2"/>
          <a:stretch/>
        </p:blipFill>
        <p:spPr>
          <a:xfrm>
            <a:off x="1868400" y="3727440"/>
            <a:ext cx="4162680" cy="12160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7" descr=""/>
          <p:cNvPicPr/>
          <p:nvPr/>
        </p:nvPicPr>
        <p:blipFill>
          <a:blip r:embed="rId3"/>
          <a:stretch/>
        </p:blipFill>
        <p:spPr>
          <a:xfrm>
            <a:off x="1422360" y="5091120"/>
            <a:ext cx="2787840" cy="66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208160" y="5807160"/>
            <a:ext cx="54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堆零件的体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8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厘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39Z</dcterms:modified>
  <cp:revision>14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