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C3DB-3DD6-414B-8915-1DEC05D05CEB}" type="slidenum">
              <a:rPr b="0" lang="zh-CN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5C3-5EF5-4C17-96EF-6C8889BECD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8E4-D4ED-46E3-9A2A-D0FB91E2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419-E0CF-49BD-8937-30584BE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167-A6D2-404C-BA91-844A929D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7B0-2123-4F60-BDE9-F43DD14D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F6A-79AE-4F9C-A22B-2B11B7AA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EB7-AD38-4C60-97A8-461A47C4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C4F-5108-4521-8427-BD2861BE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833-5AB5-4719-904A-29AB5AE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3C1-2AF3-4662-A8AA-9458F5E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F95-767C-4B95-BCD9-97AA1B3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C8E-906F-41C8-AFDE-4E74644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2F5-4A34-475E-944A-A6A68D3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FFB3-4148-4A39-A62B-47C63917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960480" y="1284120"/>
            <a:ext cx="72738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00000"/>
                  </a:solidFill>
                  <a:round/>
                </a:ln>
                <a:solidFill>
                  <a:srgbClr val="ffffff"/>
                </a:solidFill>
                <a:latin typeface="微软雅黑"/>
              </a:rPr>
              <a:t>祖国妈妈在我心中</a:t>
            </a:r>
            <a:endParaRPr b="1" lang="en-US" sz="4400" spc="1" strike="noStrike">
              <a:ln w="9360">
                <a:solidFill>
                  <a:srgbClr val="c00000"/>
                </a:solidFill>
                <a:round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50" name="矩形 10" descr=""/>
          <p:cNvPicPr/>
          <p:nvPr/>
        </p:nvPicPr>
        <p:blipFill>
          <a:blip r:embed="rId2"/>
          <a:stretch/>
        </p:blipFill>
        <p:spPr>
          <a:xfrm>
            <a:off x="1924200" y="551664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哪里可以看见国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的执法机关的大门上都有国徽：公安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察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司法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劳教劳改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安全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政执法局等，各级法院的审判庭都有国徽悬挂。这些执法部门的工作人员所戴的帽子上也有国徽，另外国家机构，部队、警察及相关组织的服饰，人民币上也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0090109103437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00901091034385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825480" y="174600"/>
            <a:ext cx="54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01"/>
          <p:cNvPicPr/>
          <p:nvPr/>
        </p:nvPicPr>
        <p:blipFill>
          <a:blip r:embed="rId1"/>
          <a:stretch/>
        </p:blipFill>
        <p:spPr>
          <a:xfrm>
            <a:off x="0" y="1125360"/>
            <a:ext cx="4716360" cy="5229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4762440" y="1268280"/>
            <a:ext cx="435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旗国旗真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颗星星在一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颗大来四颗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光闪闪照大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旗国旗真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生们热爱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升旗国时要立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向你敬个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70792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今天的学习，我们认识了国旗、国徽，知道了国旗、国徽、国歌是代表国家的，热爱祖国就要热爱国旗，爱国旗是热爱祖国的表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213-9670-4C03-BB9A-10A5970F02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45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祖国知多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7810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祖国就是自己的国家，世界上每个人都有自己的祖国，就像每个人都有自己的妈妈一样。每个人都出生在一个国家里，而且他的祖祖辈辈都可能生活在这个国家，这个国家就是他的祖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u=3509083869,32041130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56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哪些地方能看到我国的国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708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学校的操场上、天安门广场、国家机关、轮船、飞机、火箭、边防哨所、我国驻外大使馆等，都能看到我国的国旗。每逢重大节日，家家户户都挂起国旗。自从第一面五星红旗升起以后，国内外很多地方都可以看到我国的五星红旗高高飘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按照太阳升起的时间，武警战士在天安门广场升起鲜艳的五星红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u=476762558,363419429&amp;fm=23&amp;gp=0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做为中国人，我们感到无比的激动、光荣和自豪。同学们盼望着自己快快长大，和这些运动员一样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国争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u=88303151,3937921341&amp;fm=23&amp;gp=0"/>
          <p:cNvPicPr/>
          <p:nvPr/>
        </p:nvPicPr>
        <p:blipFill>
          <a:blip r:embed="rId1"/>
          <a:stretch/>
        </p:blipFill>
        <p:spPr>
          <a:xfrm>
            <a:off x="0" y="1386000"/>
            <a:ext cx="4500720" cy="54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u=35871505,2112829961&amp;fm=23&amp;gp=0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火箭上的国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=1094368594,2692824290&amp;fm=52&amp;gp=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防哨的国旗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星红旗高高飘扬在边防哨所，表明这里是我们中国的领土，是神圣不可侵犯的。解放军叔叔日夜守卫在祖国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疆，护卫着国旗，保卫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u=3951955564,2199398609&amp;fm=52&amp;gp=0"/>
          <p:cNvPicPr/>
          <p:nvPr/>
        </p:nvPicPr>
        <p:blipFill>
          <a:blip r:embed="rId1"/>
          <a:stretch/>
        </p:blipFill>
        <p:spPr>
          <a:xfrm>
            <a:off x="0" y="1628640"/>
            <a:ext cx="4859280" cy="522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=2233163328,1456074526&amp;fm=23&amp;gp=0"/>
          <p:cNvPicPr/>
          <p:nvPr/>
        </p:nvPicPr>
        <p:blipFill>
          <a:blip r:embed="rId2"/>
          <a:stretch/>
        </p:blipFill>
        <p:spPr>
          <a:xfrm>
            <a:off x="4859280" y="1628640"/>
            <a:ext cx="4284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84564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98756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徽上有什么图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华人民共和国国徽中间是五星照耀下的天安门，周围是谷穗和齿轮。麦稻穗、五星、天安门、齿轮为金色，圆环内的底子及垂绶为红色，金、红两种颜色在中国是象征吉祥喜庆的传统色彩。天安门象征中国人民反帝反封建的不屈的民族精神；齿轮和麦稻穗象征工人阶级与农民阶级；五颗星代表中国共产党领导下的人民站起来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u=2008019321,502931064&amp;fm=0&amp;gp=0"/>
          <p:cNvPicPr/>
          <p:nvPr/>
        </p:nvPicPr>
        <p:blipFill>
          <a:blip r:embed="rId1"/>
          <a:stretch/>
        </p:blipFill>
        <p:spPr>
          <a:xfrm>
            <a:off x="4140360" y="333360"/>
            <a:ext cx="17618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8:34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01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