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DING.WAV" ContentType="audio/x-wav"/>
  <Override PartName="/ppt/media/image4.jpeg" ContentType="image/jpeg"/>
  <Override PartName="/ppt/media/chimes.wav" ContentType="audio/x-wav"/>
  <Override PartName="/ppt/media/image16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551D-B1B3-4388-B716-708202629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2ABE-378B-4834-806F-49EFF40D2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1D01-5427-4D29-A30A-BD9D1D78E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6940-4D40-4513-92D9-214185048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8EB6-3BBD-4283-A29A-0B342A7A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6BF6-F4E3-48AB-B82E-90179537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E822-D6A0-41AE-93A1-C8F27B9AB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9F91-97E0-47E6-82E3-84126595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200B-24C0-4457-B229-5AE6AFF5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053A-A05D-4F07-97EA-B0547CDC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E30F-8AA1-4FC2-AC4D-8DFF97EA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D5A1-D87C-4B07-A1D8-5B2FBF48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3D01-B95A-493F-8435-35144927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7D29-5794-4D80-9411-0E093FEC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0237-1DB3-4B7D-A7FE-896B35F1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E486-455C-40F7-9FBE-B3A4300D3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0-100.com/200406/ca457292.htm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0-100.com/200406/ca457292.htm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www.0-100.com/200406/ca457292.htm" TargetMode="External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wmf"/><Relationship Id="rId3" Type="http://schemas.openxmlformats.org/officeDocument/2006/relationships/audio" Target="../media/DING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DING.WAV"/><Relationship Id="rId3" Type="http://schemas.openxmlformats.org/officeDocument/2006/relationships/audio" Target="../media/DING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6.xm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 rot="10800000">
            <a:off x="-360" y="-360"/>
            <a:ext cx="9140760" cy="1676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3240" y="4869000"/>
            <a:ext cx="9140760" cy="1989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4427640" y="145476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rot="670200">
            <a:off x="6876720" y="3933720"/>
            <a:ext cx="1963800" cy="2016360"/>
          </a:xfrm>
          <a:prstGeom prst="rect">
            <a:avLst/>
          </a:prstGeom>
          <a:ln w="0">
            <a:noFill/>
          </a:ln>
        </p:spPr>
      </p:pic>
      <p:sp>
        <p:nvSpPr>
          <p:cNvPr id="52" name="WordArt 10"/>
          <p:cNvSpPr txBox="1"/>
          <p:nvPr/>
        </p:nvSpPr>
        <p:spPr>
          <a:xfrm>
            <a:off x="1512720" y="1684440"/>
            <a:ext cx="5688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做框架</a:t>
            </a:r>
            <a:endParaRPr b="1" lang="en-US" sz="24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" name="矩形 8"/>
          <p:cNvSpPr/>
          <p:nvPr/>
        </p:nvSpPr>
        <p:spPr>
          <a:xfrm>
            <a:off x="2064960" y="583092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pic_381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5516640"/>
            <a:ext cx="720720" cy="820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pic_3811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3500280"/>
            <a:ext cx="1152360" cy="858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pic_3811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028000" y="1700280"/>
            <a:ext cx="720720" cy="504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SDC12880"/>
          <p:cNvPicPr/>
          <p:nvPr/>
        </p:nvPicPr>
        <p:blipFill>
          <a:blip r:embed="rId7">
            <a:lum contrast="54000"/>
          </a:blip>
          <a:stretch/>
        </p:blipFill>
        <p:spPr>
          <a:xfrm>
            <a:off x="0" y="836640"/>
            <a:ext cx="9144000" cy="38894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1042920" y="260280"/>
            <a:ext cx="740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角形框架                    长方形框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016080" y="4868640"/>
            <a:ext cx="35258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注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适当大小的力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两次用的力要差不多大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 rot="670200">
            <a:off x="6889320" y="4365360"/>
            <a:ext cx="2011320" cy="20653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2556000" y="69228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在三角形框架上的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46"/>
          <p:cNvSpPr/>
          <p:nvPr/>
        </p:nvSpPr>
        <p:spPr>
          <a:xfrm>
            <a:off x="4572000" y="333360"/>
            <a:ext cx="1440" cy="1152720"/>
          </a:xfrm>
          <a:prstGeom prst="line">
            <a:avLst/>
          </a:prstGeom>
          <a:ln w="7632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47"/>
          <p:cNvSpPr/>
          <p:nvPr/>
        </p:nvSpPr>
        <p:spPr>
          <a:xfrm>
            <a:off x="6131160" y="3143520"/>
            <a:ext cx="478440" cy="913680"/>
          </a:xfrm>
          <a:prstGeom prst="line">
            <a:avLst/>
          </a:prstGeom>
          <a:ln w="7632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48"/>
          <p:cNvSpPr/>
          <p:nvPr/>
        </p:nvSpPr>
        <p:spPr>
          <a:xfrm flipH="1">
            <a:off x="2539440" y="3063240"/>
            <a:ext cx="712080" cy="877680"/>
          </a:xfrm>
          <a:prstGeom prst="line">
            <a:avLst/>
          </a:prstGeom>
          <a:ln w="7632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9"/>
          <p:cNvSpPr/>
          <p:nvPr/>
        </p:nvSpPr>
        <p:spPr>
          <a:xfrm>
            <a:off x="4215240" y="2852640"/>
            <a:ext cx="6678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压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50"/>
          <p:cNvGrpSpPr/>
          <p:nvPr/>
        </p:nvGrpSpPr>
        <p:grpSpPr>
          <a:xfrm>
            <a:off x="2050920" y="1382400"/>
            <a:ext cx="5090400" cy="4587120"/>
            <a:chOff x="2050920" y="1382400"/>
            <a:chExt cx="5090400" cy="4587120"/>
          </a:xfrm>
        </p:grpSpPr>
        <p:sp>
          <p:nvSpPr>
            <p:cNvPr id="103" name="Line 51"/>
            <p:cNvSpPr/>
            <p:nvPr/>
          </p:nvSpPr>
          <p:spPr>
            <a:xfrm flipV="1">
              <a:off x="2050920" y="1413000"/>
              <a:ext cx="2719800" cy="4464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52"/>
            <p:cNvSpPr/>
            <p:nvPr/>
          </p:nvSpPr>
          <p:spPr>
            <a:xfrm>
              <a:off x="4371480" y="1382400"/>
              <a:ext cx="2769840" cy="45871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Line 53"/>
          <p:cNvSpPr/>
          <p:nvPr/>
        </p:nvSpPr>
        <p:spPr>
          <a:xfrm flipH="1" flipV="1">
            <a:off x="1746720" y="5757120"/>
            <a:ext cx="5577120" cy="828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4"/>
          <p:cNvSpPr/>
          <p:nvPr/>
        </p:nvSpPr>
        <p:spPr>
          <a:xfrm flipH="1">
            <a:off x="5217840" y="6235560"/>
            <a:ext cx="1114200" cy="1800"/>
          </a:xfrm>
          <a:prstGeom prst="line">
            <a:avLst/>
          </a:prstGeom>
          <a:ln w="7632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55"/>
          <p:cNvSpPr/>
          <p:nvPr/>
        </p:nvSpPr>
        <p:spPr>
          <a:xfrm flipV="1">
            <a:off x="2770200" y="6235200"/>
            <a:ext cx="1114560" cy="1800"/>
          </a:xfrm>
          <a:prstGeom prst="line">
            <a:avLst/>
          </a:prstGeom>
          <a:ln w="7632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6"/>
          <p:cNvSpPr/>
          <p:nvPr/>
        </p:nvSpPr>
        <p:spPr>
          <a:xfrm>
            <a:off x="3203640" y="5950080"/>
            <a:ext cx="27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拉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7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dur="indefinite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dur="indefinite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remove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dur="indefinite" nodeType="afterEffect" fill="hold" presetClass="entr" presetID="17" presetSubtype="2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dur="indefinite" nodeType="afterEffect" fill="hold" presetClass="entr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 rot="670200">
            <a:off x="6889320" y="4365360"/>
            <a:ext cx="2011320" cy="20653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556000" y="69228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在三角形框架上的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25"/>
          <p:cNvGrpSpPr/>
          <p:nvPr/>
        </p:nvGrpSpPr>
        <p:grpSpPr>
          <a:xfrm>
            <a:off x="1906560" y="1413000"/>
            <a:ext cx="5152320" cy="4968720"/>
            <a:chOff x="1906560" y="1413000"/>
            <a:chExt cx="5152320" cy="4968720"/>
          </a:xfrm>
        </p:grpSpPr>
        <p:sp>
          <p:nvSpPr>
            <p:cNvPr id="112" name="Line 26"/>
            <p:cNvSpPr/>
            <p:nvPr/>
          </p:nvSpPr>
          <p:spPr>
            <a:xfrm flipV="1">
              <a:off x="1906560" y="1413000"/>
              <a:ext cx="2784240" cy="49687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27"/>
            <p:cNvSpPr/>
            <p:nvPr/>
          </p:nvSpPr>
          <p:spPr>
            <a:xfrm>
              <a:off x="4339800" y="1483560"/>
              <a:ext cx="2719080" cy="489564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Line 28"/>
          <p:cNvSpPr/>
          <p:nvPr/>
        </p:nvSpPr>
        <p:spPr>
          <a:xfrm flipH="1" flipV="1">
            <a:off x="1661400" y="6087600"/>
            <a:ext cx="5576040" cy="684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9"/>
          <p:cNvSpPr/>
          <p:nvPr/>
        </p:nvSpPr>
        <p:spPr>
          <a:xfrm flipH="1">
            <a:off x="2411280" y="6381720"/>
            <a:ext cx="1114560" cy="1440"/>
          </a:xfrm>
          <a:prstGeom prst="line">
            <a:avLst/>
          </a:prstGeom>
          <a:ln w="7632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30"/>
          <p:cNvSpPr/>
          <p:nvPr/>
        </p:nvSpPr>
        <p:spPr>
          <a:xfrm>
            <a:off x="5148360" y="6453360"/>
            <a:ext cx="1114200" cy="0"/>
          </a:xfrm>
          <a:prstGeom prst="line">
            <a:avLst/>
          </a:prstGeom>
          <a:ln w="7632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1"/>
          <p:cNvSpPr/>
          <p:nvPr/>
        </p:nvSpPr>
        <p:spPr>
          <a:xfrm>
            <a:off x="3132000" y="6093000"/>
            <a:ext cx="271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推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2"/>
          <p:cNvSpPr/>
          <p:nvPr/>
        </p:nvSpPr>
        <p:spPr>
          <a:xfrm>
            <a:off x="2174760" y="2924640"/>
            <a:ext cx="901800" cy="717840"/>
          </a:xfrm>
          <a:prstGeom prst="line">
            <a:avLst/>
          </a:prstGeom>
          <a:ln w="7632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3"/>
          <p:cNvSpPr/>
          <p:nvPr/>
        </p:nvSpPr>
        <p:spPr>
          <a:xfrm>
            <a:off x="7096680" y="2781360"/>
            <a:ext cx="667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压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4"/>
          <p:cNvSpPr/>
          <p:nvPr/>
        </p:nvSpPr>
        <p:spPr>
          <a:xfrm>
            <a:off x="1262520" y="2924280"/>
            <a:ext cx="667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压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35"/>
          <p:cNvSpPr/>
          <p:nvPr/>
        </p:nvSpPr>
        <p:spPr>
          <a:xfrm flipH="1">
            <a:off x="5978160" y="3157560"/>
            <a:ext cx="927000" cy="684360"/>
          </a:xfrm>
          <a:prstGeom prst="line">
            <a:avLst/>
          </a:prstGeom>
          <a:ln w="7632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withEffect" fill="hold" presetClass="entr" presetID="5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5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remove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dur="indefinite" nodeType="afterEffect" fill="hold" presetClass="entr" presetID="17" presetSubtype="2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dur="indefinite" nodeType="afterEffect" fill="hold" presetClass="entr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F200703300814262254266253"/>
          <p:cNvPicPr/>
          <p:nvPr/>
        </p:nvPicPr>
        <p:blipFill>
          <a:blip r:embed="rId1"/>
          <a:stretch/>
        </p:blipFill>
        <p:spPr>
          <a:xfrm>
            <a:off x="0" y="0"/>
            <a:ext cx="3924360" cy="5084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W020060918335981252800"/>
          <p:cNvPicPr/>
          <p:nvPr/>
        </p:nvPicPr>
        <p:blipFill>
          <a:blip r:embed="rId2"/>
          <a:stretch/>
        </p:blipFill>
        <p:spPr>
          <a:xfrm>
            <a:off x="0" y="3833640"/>
            <a:ext cx="6372360" cy="3024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20090807172339667"/>
          <p:cNvPicPr/>
          <p:nvPr/>
        </p:nvPicPr>
        <p:blipFill>
          <a:blip r:embed="rId3"/>
          <a:stretch/>
        </p:blipFill>
        <p:spPr>
          <a:xfrm>
            <a:off x="4788000" y="3789360"/>
            <a:ext cx="5219640" cy="3068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xin_010507260824073228754"/>
          <p:cNvPicPr/>
          <p:nvPr/>
        </p:nvPicPr>
        <p:blipFill>
          <a:blip r:embed="rId4"/>
          <a:stretch/>
        </p:blipFill>
        <p:spPr>
          <a:xfrm>
            <a:off x="2987640" y="0"/>
            <a:ext cx="4608720" cy="3789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tt01"/>
          <p:cNvPicPr/>
          <p:nvPr/>
        </p:nvPicPr>
        <p:blipFill>
          <a:blip r:embed="rId5"/>
          <a:stretch/>
        </p:blipFill>
        <p:spPr>
          <a:xfrm>
            <a:off x="7164360" y="0"/>
            <a:ext cx="1979640" cy="3789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7"/>
          <p:cNvSpPr/>
          <p:nvPr/>
        </p:nvSpPr>
        <p:spPr>
          <a:xfrm flipV="1" rot="10800000">
            <a:off x="178920" y="3282840"/>
            <a:ext cx="86425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大型框架结构中的“小格子”是什么形状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未标题-2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4140360" y="189000"/>
            <a:ext cx="4476600" cy="3529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未标题-3"/>
          <p:cNvPicPr/>
          <p:nvPr/>
        </p:nvPicPr>
        <p:blipFill>
          <a:blip r:embed="rId2"/>
          <a:stretch/>
        </p:blipFill>
        <p:spPr>
          <a:xfrm>
            <a:off x="324000" y="2852640"/>
            <a:ext cx="4319280" cy="366264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4">
            <a:hlinkClick r:id="rId3" action="ppaction://hlinksldjump"/>
          </p:cNvPr>
          <p:cNvSpPr/>
          <p:nvPr/>
        </p:nvSpPr>
        <p:spPr>
          <a:xfrm>
            <a:off x="8640720" y="6354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930960" y="62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正方体框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816440" y="776160"/>
            <a:ext cx="31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样加固正方体框框架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995640" y="19890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正方体框架承载向下的压力，哪些地方可以不加斜杆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698000" y="4004280"/>
            <a:ext cx="304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斜杆加固正方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框架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的承重能力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多少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SDC12877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79280" y="1989000"/>
            <a:ext cx="3168720" cy="381636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1"/>
          <p:cNvSpPr/>
          <p:nvPr/>
        </p:nvSpPr>
        <p:spPr>
          <a:xfrm>
            <a:off x="468360" y="6351480"/>
            <a:ext cx="73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380880" y="1700280"/>
            <a:ext cx="6639120" cy="47768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670200">
            <a:off x="6933960" y="1447920"/>
            <a:ext cx="1963440" cy="2016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36"/>
          <p:cNvGrpSpPr/>
          <p:nvPr/>
        </p:nvGrpSpPr>
        <p:grpSpPr>
          <a:xfrm>
            <a:off x="533520" y="1981080"/>
            <a:ext cx="5486400" cy="3809880"/>
            <a:chOff x="533520" y="1981080"/>
            <a:chExt cx="5486400" cy="3809880"/>
          </a:xfrm>
        </p:grpSpPr>
        <p:sp>
          <p:nvSpPr>
            <p:cNvPr id="140" name="Rectangle 7"/>
            <p:cNvSpPr/>
            <p:nvPr/>
          </p:nvSpPr>
          <p:spPr>
            <a:xfrm>
              <a:off x="3022560" y="1981080"/>
              <a:ext cx="59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宋体"/>
                </a:rPr>
                <a:t>实验名称：做一个稳固的立方体框架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29"/>
            <p:cNvSpPr/>
            <p:nvPr/>
          </p:nvSpPr>
          <p:spPr>
            <a:xfrm>
              <a:off x="533520" y="2819160"/>
              <a:ext cx="5486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材料准备：横杆（  ）根     竖杆（  ）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斜杆（  ）根     橡皮筋（  ）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1"/>
            <p:cNvSpPr/>
            <p:nvPr/>
          </p:nvSpPr>
          <p:spPr>
            <a:xfrm>
              <a:off x="838440" y="3809880"/>
              <a:ext cx="1981080" cy="198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32"/>
            <p:cNvSpPr/>
            <p:nvPr/>
          </p:nvSpPr>
          <p:spPr>
            <a:xfrm>
              <a:off x="3952440" y="387036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制作好的框架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33"/>
            <p:cNvSpPr/>
            <p:nvPr/>
          </p:nvSpPr>
          <p:spPr>
            <a:xfrm>
              <a:off x="3581640" y="3809880"/>
              <a:ext cx="1981080" cy="198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34"/>
            <p:cNvSpPr/>
            <p:nvPr/>
          </p:nvSpPr>
          <p:spPr>
            <a:xfrm>
              <a:off x="1516320" y="38862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制作草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Rectangle 35"/>
          <p:cNvSpPr/>
          <p:nvPr/>
        </p:nvSpPr>
        <p:spPr>
          <a:xfrm>
            <a:off x="685800" y="594360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测验承重力：这个框架可以托（  ）本科学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7"/>
          <p:cNvSpPr/>
          <p:nvPr/>
        </p:nvSpPr>
        <p:spPr>
          <a:xfrm>
            <a:off x="-1143000" y="106668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38"/>
          <p:cNvSpPr/>
          <p:nvPr/>
        </p:nvSpPr>
        <p:spPr>
          <a:xfrm>
            <a:off x="4419720" y="457200"/>
            <a:ext cx="3200400" cy="1066680"/>
          </a:xfrm>
          <a:prstGeom prst="wedgeRoundRectCallout">
            <a:avLst>
              <a:gd name="adj1" fmla="val 46625"/>
              <a:gd name="adj2" fmla="val 9166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比一比，哪组的框架承重最多，用的材料最少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6" descr="{2AF7D54B-1E57-45DA-AF4D-AEB28BCA506E}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031"/>
          <p:cNvSpPr/>
          <p:nvPr/>
        </p:nvSpPr>
        <p:spPr>
          <a:xfrm>
            <a:off x="3886200" y="2133720"/>
            <a:ext cx="4495680" cy="1752480"/>
          </a:xfrm>
          <a:prstGeom prst="cloudCallout">
            <a:avLst>
              <a:gd name="adj1" fmla="val -80824"/>
              <a:gd name="adj2" fmla="val 41939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33"/>
          <p:cNvSpPr/>
          <p:nvPr/>
        </p:nvSpPr>
        <p:spPr>
          <a:xfrm>
            <a:off x="4343400" y="2590920"/>
            <a:ext cx="387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四边形框架有什么特点，它又有什么作用呢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0B05-06DD-4A0A-8BC0-3E143DF8E35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 rot="10800000">
            <a:off x="-360" y="-360"/>
            <a:ext cx="9140760" cy="1676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3240" y="4869000"/>
            <a:ext cx="9140760" cy="1989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{EE25B636-30B5-49D8-840F-699D916E9B91}0"/>
          <p:cNvPicPr/>
          <p:nvPr/>
        </p:nvPicPr>
        <p:blipFill>
          <a:blip r:embed="rId3"/>
          <a:stretch/>
        </p:blipFill>
        <p:spPr>
          <a:xfrm>
            <a:off x="539640" y="765000"/>
            <a:ext cx="3465720" cy="5112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2"/>
          <p:cNvSpPr/>
          <p:nvPr/>
        </p:nvSpPr>
        <p:spPr>
          <a:xfrm>
            <a:off x="4356000" y="692280"/>
            <a:ext cx="3816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埃非尔铁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8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动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8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开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距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塔高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20.7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，是当时最高建筑，保持了世界记录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年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除了四个脚是用钢筋水泥之外，整个铁塔是用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吨钢铁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金属部件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个铆钉连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 rot="10800000">
            <a:off x="-360" y="-360"/>
            <a:ext cx="9140760" cy="1676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3240" y="4869000"/>
            <a:ext cx="9140760" cy="1989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{CC6A8F0B-5B38-4B53-8F12-9219DA21F8D9}0"/>
          <p:cNvPicPr/>
          <p:nvPr/>
        </p:nvPicPr>
        <p:blipFill>
          <a:blip r:embed="rId3"/>
          <a:stretch/>
        </p:blipFill>
        <p:spPr>
          <a:xfrm>
            <a:off x="179280" y="0"/>
            <a:ext cx="8675640" cy="61196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0"/>
          <p:cNvSpPr/>
          <p:nvPr/>
        </p:nvSpPr>
        <p:spPr>
          <a:xfrm>
            <a:off x="6084720" y="623736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武汉长江大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 rot="10800000">
            <a:off x="-360" y="-360"/>
            <a:ext cx="9140760" cy="1676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3240" y="4869000"/>
            <a:ext cx="9140760" cy="1989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6672960" y="6237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压线架线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2513d"/>
          <p:cNvPicPr/>
          <p:nvPr/>
        </p:nvPicPr>
        <p:blipFill>
          <a:blip r:embed="rId3"/>
          <a:stretch/>
        </p:blipFill>
        <p:spPr>
          <a:xfrm>
            <a:off x="395280" y="189000"/>
            <a:ext cx="8424720" cy="59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 rot="10800000">
            <a:off x="-360" y="-360"/>
            <a:ext cx="9140760" cy="1676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3240" y="4869000"/>
            <a:ext cx="9140760" cy="1989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6753960" y="6237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石油钻井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2521d"/>
          <p:cNvPicPr/>
          <p:nvPr/>
        </p:nvPicPr>
        <p:blipFill>
          <a:blip r:embed="rId3"/>
          <a:stretch/>
        </p:blipFill>
        <p:spPr>
          <a:xfrm>
            <a:off x="826920" y="260280"/>
            <a:ext cx="7632720" cy="59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7"/>
          <p:cNvSpPr/>
          <p:nvPr/>
        </p:nvSpPr>
        <p:spPr>
          <a:xfrm>
            <a:off x="1547640" y="22654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 rot="10800000">
            <a:off x="-360" y="-360"/>
            <a:ext cx="9140760" cy="1676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3240" y="4869000"/>
            <a:ext cx="9140760" cy="1989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2517d"/>
          <p:cNvPicPr/>
          <p:nvPr/>
        </p:nvPicPr>
        <p:blipFill>
          <a:blip r:embed="rId3"/>
          <a:stretch/>
        </p:blipFill>
        <p:spPr>
          <a:xfrm>
            <a:off x="900000" y="549360"/>
            <a:ext cx="7334280" cy="5715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9"/>
          <p:cNvSpPr/>
          <p:nvPr/>
        </p:nvSpPr>
        <p:spPr>
          <a:xfrm>
            <a:off x="6476400" y="6237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装卸吊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F200703300814262254266253"/>
          <p:cNvPicPr/>
          <p:nvPr/>
        </p:nvPicPr>
        <p:blipFill>
          <a:blip r:embed="rId1"/>
          <a:stretch/>
        </p:blipFill>
        <p:spPr>
          <a:xfrm>
            <a:off x="0" y="0"/>
            <a:ext cx="3924360" cy="5084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W020060918335981252800"/>
          <p:cNvPicPr/>
          <p:nvPr/>
        </p:nvPicPr>
        <p:blipFill>
          <a:blip r:embed="rId2"/>
          <a:stretch/>
        </p:blipFill>
        <p:spPr>
          <a:xfrm>
            <a:off x="0" y="3833640"/>
            <a:ext cx="6372360" cy="3024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20090807172339667"/>
          <p:cNvPicPr/>
          <p:nvPr/>
        </p:nvPicPr>
        <p:blipFill>
          <a:blip r:embed="rId3"/>
          <a:stretch/>
        </p:blipFill>
        <p:spPr>
          <a:xfrm>
            <a:off x="4788000" y="3789360"/>
            <a:ext cx="5219640" cy="3068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xin_010507260824073228754"/>
          <p:cNvPicPr/>
          <p:nvPr/>
        </p:nvPicPr>
        <p:blipFill>
          <a:blip r:embed="rId4"/>
          <a:stretch/>
        </p:blipFill>
        <p:spPr>
          <a:xfrm>
            <a:off x="2987640" y="0"/>
            <a:ext cx="4608720" cy="3789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tt01"/>
          <p:cNvPicPr/>
          <p:nvPr/>
        </p:nvPicPr>
        <p:blipFill>
          <a:blip r:embed="rId5"/>
          <a:stretch/>
        </p:blipFill>
        <p:spPr>
          <a:xfrm>
            <a:off x="7164360" y="0"/>
            <a:ext cx="1979640" cy="37893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4711680" y="3499560"/>
            <a:ext cx="48852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像这种骨架式的构造叫做框架结构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1332000" y="1052640"/>
            <a:ext cx="5976720" cy="46814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 rot="670200">
            <a:off x="7179840" y="4842000"/>
            <a:ext cx="1963800" cy="2016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3203640" y="260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框  架  结  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2.MPG" descr=""/>
          <p:cNvPicPr/>
          <p:nvPr/>
        </p:nvPicPr>
        <p:blipFill>
          <a:blip r:embed="rId3"/>
          <a:stretch/>
        </p:blipFill>
        <p:spPr>
          <a:xfrm>
            <a:off x="1403280" y="1125360"/>
            <a:ext cx="5905440" cy="454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5076720" y="1844640"/>
            <a:ext cx="3095640" cy="302580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611280" y="1989000"/>
            <a:ext cx="3671640" cy="27799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671480" y="5516640"/>
            <a:ext cx="18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角形框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6156360" y="5589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方形框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3536280" y="76392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简单的框架结构研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05:41:1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0:35Z</dcterms:modified>
  <cp:revision>5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