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95E08-A0B1-4B5E-9C25-0EC2B5A027F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D3044-99D1-47D6-9A79-4F58626D724D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0C3D-17BB-4E23-B508-20F41062D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FE226-E757-4C2D-86BB-FD691A30F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8267-42E0-4386-8BB0-E18D7B087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1DFB9-2C6B-4A02-AFF9-4F2ED4B568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887C-6DA2-4781-BA46-40E19474E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D7BEF-D264-45D7-B372-89604EBA2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29ED-1D73-4191-B851-BBE64147E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36F2-8483-4474-91AA-C770073B8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ECFC-C62B-446F-A064-5A02D033A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78D-51CE-44A1-BF95-2B9C3F25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A0BE-6345-4010-B1EE-1994A0166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86B3-ABB9-473B-AA57-765F4FACB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EE989-2AAE-4CF5-B275-0F3A58D755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135000" y="57240"/>
            <a:ext cx="8834400" cy="6696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4"/>
          <p:cNvSpPr/>
          <p:nvPr/>
        </p:nvSpPr>
        <p:spPr>
          <a:xfrm>
            <a:off x="1332000" y="2060640"/>
            <a:ext cx="6553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622440" y="765000"/>
            <a:ext cx="79200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3300"/>
                </a:solidFill>
                <a:latin typeface="Arial"/>
                <a:ea typeface="华文琥珀"/>
              </a:rPr>
              <a:t>证明地球在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6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800" spc="-1" strike="noStrike">
                <a:solidFill>
                  <a:srgbClr val="ff3300"/>
                </a:solidFill>
                <a:latin typeface="Arial"/>
                <a:ea typeface="华文琥珀"/>
              </a:rPr>
              <a:t>自转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2163960" y="6021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傅科摆foucault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" dur="28000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75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66960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1332000" y="404640"/>
            <a:ext cx="381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质疑在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0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年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u=2415235194,206824528&amp;fm=0&amp;gp=0"/>
          <p:cNvPicPr/>
          <p:nvPr/>
        </p:nvPicPr>
        <p:blipFill>
          <a:blip r:embed="rId1"/>
          <a:stretch/>
        </p:blipFill>
        <p:spPr>
          <a:xfrm>
            <a:off x="1042920" y="1844640"/>
            <a:ext cx="2544840" cy="36003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140360" y="620640"/>
            <a:ext cx="4752720" cy="162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傅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法国物理学家。在家里研究摆的规律时偶然发现摆的特性。为此他开始着手实验证明哥白尼日心学说的关键：地球是否自转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</a:rPr>
              <a:t>傅科完成了举世瞩目的傅科摆实验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，从而使人类第一次亲眼看到了地球是在自转，从而使更多的人开始接受哥白尼的日心学说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952720" cy="80316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3" descr=""/>
          <p:cNvPicPr/>
          <p:nvPr/>
        </p:nvPicPr>
        <p:blipFill>
          <a:blip r:embed="rId2"/>
          <a:stretch/>
        </p:blipFill>
        <p:spPr>
          <a:xfrm>
            <a:off x="-252360" y="1484280"/>
            <a:ext cx="9396360" cy="5140440"/>
          </a:xfrm>
          <a:prstGeom prst="rect">
            <a:avLst/>
          </a:prstGeom>
          <a:ln w="0">
            <a:noFill/>
          </a:ln>
        </p:spPr>
      </p:pic>
      <p:sp>
        <p:nvSpPr>
          <p:cNvPr id="94" name="Text Box 4"/>
          <p:cNvSpPr/>
          <p:nvPr/>
        </p:nvSpPr>
        <p:spPr>
          <a:xfrm>
            <a:off x="611280" y="907920"/>
            <a:ext cx="280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2916360" y="2276640"/>
            <a:ext cx="216036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6"/>
          <p:cNvSpPr/>
          <p:nvPr/>
        </p:nvSpPr>
        <p:spPr>
          <a:xfrm flipV="1">
            <a:off x="684360" y="4508640"/>
            <a:ext cx="8208720" cy="72720"/>
          </a:xfrm>
          <a:prstGeom prst="line">
            <a:avLst/>
          </a:prstGeom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7"/>
          <p:cNvSpPr/>
          <p:nvPr/>
        </p:nvSpPr>
        <p:spPr>
          <a:xfrm flipV="1">
            <a:off x="179280" y="5229360"/>
            <a:ext cx="2737080" cy="71280"/>
          </a:xfrm>
          <a:prstGeom prst="line">
            <a:avLst/>
          </a:prstGeom>
          <a:ln w="38160">
            <a:solidFill>
              <a:srgbClr val="3333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8"/>
          <p:cNvSpPr/>
          <p:nvPr/>
        </p:nvSpPr>
        <p:spPr>
          <a:xfrm>
            <a:off x="1835280" y="6021360"/>
            <a:ext cx="3744720" cy="0"/>
          </a:xfrm>
          <a:prstGeom prst="line">
            <a:avLst/>
          </a:prstGeom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611280" y="907920"/>
            <a:ext cx="33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付科摆的特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3"/>
          <p:cNvSpPr/>
          <p:nvPr/>
        </p:nvSpPr>
        <p:spPr>
          <a:xfrm>
            <a:off x="1143000" y="1981080"/>
            <a:ext cx="358128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特殊的悬挂装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1143000" y="281952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长摆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143000" y="3657600"/>
            <a:ext cx="29718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重摆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143000" y="4495680"/>
            <a:ext cx="3886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刻有度数的圆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" name="Group 7"/>
          <p:cNvGrpSpPr/>
          <p:nvPr/>
        </p:nvGrpSpPr>
        <p:grpSpPr>
          <a:xfrm>
            <a:off x="6248520" y="760320"/>
            <a:ext cx="1066680" cy="839880"/>
            <a:chOff x="6248520" y="760320"/>
            <a:chExt cx="1066680" cy="839880"/>
          </a:xfrm>
        </p:grpSpPr>
        <p:grpSp>
          <p:nvGrpSpPr>
            <p:cNvPr id="105" name="Group 8"/>
            <p:cNvGrpSpPr/>
            <p:nvPr/>
          </p:nvGrpSpPr>
          <p:grpSpPr>
            <a:xfrm>
              <a:off x="6248520" y="760320"/>
              <a:ext cx="1066680" cy="76320"/>
              <a:chOff x="6248520" y="760320"/>
              <a:chExt cx="1066680" cy="76320"/>
            </a:xfrm>
          </p:grpSpPr>
          <p:sp>
            <p:nvSpPr>
              <p:cNvPr id="106" name="Line 9"/>
              <p:cNvSpPr/>
              <p:nvPr/>
            </p:nvSpPr>
            <p:spPr>
              <a:xfrm>
                <a:off x="6248520" y="836640"/>
                <a:ext cx="106668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7" name="Group 10"/>
              <p:cNvGrpSpPr/>
              <p:nvPr/>
            </p:nvGrpSpPr>
            <p:grpSpPr>
              <a:xfrm>
                <a:off x="6400800" y="760320"/>
                <a:ext cx="838080" cy="76320"/>
                <a:chOff x="6400800" y="760320"/>
                <a:chExt cx="838080" cy="76320"/>
              </a:xfrm>
            </p:grpSpPr>
            <p:grpSp>
              <p:nvGrpSpPr>
                <p:cNvPr id="108" name="Group 11"/>
                <p:cNvGrpSpPr/>
                <p:nvPr/>
              </p:nvGrpSpPr>
              <p:grpSpPr>
                <a:xfrm>
                  <a:off x="6400800" y="760320"/>
                  <a:ext cx="380880" cy="76320"/>
                  <a:chOff x="6400800" y="760320"/>
                  <a:chExt cx="380880" cy="76320"/>
                </a:xfrm>
              </p:grpSpPr>
              <p:sp>
                <p:nvSpPr>
                  <p:cNvPr id="109" name="Line 12"/>
                  <p:cNvSpPr/>
                  <p:nvPr/>
                </p:nvSpPr>
                <p:spPr>
                  <a:xfrm flipV="1">
                    <a:off x="6400800" y="760320"/>
                    <a:ext cx="76320" cy="76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Line 13"/>
                  <p:cNvSpPr/>
                  <p:nvPr/>
                </p:nvSpPr>
                <p:spPr>
                  <a:xfrm flipV="1">
                    <a:off x="6553080" y="760320"/>
                    <a:ext cx="76320" cy="76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Line 14"/>
                  <p:cNvSpPr/>
                  <p:nvPr/>
                </p:nvSpPr>
                <p:spPr>
                  <a:xfrm flipV="1">
                    <a:off x="6705720" y="760320"/>
                    <a:ext cx="75960" cy="76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2" name="Group 15"/>
                <p:cNvGrpSpPr/>
                <p:nvPr/>
              </p:nvGrpSpPr>
              <p:grpSpPr>
                <a:xfrm>
                  <a:off x="6858000" y="760320"/>
                  <a:ext cx="380880" cy="76320"/>
                  <a:chOff x="6858000" y="760320"/>
                  <a:chExt cx="380880" cy="76320"/>
                </a:xfrm>
              </p:grpSpPr>
              <p:sp>
                <p:nvSpPr>
                  <p:cNvPr id="113" name="Line 16"/>
                  <p:cNvSpPr/>
                  <p:nvPr/>
                </p:nvSpPr>
                <p:spPr>
                  <a:xfrm flipV="1">
                    <a:off x="6858000" y="760320"/>
                    <a:ext cx="76320" cy="76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Line 17"/>
                  <p:cNvSpPr/>
                  <p:nvPr/>
                </p:nvSpPr>
                <p:spPr>
                  <a:xfrm flipV="1">
                    <a:off x="7010280" y="760320"/>
                    <a:ext cx="76320" cy="76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Line 18"/>
                  <p:cNvSpPr/>
                  <p:nvPr/>
                </p:nvSpPr>
                <p:spPr>
                  <a:xfrm flipV="1">
                    <a:off x="7162920" y="760320"/>
                    <a:ext cx="75960" cy="76320"/>
                  </a:xfrm>
                  <a:prstGeom prst="line">
                    <a:avLst/>
                  </a:prstGeom>
                  <a:ln w="284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520" bIns="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sp>
          <p:nvSpPr>
            <p:cNvPr id="116" name="Line 19"/>
            <p:cNvSpPr/>
            <p:nvPr/>
          </p:nvSpPr>
          <p:spPr>
            <a:xfrm>
              <a:off x="6782040" y="836640"/>
              <a:ext cx="0" cy="30456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Arc 20"/>
            <p:cNvSpPr/>
            <p:nvPr/>
          </p:nvSpPr>
          <p:spPr>
            <a:xfrm>
              <a:off x="6728040" y="1143000"/>
              <a:ext cx="284040" cy="457200"/>
            </a:xfrm>
            <a:custGeom>
              <a:avLst/>
              <a:gdLst/>
              <a:ahLst/>
              <a:rect l="l" t="t" r="r" b="b"/>
              <a:pathLst>
                <a:path fill="none" w="26839" h="43200">
                  <a:moveTo>
                    <a:pt x="5238" y="0"/>
                  </a:moveTo>
                  <a:cubicBezTo>
                    <a:pt x="17168" y="0"/>
                    <a:pt x="26839" y="9670"/>
                    <a:pt x="26839" y="21600"/>
                  </a:cubicBezTo>
                  <a:cubicBezTo>
                    <a:pt x="26839" y="33529"/>
                    <a:pt x="17168" y="43200"/>
                    <a:pt x="5239" y="43200"/>
                  </a:cubicBezTo>
                  <a:cubicBezTo>
                    <a:pt x="3472" y="43200"/>
                    <a:pt x="1713" y="42983"/>
                    <a:pt x="-1" y="42555"/>
                  </a:cubicBezTo>
                </a:path>
                <a:path stroke="0" w="26839" h="43200">
                  <a:moveTo>
                    <a:pt x="5238" y="0"/>
                  </a:moveTo>
                  <a:cubicBezTo>
                    <a:pt x="17168" y="0"/>
                    <a:pt x="26839" y="9670"/>
                    <a:pt x="26839" y="21600"/>
                  </a:cubicBezTo>
                  <a:cubicBezTo>
                    <a:pt x="26839" y="33529"/>
                    <a:pt x="17168" y="43200"/>
                    <a:pt x="5239" y="43200"/>
                  </a:cubicBezTo>
                  <a:cubicBezTo>
                    <a:pt x="3472" y="43200"/>
                    <a:pt x="1713" y="42983"/>
                    <a:pt x="-1" y="42555"/>
                  </a:cubicBezTo>
                  <a:lnTo>
                    <a:pt x="5239" y="21600"/>
                  </a:lnTo>
                  <a:lnTo>
                    <a:pt x="5238" y="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Group 21"/>
          <p:cNvGrpSpPr/>
          <p:nvPr/>
        </p:nvGrpSpPr>
        <p:grpSpPr>
          <a:xfrm>
            <a:off x="6625080" y="1369440"/>
            <a:ext cx="291960" cy="3507480"/>
            <a:chOff x="6625080" y="1369440"/>
            <a:chExt cx="291960" cy="3507480"/>
          </a:xfrm>
        </p:grpSpPr>
        <p:grpSp>
          <p:nvGrpSpPr>
            <p:cNvPr id="119" name="Group 22"/>
            <p:cNvGrpSpPr/>
            <p:nvPr/>
          </p:nvGrpSpPr>
          <p:grpSpPr>
            <a:xfrm>
              <a:off x="6625080" y="1369440"/>
              <a:ext cx="291960" cy="3354840"/>
              <a:chOff x="6625080" y="1369440"/>
              <a:chExt cx="291960" cy="3354840"/>
            </a:xfrm>
          </p:grpSpPr>
          <p:sp>
            <p:nvSpPr>
              <p:cNvPr id="120" name="Arc 23"/>
              <p:cNvSpPr/>
              <p:nvPr/>
            </p:nvSpPr>
            <p:spPr>
              <a:xfrm rot="10858800">
                <a:off x="6628680" y="1371600"/>
                <a:ext cx="284040" cy="457200"/>
              </a:xfrm>
              <a:custGeom>
                <a:avLst/>
                <a:gdLst/>
                <a:ahLst/>
                <a:rect l="l" t="t" r="r" b="b"/>
                <a:pathLst>
                  <a:path fill="none" w="26839" h="43200">
                    <a:moveTo>
                      <a:pt x="5238" y="0"/>
                    </a:moveTo>
                    <a:cubicBezTo>
                      <a:pt x="17168" y="0"/>
                      <a:pt x="26839" y="9670"/>
                      <a:pt x="26839" y="21600"/>
                    </a:cubicBezTo>
                    <a:cubicBezTo>
                      <a:pt x="26839" y="33529"/>
                      <a:pt x="17168" y="43200"/>
                      <a:pt x="5239" y="43200"/>
                    </a:cubicBezTo>
                    <a:cubicBezTo>
                      <a:pt x="3472" y="43200"/>
                      <a:pt x="1713" y="42983"/>
                      <a:pt x="-1" y="42555"/>
                    </a:cubicBezTo>
                  </a:path>
                  <a:path stroke="0" w="26839" h="43200">
                    <a:moveTo>
                      <a:pt x="5238" y="0"/>
                    </a:moveTo>
                    <a:cubicBezTo>
                      <a:pt x="17168" y="0"/>
                      <a:pt x="26839" y="9670"/>
                      <a:pt x="26839" y="21600"/>
                    </a:cubicBezTo>
                    <a:cubicBezTo>
                      <a:pt x="26839" y="33529"/>
                      <a:pt x="17168" y="43200"/>
                      <a:pt x="5239" y="43200"/>
                    </a:cubicBezTo>
                    <a:cubicBezTo>
                      <a:pt x="3472" y="43200"/>
                      <a:pt x="1713" y="42983"/>
                      <a:pt x="-1" y="42555"/>
                    </a:cubicBezTo>
                    <a:lnTo>
                      <a:pt x="5239" y="21600"/>
                    </a:lnTo>
                    <a:lnTo>
                      <a:pt x="5238" y="0"/>
                    </a:lnTo>
                    <a:close/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Line 24"/>
              <p:cNvSpPr/>
              <p:nvPr/>
            </p:nvSpPr>
            <p:spPr>
              <a:xfrm>
                <a:off x="6837480" y="1828800"/>
                <a:ext cx="0" cy="2895480"/>
              </a:xfrm>
              <a:prstGeom prst="line">
                <a:avLst/>
              </a:prstGeom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" name="Oval 25"/>
            <p:cNvSpPr/>
            <p:nvPr/>
          </p:nvSpPr>
          <p:spPr>
            <a:xfrm>
              <a:off x="6761160" y="4724280"/>
              <a:ext cx="152280" cy="152640"/>
            </a:xfrm>
            <a:prstGeom prst="ellipse">
              <a:avLst/>
            </a:prstGeom>
            <a:solidFill>
              <a:srgbClr val="bbe0e3"/>
            </a:solidFill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Group 26"/>
          <p:cNvGrpSpPr/>
          <p:nvPr/>
        </p:nvGrpSpPr>
        <p:grpSpPr>
          <a:xfrm>
            <a:off x="5867280" y="4419720"/>
            <a:ext cx="1905120" cy="1066680"/>
            <a:chOff x="5867280" y="4419720"/>
            <a:chExt cx="1905120" cy="1066680"/>
          </a:xfrm>
        </p:grpSpPr>
        <p:sp>
          <p:nvSpPr>
            <p:cNvPr id="124" name="Oval 27"/>
            <p:cNvSpPr/>
            <p:nvPr/>
          </p:nvSpPr>
          <p:spPr>
            <a:xfrm>
              <a:off x="5867280" y="4419720"/>
              <a:ext cx="1905120" cy="1066680"/>
            </a:xfrm>
            <a:prstGeom prst="ellips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未知"/>
            <p:cNvSpPr/>
            <p:nvPr/>
          </p:nvSpPr>
          <p:spPr>
            <a:xfrm rot="20569800">
              <a:off x="6251040" y="4898880"/>
              <a:ext cx="1143000" cy="152280"/>
            </a:xfrm>
            <a:custGeom>
              <a:avLst/>
              <a:gdLst/>
              <a:ahLst/>
              <a:rect l="l" t="t" r="r" b="b"/>
              <a:pathLst>
                <a:path w="624" h="224">
                  <a:moveTo>
                    <a:pt x="0" y="192"/>
                  </a:moveTo>
                  <a:cubicBezTo>
                    <a:pt x="92" y="208"/>
                    <a:pt x="184" y="224"/>
                    <a:pt x="288" y="192"/>
                  </a:cubicBezTo>
                  <a:cubicBezTo>
                    <a:pt x="392" y="160"/>
                    <a:pt x="508" y="80"/>
                    <a:pt x="624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未知"/>
            <p:cNvSpPr/>
            <p:nvPr/>
          </p:nvSpPr>
          <p:spPr>
            <a:xfrm>
              <a:off x="6248160" y="4800600"/>
              <a:ext cx="1067040" cy="304920"/>
            </a:xfrm>
            <a:custGeom>
              <a:avLst/>
              <a:gdLst/>
              <a:ahLst/>
              <a:rect l="l" t="t" r="r" b="b"/>
              <a:pathLst>
                <a:path w="672" h="96">
                  <a:moveTo>
                    <a:pt x="0" y="0"/>
                  </a:moveTo>
                  <a:cubicBezTo>
                    <a:pt x="64" y="16"/>
                    <a:pt x="128" y="32"/>
                    <a:pt x="240" y="48"/>
                  </a:cubicBezTo>
                  <a:cubicBezTo>
                    <a:pt x="352" y="64"/>
                    <a:pt x="592" y="88"/>
                    <a:pt x="672" y="96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未知"/>
            <p:cNvSpPr/>
            <p:nvPr/>
          </p:nvSpPr>
          <p:spPr>
            <a:xfrm>
              <a:off x="6710400" y="4633920"/>
              <a:ext cx="28440" cy="171720"/>
            </a:xfrm>
            <a:custGeom>
              <a:avLst/>
              <a:gdLst/>
              <a:ahLst/>
              <a:rect l="l" t="t" r="r" b="b"/>
              <a:pathLst>
                <a:path w="18" h="108">
                  <a:moveTo>
                    <a:pt x="0" y="0"/>
                  </a:moveTo>
                  <a:cubicBezTo>
                    <a:pt x="6" y="35"/>
                    <a:pt x="18" y="73"/>
                    <a:pt x="18" y="108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未知"/>
            <p:cNvSpPr/>
            <p:nvPr/>
          </p:nvSpPr>
          <p:spPr>
            <a:xfrm>
              <a:off x="6838920" y="5019840"/>
              <a:ext cx="114120" cy="228600"/>
            </a:xfrm>
            <a:custGeom>
              <a:avLst/>
              <a:gdLst/>
              <a:ahLst/>
              <a:rect l="l" t="t" r="r" b="b"/>
              <a:pathLst>
                <a:path w="72" h="144">
                  <a:moveTo>
                    <a:pt x="0" y="0"/>
                  </a:moveTo>
                  <a:cubicBezTo>
                    <a:pt x="31" y="46"/>
                    <a:pt x="32" y="104"/>
                    <a:pt x="72" y="144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Line 32"/>
          <p:cNvSpPr/>
          <p:nvPr/>
        </p:nvSpPr>
        <p:spPr>
          <a:xfrm>
            <a:off x="6781680" y="1371600"/>
            <a:ext cx="0" cy="228600"/>
          </a:xfrm>
          <a:prstGeom prst="line">
            <a:avLst/>
          </a:prstGeom>
          <a:ln w="284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讨论：傅科摆有什么特别之处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傅科摆摆动后发生可什么现象？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它为什么能证明地球在自转？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2"/>
          <p:cNvSpPr/>
          <p:nvPr/>
        </p:nvSpPr>
        <p:spPr>
          <a:xfrm>
            <a:off x="685800" y="829440"/>
            <a:ext cx="7772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傅科摆实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3"/>
          <p:cNvSpPr/>
          <p:nvPr/>
        </p:nvSpPr>
        <p:spPr>
          <a:xfrm>
            <a:off x="838080" y="2085840"/>
            <a:ext cx="32004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851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，傅科在巴黎万神庙用单摆成功的作了一次著名的实验，用以证明地球自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图为万神庙外观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巴黎万神庙(国葬院)"/>
          <p:cNvPicPr/>
          <p:nvPr/>
        </p:nvPicPr>
        <p:blipFill>
          <a:blip r:embed="rId1"/>
          <a:stretch/>
        </p:blipFill>
        <p:spPr>
          <a:xfrm>
            <a:off x="4191120" y="1905120"/>
            <a:ext cx="4321080" cy="391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2"/>
          <p:cNvSpPr/>
          <p:nvPr/>
        </p:nvSpPr>
        <p:spPr>
          <a:xfrm>
            <a:off x="5940360" y="1523880"/>
            <a:ext cx="83844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摆绳长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6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3"/>
          <p:cNvSpPr/>
          <p:nvPr/>
        </p:nvSpPr>
        <p:spPr>
          <a:xfrm>
            <a:off x="6626160" y="1523880"/>
            <a:ext cx="838440" cy="29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摆锤重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4"/>
          <p:cNvSpPr/>
          <p:nvPr/>
        </p:nvSpPr>
        <p:spPr>
          <a:xfrm>
            <a:off x="7311960" y="1523880"/>
            <a:ext cx="83844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下方为直径６米的沙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5"/>
          <p:cNvSpPr/>
          <p:nvPr/>
        </p:nvSpPr>
        <p:spPr>
          <a:xfrm>
            <a:off x="992520" y="465120"/>
            <a:ext cx="1399320" cy="56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悬挂于大厅的傅科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6" descr="万神庙大厅的傅科摆"/>
          <p:cNvPicPr/>
          <p:nvPr/>
        </p:nvPicPr>
        <p:blipFill>
          <a:blip r:embed="rId4"/>
          <a:stretch/>
        </p:blipFill>
        <p:spPr>
          <a:xfrm>
            <a:off x="2340000" y="457200"/>
            <a:ext cx="360036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" descr="当年傅科摆实验用的标尺和沙盘"/>
          <p:cNvPicPr/>
          <p:nvPr/>
        </p:nvPicPr>
        <p:blipFill>
          <a:blip r:embed="rId1"/>
          <a:stretch/>
        </p:blipFill>
        <p:spPr>
          <a:xfrm>
            <a:off x="4267080" y="990720"/>
            <a:ext cx="3846600" cy="453852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3"/>
          <p:cNvSpPr/>
          <p:nvPr/>
        </p:nvSpPr>
        <p:spPr>
          <a:xfrm>
            <a:off x="1371600" y="1600200"/>
            <a:ext cx="2209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150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年前傅科摆实验所用的 沙盘和标尺 现仍保存于巴黎万神庙大厅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4" descr=""/>
          <p:cNvPicPr/>
          <p:nvPr/>
        </p:nvPicPr>
        <p:blipFill>
          <a:blip r:embed="rId1"/>
          <a:stretch/>
        </p:blipFill>
        <p:spPr>
          <a:xfrm>
            <a:off x="1619280" y="390600"/>
            <a:ext cx="5697360" cy="3633840"/>
          </a:xfrm>
          <a:prstGeom prst="rect">
            <a:avLst/>
          </a:prstGeom>
          <a:ln w="0">
            <a:noFill/>
          </a:ln>
        </p:spPr>
      </p:pic>
      <p:sp>
        <p:nvSpPr>
          <p:cNvPr id="143" name="Text Box 6"/>
          <p:cNvSpPr/>
          <p:nvPr/>
        </p:nvSpPr>
        <p:spPr>
          <a:xfrm>
            <a:off x="412920" y="458136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“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傅科摆”作为地球自转的有力证据，现已为世界所公认。我国北京天文馆的大厅就有一个“傅科摆”，一个金属球吊在高高的圆穹顶上，摆下面是一个有刻度的大圆盘。摆摆动时人们可以在刻度盘上读取旋转的度数。前去参观的人们都喜欢在这里停留一段时间，亲眼看看地球是怎样自转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7"/>
          <p:cNvSpPr/>
          <p:nvPr/>
        </p:nvSpPr>
        <p:spPr>
          <a:xfrm>
            <a:off x="3276720" y="407664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北京天文馆“傅科摆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tretch/>
        </p:blipFill>
        <p:spPr>
          <a:xfrm>
            <a:off x="1414440" y="57240"/>
            <a:ext cx="6172200" cy="683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2"/>
          <p:cNvSpPr/>
          <p:nvPr/>
        </p:nvSpPr>
        <p:spPr>
          <a:xfrm>
            <a:off x="0" y="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0" y="90792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古希腊天文学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地球的运动，提出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理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2276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波兰天文学家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_____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关于地球的运动，提出了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______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的理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3564000" y="76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托勒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468360" y="134136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地心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7"/>
          <p:cNvSpPr/>
          <p:nvPr/>
        </p:nvSpPr>
        <p:spPr>
          <a:xfrm>
            <a:off x="3059280" y="220500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哥白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8"/>
          <p:cNvSpPr/>
          <p:nvPr/>
        </p:nvSpPr>
        <p:spPr>
          <a:xfrm>
            <a:off x="179280" y="2708280"/>
            <a:ext cx="172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日心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http://blog.kxsy.net/UploadFiles/2008-6/261434321851.bmp"/>
          <p:cNvPicPr/>
          <p:nvPr/>
        </p:nvPicPr>
        <p:blipFill>
          <a:blip r:embed="rId1"/>
          <a:srcRect l="28234" t="18095" r="29410" b="27662"/>
          <a:stretch/>
        </p:blipFill>
        <p:spPr>
          <a:xfrm>
            <a:off x="2214720" y="2286000"/>
            <a:ext cx="3962160" cy="343836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1680" y="7855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小华从地球自转的方向中判断，认为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点表示的北极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755640" y="692280"/>
            <a:ext cx="59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由于地球自转发生的现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26920" y="1628640"/>
            <a:ext cx="676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河流的偏移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：由北向南流的河，右边的河岸被河水洗刷的要严重一点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900000" y="2637000"/>
            <a:ext cx="6480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900000" y="3068640"/>
            <a:ext cx="605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深井测量法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：从井的中心抛下一个物体，总在 一定的深度与井的东壁相撞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042920" y="4941720"/>
            <a:ext cx="51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吹塑纸条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4" descr=""/>
          <p:cNvPicPr/>
          <p:nvPr/>
        </p:nvPicPr>
        <p:blipFill>
          <a:blip r:embed="rId1"/>
          <a:stretch/>
        </p:blipFill>
        <p:spPr>
          <a:xfrm>
            <a:off x="684360" y="476280"/>
            <a:ext cx="3816360" cy="2843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5" descr=""/>
          <p:cNvPicPr/>
          <p:nvPr/>
        </p:nvPicPr>
        <p:blipFill>
          <a:blip r:embed="rId2"/>
          <a:stretch/>
        </p:blipFill>
        <p:spPr>
          <a:xfrm>
            <a:off x="4427640" y="549360"/>
            <a:ext cx="3941640" cy="27511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6" descr=""/>
          <p:cNvPicPr/>
          <p:nvPr/>
        </p:nvPicPr>
        <p:blipFill>
          <a:blip r:embed="rId3"/>
          <a:stretch/>
        </p:blipFill>
        <p:spPr>
          <a:xfrm>
            <a:off x="826920" y="3429000"/>
            <a:ext cx="3456000" cy="324000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7" descr=""/>
          <p:cNvPicPr/>
          <p:nvPr/>
        </p:nvPicPr>
        <p:blipFill>
          <a:blip r:embed="rId4"/>
          <a:stretch/>
        </p:blipFill>
        <p:spPr>
          <a:xfrm>
            <a:off x="4932360" y="3573360"/>
            <a:ext cx="3672000" cy="2824200"/>
          </a:xfrm>
          <a:prstGeom prst="rect">
            <a:avLst/>
          </a:prstGeom>
          <a:ln w="0">
            <a:noFill/>
          </a:ln>
        </p:spPr>
      </p:pic>
      <p:sp>
        <p:nvSpPr>
          <p:cNvPr id="157" name="Text Box 8"/>
          <p:cNvSpPr/>
          <p:nvPr/>
        </p:nvSpPr>
        <p:spPr>
          <a:xfrm>
            <a:off x="3059280" y="321300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那种观点正确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 txBox="1"/>
          <p:nvPr/>
        </p:nvSpPr>
        <p:spPr>
          <a:xfrm>
            <a:off x="468360" y="18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当钟摆摆动时，在没有外力的作用下，它将保持固定的摆动方向。如果地球在转动，那么钟摆下方的地面将旋转，而悬在空中的摆具有保持原来摆动方向的趋势，对于观察者来说，钟摆的摆动方向将会相对于地面发生变化。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5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法国物理学家傅科为证明地球自转所设计的一种摆，称为博科摆。傅科摆绳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，绳端摆锤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千克，这种摆自由摆动时间较长，便于人们观察。摆下有一个有刻度的圆盘，盘上刻有通过圆心的直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0" y="1125360"/>
            <a:ext cx="45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（一）探井测量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0" y="18921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地球时刻不停地自转，那么，由于自转速度随高度的增加而增大，自高处下降的物体，在下落过程中，必然具有较高的向东的自转速度，因而必然坠落在偏东的地点为了证实这一点，有人曾在很深的矿井中进行实验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实验结果是：自井口中心下落物体，总在一定的深度同矿井东壁相撞。这从另一侧面证实了地球的自转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4"/>
          <p:cNvSpPr/>
          <p:nvPr/>
        </p:nvSpPr>
        <p:spPr>
          <a:xfrm>
            <a:off x="0" y="0"/>
            <a:ext cx="781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黑体"/>
              </a:rPr>
              <a:t>证明地球在自转的其他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1484280"/>
            <a:ext cx="8964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地球时刻不停地自转，那么，地面上水平运动的物体，必然相对地发生持续的右边（北半球）或左边（南半球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根据这种观点，人们分析射出炮弹运动的方向，结果证实了上诉观点的正确性。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"/>
          <p:cNvSpPr/>
          <p:nvPr/>
        </p:nvSpPr>
        <p:spPr>
          <a:xfrm>
            <a:off x="0" y="0"/>
            <a:ext cx="529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(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二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)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炮弹法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"/>
          <p:cNvSpPr/>
          <p:nvPr/>
        </p:nvSpPr>
        <p:spPr>
          <a:xfrm>
            <a:off x="1604880" y="5195880"/>
            <a:ext cx="515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阅读课文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P92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页资料库中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</a:rPr>
              <a:t>地球自转会产生哪些突出现象？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》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28BC4-DFD4-4CEB-8FF2-3BC395B96DF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0" y="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复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0" y="6206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地心说的主要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4"/>
          <p:cNvSpPr/>
          <p:nvPr/>
        </p:nvSpPr>
        <p:spPr>
          <a:xfrm>
            <a:off x="0" y="357336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、日心说的主要内容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5"/>
          <p:cNvSpPr/>
          <p:nvPr/>
        </p:nvSpPr>
        <p:spPr>
          <a:xfrm>
            <a:off x="468360" y="1197000"/>
            <a:ext cx="8388360" cy="28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、地球是球体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黑体"/>
              </a:rPr>
              <a:t>2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、地球处于宇宙中心，而且静止不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3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  <a:ea typeface="黑体"/>
              </a:rPr>
              <a:t>、所有的日月星辰都围绕地球转，并且 每天都做一次圆周运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539640" y="429264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认为地球是球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7"/>
          <p:cNvSpPr/>
          <p:nvPr/>
        </p:nvSpPr>
        <p:spPr>
          <a:xfrm>
            <a:off x="539640" y="494172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地球是在运动，并且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小时自转一圈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8"/>
          <p:cNvSpPr/>
          <p:nvPr/>
        </p:nvSpPr>
        <p:spPr>
          <a:xfrm>
            <a:off x="539640" y="551664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太阳是不动的，而且处于宇宙的中心，地球以及其他行星都一起围绕太阳做圆周运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16000" y="980640"/>
            <a:ext cx="64008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地球在自转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5"/>
          <p:cNvSpPr/>
          <p:nvPr/>
        </p:nvSpPr>
        <p:spPr>
          <a:xfrm>
            <a:off x="2160720" y="2133720"/>
            <a:ext cx="698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黑体"/>
              </a:rPr>
              <a:t>怀疑？怀疑？怀疑？怀疑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WordArt 6"/>
          <p:cNvSpPr txBox="1"/>
          <p:nvPr/>
        </p:nvSpPr>
        <p:spPr>
          <a:xfrm>
            <a:off x="3059280" y="3500280"/>
            <a:ext cx="3384360" cy="236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拿什么证明？</a:t>
            </a:r>
            <a:endParaRPr b="0" lang="en-US" sz="4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179280" y="2571840"/>
            <a:ext cx="8715600" cy="1942920"/>
          </a:xfrm>
          <a:prstGeom prst="rect">
            <a:avLst/>
          </a:prstGeom>
          <a:ln w="0">
            <a:noFill/>
          </a:ln>
        </p:spPr>
      </p:pic>
      <p:sp>
        <p:nvSpPr>
          <p:cNvPr id="70" name="Text Box 6"/>
          <p:cNvSpPr/>
          <p:nvPr/>
        </p:nvSpPr>
        <p:spPr>
          <a:xfrm>
            <a:off x="1878120" y="684360"/>
            <a:ext cx="138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实验探索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8" descr=""/>
          <p:cNvPicPr/>
          <p:nvPr/>
        </p:nvPicPr>
        <p:blipFill>
          <a:blip r:embed="rId2"/>
          <a:stretch/>
        </p:blipFill>
        <p:spPr>
          <a:xfrm>
            <a:off x="4427640" y="706320"/>
            <a:ext cx="2519280" cy="612720"/>
          </a:xfrm>
          <a:prstGeom prst="rect">
            <a:avLst/>
          </a:prstGeom>
          <a:ln w="0">
            <a:noFill/>
          </a:ln>
        </p:spPr>
      </p:pic>
      <p:sp>
        <p:nvSpPr>
          <p:cNvPr id="72" name="Text Box 10"/>
          <p:cNvSpPr/>
          <p:nvPr/>
        </p:nvSpPr>
        <p:spPr>
          <a:xfrm>
            <a:off x="900000" y="1700280"/>
            <a:ext cx="172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实验步骤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2"/>
          <p:cNvSpPr/>
          <p:nvPr/>
        </p:nvSpPr>
        <p:spPr>
          <a:xfrm>
            <a:off x="539640" y="836640"/>
            <a:ext cx="20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"/>
          <p:cNvSpPr/>
          <p:nvPr/>
        </p:nvSpPr>
        <p:spPr>
          <a:xfrm>
            <a:off x="395280" y="189000"/>
            <a:ext cx="2928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Comic Sans MS"/>
              </a:rPr>
              <a:t>实验步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4"/>
          <p:cNvSpPr/>
          <p:nvPr/>
        </p:nvSpPr>
        <p:spPr>
          <a:xfrm>
            <a:off x="395280" y="1125360"/>
            <a:ext cx="7432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把转盘放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端正 ，放平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把摆放上去以后，调整好，不要让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它晃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每一次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实验做好以后，必须要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重新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回到静止时的位置，继续下一次实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1835280" y="3789360"/>
            <a:ext cx="6408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平稳、缓慢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的转动底盘，减         少外力对摆方向的影响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Comic Sans MS"/>
              </a:rPr>
              <a:t>、不可以对着摆吹气，不可以碰着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2"/>
          <p:cNvSpPr/>
          <p:nvPr/>
        </p:nvSpPr>
        <p:spPr>
          <a:xfrm>
            <a:off x="395280" y="620640"/>
            <a:ext cx="3313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Comic Sans MS"/>
              </a:rPr>
              <a:t>小组分工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"/>
          <p:cNvSpPr/>
          <p:nvPr/>
        </p:nvSpPr>
        <p:spPr>
          <a:xfrm>
            <a:off x="971640" y="3141720"/>
            <a:ext cx="6264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755640" y="1413000"/>
            <a:ext cx="6408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由于摆动的范围比较大，加上旋摆架范围更大     建议：组员们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都站在摆架的后两侧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。以免碰着它 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Comic Sans MS"/>
              </a:rPr>
              <a:t>一个人拉动摆，一个人按住下面的底轮，另一人转动上一个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转轮，还有一人记录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家一起观察摆的方向有没有变化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4" descr=""/>
          <p:cNvPicPr/>
          <p:nvPr/>
        </p:nvPicPr>
        <p:blipFill>
          <a:blip r:embed="rId1"/>
          <a:stretch/>
        </p:blipFill>
        <p:spPr>
          <a:xfrm>
            <a:off x="468360" y="4941720"/>
            <a:ext cx="2665440" cy="630360"/>
          </a:xfrm>
          <a:prstGeom prst="rect">
            <a:avLst/>
          </a:prstGeom>
          <a:ln w="0">
            <a:noFill/>
          </a:ln>
        </p:spPr>
      </p:pic>
      <p:sp>
        <p:nvSpPr>
          <p:cNvPr id="81" name="Text Box 5"/>
          <p:cNvSpPr/>
          <p:nvPr/>
        </p:nvSpPr>
        <p:spPr>
          <a:xfrm>
            <a:off x="573120" y="5857920"/>
            <a:ext cx="8570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实验证明</a:t>
            </a:r>
            <a:r>
              <a:rPr b="0" lang="zh-CN" sz="3600" spc="-1" strike="noStrike" u="sng">
                <a:solidFill>
                  <a:srgbClr val="ff0000"/>
                </a:solidFill>
                <a:uFillTx/>
                <a:latin typeface="华文隶书"/>
                <a:ea typeface="华文隶书"/>
              </a:rPr>
              <a:t>摆具有保持摆方向不变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的特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2" name=""/>
          <p:cNvGraphicFramePr/>
          <p:nvPr/>
        </p:nvGraphicFramePr>
        <p:xfrm>
          <a:off x="900000" y="1484280"/>
          <a:ext cx="8064360" cy="2762280"/>
        </p:xfrm>
        <a:graphic>
          <a:graphicData uri="http://schemas.openxmlformats.org/drawingml/2006/table">
            <a:tbl>
              <a:tblPr/>
              <a:tblGrid>
                <a:gridCol w="4033800"/>
                <a:gridCol w="4030560"/>
              </a:tblGrid>
              <a:tr h="45756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底盘和摆架转动情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摆摆动方向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未转动时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后来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431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缓慢而平稳地转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9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度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后来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586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缓慢而平稳地转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18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度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后来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4428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缓慢而平稳地转动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360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度后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前后来回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我们的结论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cff"/>
                    </a:solidFill>
                  </a:tcPr>
                </a:tc>
              </a:tr>
            </a:tbl>
          </a:graphicData>
        </a:graphic>
      </p:graphicFrame>
      <p:pic>
        <p:nvPicPr>
          <p:cNvPr id="83" name="Picture 34" descr=""/>
          <p:cNvPicPr/>
          <p:nvPr/>
        </p:nvPicPr>
        <p:blipFill>
          <a:blip r:embed="rId2"/>
          <a:stretch/>
        </p:blipFill>
        <p:spPr>
          <a:xfrm>
            <a:off x="2843280" y="476280"/>
            <a:ext cx="3887640" cy="606240"/>
          </a:xfrm>
          <a:prstGeom prst="rect">
            <a:avLst/>
          </a:prstGeom>
          <a:ln w="0">
            <a:noFill/>
          </a:ln>
        </p:spPr>
      </p:pic>
      <p:cxnSp>
        <p:nvCxnSpPr>
          <p:cNvPr id="84" name="直接箭头连接符 6"/>
          <p:cNvCxnSpPr/>
          <p:nvPr/>
        </p:nvCxnSpPr>
        <p:spPr>
          <a:xfrm flipV="1">
            <a:off x="4357800" y="4071240"/>
            <a:ext cx="2071800" cy="1857960"/>
          </a:xfrm>
          <a:prstGeom prst="straightConnector1">
            <a:avLst/>
          </a:prstGeom>
          <a:ln w="76320">
            <a:solidFill>
              <a:srgbClr val="b6dcdf"/>
            </a:solidFill>
            <a:round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思考：如果地球表面竖立一个巨大的摆，当地球这个圆盘转动后（自转），会出现什么现象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反过来，如果真的有这样一个摆，而且摆动的方向发生了偏移，又说明了什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4T09:16:4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16:09:55Z</dcterms:modified>
  <cp:revision>2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