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644-C9BC-4E17-BF1E-A41A6931E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4F52-3DB9-4305-92B5-14CAB25E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8C1-71AC-4EC0-A0A6-8C28E7A0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8DB-686A-46FA-B955-0AA85898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F5D-141E-4FCF-9090-69E94AA0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B7B-EC0E-4B2C-BBC3-137FA5B2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6C7C-D1BE-4EF1-ADE8-DB37C06C9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B88-3892-46D2-B59D-EA1EB172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EA2D-36BD-42AE-9A5F-E49C5AA6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6C38-8D0F-48D5-8A8A-0585F556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546A-2E50-49C8-B99F-285863F6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6335-6A18-40BA-9F35-F9E7BD72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2702-081B-4AD1-99E7-6A31258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D5E-B95C-4D89-8B54-3624E869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C02D-2E97-444D-BDBE-F9EAB0D9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F7D5-C85D-4FD3-A830-77FFF69F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13AB-A31D-4457-8CC4-BB105F1D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A170-AFBE-4FE5-94B8-43838FB7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EFCC-0DB9-4336-BA3A-45B79D60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8AF-6708-49D3-A952-FBD2B567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878-D1FD-43D2-9B09-D60D463C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F8F-8EA0-42DA-9CB5-EAB26AAD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D4D-E54D-430E-B226-D63B71B6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71C-F1ED-42BF-8B8A-A30537CA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517-CC1B-4775-8835-B401F3B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0218-F894-43E8-BD1A-0164B8AE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195-3048-45F5-B1D3-DCA4809B6D75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B7C-3193-4381-A369-2ED2642E86F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8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828036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000"/>
                </a:solidFill>
                <a:latin typeface="方正彩云简体"/>
                <a:ea typeface="方正彩云简体"/>
              </a:rPr>
              <a:t>这片土地是</a:t>
            </a:r>
            <a:br>
              <a:rPr sz="7200"/>
            </a:br>
            <a:r>
              <a:rPr b="0" lang="en-US" sz="72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        </a:t>
            </a:r>
            <a:r>
              <a:rPr b="0" lang="zh-CN" sz="166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神圣</a:t>
            </a:r>
            <a:r>
              <a:rPr b="0" lang="zh-CN" sz="72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的</a:t>
            </a:r>
            <a:endParaRPr b="0" lang="en-US" sz="7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248200" y="5950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68360" y="1413000"/>
            <a:ext cx="820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99ff"/>
                </a:solidFill>
                <a:latin typeface="Arial"/>
              </a:rPr>
              <a:t>如果我们放弃这片土地，转让给你们，你们一定要记住：</a:t>
            </a:r>
            <a:endParaRPr b="1" lang="en-US" sz="66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468360" y="357336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3399"/>
                </a:solidFill>
                <a:latin typeface="Arial"/>
              </a:rPr>
              <a:t>                    </a:t>
            </a:r>
            <a:r>
              <a:rPr b="1" lang="zh-CN" sz="8000" spc="-1" strike="noStrike">
                <a:solidFill>
                  <a:srgbClr val="003399"/>
                </a:solidFill>
                <a:latin typeface="Arial"/>
              </a:rPr>
              <a:t>这片土地是神圣的。</a:t>
            </a: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99"/>
                </a:solidFill>
                <a:latin typeface="Arial"/>
              </a:rPr>
              <a:t>面对神圣的土地：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1680" y="1905120"/>
            <a:ext cx="854064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善待我们的河水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善待我们的空气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</a:rPr>
              <a:t>善待身边的动物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降临到动物身上的命运终究也会降临到人类身上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324000" y="105264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191367"/>
                </a:solidFill>
                <a:latin typeface="Arial"/>
              </a:rPr>
              <a:t>如果我们放弃这片土地，转让给你们，你们一定要记住：</a:t>
            </a:r>
            <a:r>
              <a:rPr b="1" lang="zh-CN" sz="8000" spc="-1" strike="noStrike">
                <a:solidFill>
                  <a:srgbClr val="660033"/>
                </a:solidFill>
                <a:latin typeface="Arial"/>
              </a:rPr>
              <a:t>这片土地是神圣的。</a:t>
            </a: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971640" y="1700280"/>
            <a:ext cx="75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我们深知：大地不属于人类，而人类是属于大地的。</a:t>
            </a:r>
            <a:endParaRPr b="1" lang="en-US" sz="7200" spc="-1" strike="noStrike">
              <a:solidFill>
                <a:srgbClr val="191367"/>
              </a:solidFill>
              <a:latin typeface="Arial"/>
            </a:endParaRPr>
          </a:p>
        </p:txBody>
      </p:sp>
      <p:pic>
        <p:nvPicPr>
          <p:cNvPr id="125" name="Picture 6" descr="feedicon_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5516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无标题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10004_20060414_185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it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42920" y="119700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大地不属于人类，而人类是属于大地的。</a:t>
            </a:r>
            <a:endParaRPr b="1" lang="en-US" sz="8000" spc="-1" strike="noStrike">
              <a:solidFill>
                <a:srgbClr val="191367"/>
              </a:solidFill>
              <a:latin typeface="Arial"/>
            </a:endParaRPr>
          </a:p>
        </p:txBody>
      </p:sp>
      <p:pic>
        <p:nvPicPr>
          <p:cNvPr id="130" name="Picture 6" descr="boat"/>
          <p:cNvPicPr/>
          <p:nvPr/>
        </p:nvPicPr>
        <p:blipFill>
          <a:blip r:embed="rId1"/>
          <a:stretch/>
        </p:blipFill>
        <p:spPr>
          <a:xfrm>
            <a:off x="7740720" y="4869000"/>
            <a:ext cx="9176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8952-C3DF-4767-8282-ABC7A24B6EF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4"/>
              </a:rPr>
              <a:t>www.1ppt.com/sucai/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dc5900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1" lang="en-US" sz="100" spc="-1" strike="noStrike">
              <a:solidFill>
                <a:srgbClr val="191367"/>
              </a:solidFill>
              <a:latin typeface="Arial"/>
            </a:endParaRPr>
          </a:p>
        </p:txBody>
      </p:sp>
      <p:pic>
        <p:nvPicPr>
          <p:cNvPr id="92" name="Picture 4" descr="u=1797656261,2384204180&amp;gp=4"/>
          <p:cNvPicPr/>
          <p:nvPr/>
        </p:nvPicPr>
        <p:blipFill>
          <a:blip r:embed="rId16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u=4062805553,1156250403&amp;gp=34"/>
          <p:cNvPicPr/>
          <p:nvPr/>
        </p:nvPicPr>
        <p:blipFill>
          <a:blip r:embed="rId17"/>
          <a:stretch/>
        </p:blipFill>
        <p:spPr>
          <a:xfrm>
            <a:off x="0" y="555480"/>
            <a:ext cx="9144000" cy="568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8_2323_80aa890f523e363"/>
          <p:cNvPicPr/>
          <p:nvPr/>
        </p:nvPicPr>
        <p:blipFill>
          <a:blip r:embed="rId18"/>
          <a:stretch/>
        </p:blipFill>
        <p:spPr>
          <a:xfrm>
            <a:off x="0" y="501480"/>
            <a:ext cx="914400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读准字音并组词：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嗡       鹿      骏        鹰       潺      脂   婴       眷 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4000" y="1125000"/>
            <a:ext cx="8540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圣洁   骏马   雄鹰   潺潺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回荡   滋润   善待   松脂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宝贵   滋养   婴儿   眷恋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闪闪发光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8" descr="feedicon_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26920" y="573408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feedicon_0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476360" y="58053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"/>
          <p:cNvSpPr/>
          <p:nvPr/>
        </p:nvSpPr>
        <p:spPr>
          <a:xfrm>
            <a:off x="1908000" y="96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91367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191367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191367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191367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611280" y="1125360"/>
            <a:ext cx="777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对于我们这个民族来说，这片土地的每一部分都是神圣的。</a:t>
            </a:r>
            <a:endParaRPr b="1" lang="en-US" sz="6600" spc="-1" strike="noStrike">
              <a:solidFill>
                <a:srgbClr val="191367"/>
              </a:solidFill>
              <a:latin typeface="Arial"/>
            </a:endParaRPr>
          </a:p>
        </p:txBody>
      </p:sp>
      <p:pic>
        <p:nvPicPr>
          <p:cNvPr id="102" name="Picture 10" descr="feedicon_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18728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feedicon_0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908000" y="587700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feedicon_01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459640" y="5805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55640" y="1483920"/>
            <a:ext cx="76550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我们是大地的一部分，大地也是我们的一部分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4" descr="feedicon_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feedicon_0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00000" y="57340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feedicon_011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244000" y="5661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258920" y="981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我们和大地上的山峦河流、动物植物，共同属于一个家园。</a:t>
            </a:r>
            <a:endParaRPr b="1" lang="en-US" sz="7200" spc="-1" strike="noStrike">
              <a:solidFill>
                <a:srgbClr val="191367"/>
              </a:solidFill>
              <a:latin typeface="Arial"/>
            </a:endParaRPr>
          </a:p>
        </p:txBody>
      </p:sp>
      <p:pic>
        <p:nvPicPr>
          <p:cNvPr id="110" name="Picture 5" descr="feedicon_01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56610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eedicon_01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71640" y="5661000"/>
            <a:ext cx="57600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2005228215921446"/>
          <p:cNvPicPr/>
          <p:nvPr/>
        </p:nvPicPr>
        <p:blipFill>
          <a:blip r:embed="rId1"/>
          <a:stretch/>
        </p:blipFill>
        <p:spPr>
          <a:xfrm>
            <a:off x="0" y="476280"/>
            <a:ext cx="4284720" cy="590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u=2794568363,2146637049&amp;gp=38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84720" y="476280"/>
            <a:ext cx="4859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13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Arial"/>
              </a:rPr>
              <a:t>山水类：</a:t>
            </a:r>
            <a:endParaRPr b="1" lang="en-US" sz="72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4360" y="256536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Arial"/>
              </a:rPr>
              <a:t>动植物类：</a:t>
            </a:r>
            <a:endParaRPr b="1" lang="en-US" sz="7200" spc="-1" strike="noStrike">
              <a:solidFill>
                <a:srgbClr val="191367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39640" y="3860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7a77"/>
                </a:solidFill>
                <a:latin typeface="Arial"/>
              </a:rPr>
              <a:t>自然现象类：</a:t>
            </a:r>
            <a:endParaRPr b="1" lang="en-US" sz="7200" spc="-1" strike="noStrike">
              <a:solidFill>
                <a:srgbClr val="19136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21:01:4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1:20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