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5.wmf" ContentType="image/x-wmf"/>
  <Override PartName="/ppt/media/applause.wav" ContentType="audio/x-wav"/>
  <Override PartName="/ppt/media/image27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6.gif" ContentType="image/gif"/>
  <Override PartName="/ppt/media/image15.jpeg" ContentType="image/jpeg"/>
  <Override PartName="/ppt/media/image25.wmf" ContentType="image/x-wmf"/>
  <Override PartName="/ppt/media/image24.wmf" ContentType="image/x-wmf"/>
  <Override PartName="/ppt/media/image19.gif" ContentType="image/gif"/>
  <Override PartName="/ppt/media/image1.jpeg" ContentType="image/jpeg"/>
  <Override PartName="/ppt/media/chimes.wav" ContentType="audio/x-wav"/>
  <Override PartName="/ppt/media/image16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  <p:custShowLst>
    <p:custShow name="自定义放映1" id="0">
      <p:sldLst>
        <p:sld r:id="rId9"/>
      </p:sldLst>
    </p:custShow>
    <p:custShow name="自定义放映2" id="1">
      <p:sldLst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6FC-9660-44A8-AB05-91806507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3C0-C9FE-4CB5-BB31-0315A01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C49-1513-4B59-AD66-0D2D8E39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F7F-4A89-4EC8-94D4-6176351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7E0-C7AB-4CBE-960A-AE02941E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9574-21CE-403E-8CFB-B89D0CE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A26-3B4C-48AA-8EE6-5BC3BB74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EC5F-434B-40CB-A2AF-E28EC37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9ED-CD5D-4EDD-8739-5A7DDFB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89F8-B024-4A4B-805A-5507C43C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3EB-9B57-4D9C-AD5D-D6BEB58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80B-4D40-4800-A4C3-D542286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4173-9C43-4FC2-AE0F-5A9CC0D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3DD-8938-42F8-94EC-E3B02EC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170E-0DAD-40CE-8C2D-044B4D6C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B01C-F7C2-4903-BB7C-E890CA14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6DC-ECA7-4BAA-992B-57D58808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2B1-958B-4186-BB44-15571FE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9A-83AC-4F86-8F55-8CF4AE9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038-3B17-4343-A2F5-224A2B0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B2F-A5A0-4AD8-90D9-2BAA629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B74-A950-4F3B-A361-FB5EE63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37F-A132-437B-AF32-CB9F8C3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4B0-B27D-4E96-AD15-4D68C89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5CC-0B34-432E-9F7A-4438195AF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3DF-47AA-4A45-A917-6778E23A784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8.gif"/><Relationship Id="rId3" Type="http://schemas.openxmlformats.org/officeDocument/2006/relationships/slide" Target="slide2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9718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幼圆"/>
                <a:ea typeface="幼圆"/>
              </a:rPr>
              <a:t>　 </a:t>
            </a:r>
            <a:r>
              <a:rPr b="1" lang="en-US" sz="5400" spc="-1" strike="noStrike">
                <a:solidFill>
                  <a:srgbClr val="ffcc66"/>
                </a:solidFill>
                <a:latin typeface="幼圆"/>
                <a:ea typeface="幼圆"/>
              </a:rPr>
              <a:t>1</a:t>
            </a:r>
            <a:r>
              <a:rPr b="1" lang="zh-CN" sz="5400" spc="-1" strike="noStrike">
                <a:solidFill>
                  <a:srgbClr val="ffcc66"/>
                </a:solidFill>
                <a:latin typeface="幼圆"/>
                <a:ea typeface="幼圆"/>
              </a:rPr>
              <a:t>　在山的那边　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　　　　　　王家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Picture 6" descr="图片1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350028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1968840" y="5877000"/>
            <a:ext cx="6143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6" descr="图片7"/>
          <p:cNvPicPr/>
          <p:nvPr/>
        </p:nvPicPr>
        <p:blipFill>
          <a:blip r:embed="rId1"/>
          <a:stretch/>
        </p:blipFill>
        <p:spPr>
          <a:xfrm>
            <a:off x="1116000" y="3357720"/>
            <a:ext cx="3960720" cy="351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图片8"/>
          <p:cNvPicPr/>
          <p:nvPr/>
        </p:nvPicPr>
        <p:blipFill>
          <a:blip r:embed="rId2"/>
          <a:stretch/>
        </p:blipFill>
        <p:spPr>
          <a:xfrm>
            <a:off x="5076720" y="3311640"/>
            <a:ext cx="406728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图片6"/>
          <p:cNvPicPr/>
          <p:nvPr/>
        </p:nvPicPr>
        <p:blipFill>
          <a:blip r:embed="rId3"/>
          <a:stretch/>
        </p:blipFill>
        <p:spPr>
          <a:xfrm>
            <a:off x="5040360" y="0"/>
            <a:ext cx="4140000" cy="355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图片5"/>
          <p:cNvPicPr/>
          <p:nvPr/>
        </p:nvPicPr>
        <p:blipFill>
          <a:blip r:embed="rId4"/>
          <a:stretch/>
        </p:blipFill>
        <p:spPr>
          <a:xfrm>
            <a:off x="1116000" y="0"/>
            <a:ext cx="3960720" cy="35733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1143000" y="2133720"/>
            <a:ext cx="2819520" cy="12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惊涛骇浪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5181480" y="2133720"/>
            <a:ext cx="29718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风平浪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5181480" y="548640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水天一色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1143000" y="556272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碧水红花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6" name="MTS_898.WAV" descr=""/>
          <p:cNvPicPr/>
          <p:nvPr/>
        </p:nvPicPr>
        <p:blipFill>
          <a:blip r:embed="rId5"/>
          <a:stretch/>
        </p:blipFill>
        <p:spPr>
          <a:xfrm>
            <a:off x="45720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MTS_002.WAV" descr=""/>
          <p:cNvPicPr/>
          <p:nvPr/>
        </p:nvPicPr>
        <p:blipFill>
          <a:blip r:embed="rId6"/>
          <a:stretch/>
        </p:blipFill>
        <p:spPr>
          <a:xfrm>
            <a:off x="46483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MTS_899.WAV" descr=""/>
          <p:cNvPicPr/>
          <p:nvPr/>
        </p:nvPicPr>
        <p:blipFill>
          <a:blip r:embed="rId7"/>
          <a:stretch/>
        </p:blipFill>
        <p:spPr>
          <a:xfrm>
            <a:off x="8686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MTS_914.WAV" descr=""/>
          <p:cNvPicPr/>
          <p:nvPr/>
        </p:nvPicPr>
        <p:blipFill>
          <a:blip r:embed="rId8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373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1"/>
                            </p:stCondLst>
                            <p:childTnLst>
                              <p:par>
                                <p:cTn id="2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5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590920" y="304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作者说的海是什么样子的呢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371600" y="53341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你和作者的描述一样吗</a:t>
            </a: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733920" y="121932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信念凝成的海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743200" y="251460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一个全新的世界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1371600" y="3962520"/>
            <a:ext cx="7543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在一瞬间照亮你的眼睛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666880" y="228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他说怎样才能见到这样的海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038480" y="990720"/>
            <a:ext cx="1752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371600" y="3276720"/>
            <a:ext cx="7467480" cy="29718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981080" y="4038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828800" y="40384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经过无数座山，一次次战胜失望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895480" y="10666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请你来讲述一下诗的内容，把寻海的过程尽量描述得细致一些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524701.mp3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523880" y="1905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作者小时候为什么那么想见山那边的大海？他是不是嫌山区太穷、不美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23880" y="30481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对大海还有好奇吗？为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523880" y="3809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诗中寻海的孩子有什么特点？成年之后的他，是真的在寻找海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523880" y="4952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作者找到那个海了吗？说出理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WordArt 14"/>
          <p:cNvSpPr txBox="1"/>
          <p:nvPr/>
        </p:nvSpPr>
        <p:spPr>
          <a:xfrm>
            <a:off x="2590920" y="685800"/>
            <a:ext cx="3114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深入体会</a:t>
            </a:r>
            <a:endParaRPr b="1" lang="en-US" sz="80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ffff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6029280" y="685800"/>
            <a:ext cx="3114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经验碰撞</a:t>
            </a:r>
            <a:endParaRPr b="1" lang="en-US" sz="80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ffff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2" name="AutoShape 17"/>
          <p:cNvSpPr/>
          <p:nvPr/>
        </p:nvSpPr>
        <p:spPr>
          <a:xfrm>
            <a:off x="5334120" y="380880"/>
            <a:ext cx="1143000" cy="1600200"/>
          </a:xfrm>
          <a:prstGeom prst="irregularSeal2">
            <a:avLst/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gril1"/>
          <p:cNvPicPr/>
          <p:nvPr/>
        </p:nvPicPr>
        <p:blipFill>
          <a:blip r:embed="rId1"/>
          <a:stretch/>
        </p:blipFill>
        <p:spPr>
          <a:xfrm>
            <a:off x="1143000" y="0"/>
            <a:ext cx="2057400" cy="4068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200400" y="12952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没见过，好奇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00400" y="2819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想知道山外边的世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00400" y="43434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不满意与不满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ril1"/>
          <p:cNvPicPr/>
          <p:nvPr/>
        </p:nvPicPr>
        <p:blipFill>
          <a:blip r:embed="rId1"/>
          <a:stretch/>
        </p:blipFill>
        <p:spPr>
          <a:xfrm>
            <a:off x="1143000" y="0"/>
            <a:ext cx="2057400" cy="406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276720" y="1600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保持对未知世界的好奇，这是进取心，是追求进步的原动力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惊奇动画"/>
          <p:cNvPicPr/>
          <p:nvPr/>
        </p:nvPicPr>
        <p:blipFill>
          <a:blip r:embed="rId1"/>
          <a:stretch/>
        </p:blipFill>
        <p:spPr>
          <a:xfrm>
            <a:off x="1143000" y="0"/>
            <a:ext cx="1859040" cy="2209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971800" y="762120"/>
            <a:ext cx="569592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9360">
                  <a:solidFill>
                    <a:srgbClr val="ff3300"/>
                  </a:solidFill>
                  <a:round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好问，爱思考</a:t>
            </a:r>
            <a:endParaRPr b="1" lang="en-US" sz="8000" spc="1" strike="noStrike">
              <a:ln cap="sq" w="9360">
                <a:solidFill>
                  <a:srgbClr val="ff3300"/>
                </a:solidFill>
                <a:round/>
              </a:ln>
              <a:solidFill>
                <a:srgbClr val="ffff66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81" name="Picture 8" descr="D10"/>
          <p:cNvPicPr/>
          <p:nvPr/>
        </p:nvPicPr>
        <p:blipFill>
          <a:blip r:embed="rId2"/>
          <a:stretch/>
        </p:blipFill>
        <p:spPr>
          <a:xfrm>
            <a:off x="1143000" y="3505320"/>
            <a:ext cx="1676520" cy="23619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9"/>
          <p:cNvSpPr txBox="1"/>
          <p:nvPr/>
        </p:nvSpPr>
        <p:spPr>
          <a:xfrm>
            <a:off x="2895480" y="3733920"/>
            <a:ext cx="609624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9360">
                  <a:solidFill>
                    <a:srgbClr val="ff3300"/>
                  </a:solidFill>
                  <a:round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努力奋斗实现理想</a:t>
            </a:r>
            <a:endParaRPr b="1" lang="en-US" sz="8000" spc="1" strike="noStrike">
              <a:ln cap="sq" w="9360">
                <a:solidFill>
                  <a:srgbClr val="ff3300"/>
                </a:solidFill>
                <a:round/>
              </a:ln>
              <a:solidFill>
                <a:srgbClr val="ffff66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t002-01"/>
          <p:cNvPicPr/>
          <p:nvPr/>
        </p:nvPicPr>
        <p:blipFill>
          <a:blip r:embed="rId1"/>
          <a:stretch/>
        </p:blipFill>
        <p:spPr>
          <a:xfrm>
            <a:off x="1143000" y="335268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232480" y="0"/>
            <a:ext cx="911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奋斗的目的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319520" y="685800"/>
            <a:ext cx="911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成功的彼岸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176520" y="1371600"/>
            <a:ext cx="91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幸福的家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455000" y="2057400"/>
            <a:ext cx="164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美丽新世界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……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12" descr="图片10"/>
          <p:cNvPicPr/>
          <p:nvPr/>
        </p:nvPicPr>
        <p:blipFill>
          <a:blip r:embed="rId2"/>
          <a:stretch/>
        </p:blipFill>
        <p:spPr>
          <a:xfrm>
            <a:off x="1116000" y="44280"/>
            <a:ext cx="410364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228600"/>
            <a:ext cx="4724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25560">
                  <a:solidFill>
                    <a:srgbClr val="996600"/>
                  </a:solidFill>
                  <a:round/>
                </a:ln>
                <a:solidFill>
                  <a:srgbClr val="eeb00b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幼圆"/>
              </a:rPr>
              <a:t>朗读大比拼</a:t>
            </a:r>
            <a:endParaRPr b="1" lang="en-US" sz="6600" spc="1" strike="noStrike">
              <a:ln cap="sq" w="25560">
                <a:solidFill>
                  <a:srgbClr val="996600"/>
                </a:solidFill>
                <a:round/>
              </a:ln>
              <a:solidFill>
                <a:srgbClr val="eeb00b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90" name="4427腰鼓声.wav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BD06982_"/>
          <p:cNvPicPr/>
          <p:nvPr/>
        </p:nvPicPr>
        <p:blipFill>
          <a:blip r:embed="rId2"/>
          <a:stretch/>
        </p:blipFill>
        <p:spPr>
          <a:xfrm>
            <a:off x="2057400" y="2514600"/>
            <a:ext cx="5638680" cy="3022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6"/>
          <p:cNvSpPr/>
          <p:nvPr/>
        </p:nvSpPr>
        <p:spPr>
          <a:xfrm>
            <a:off x="609480" y="190512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95280" y="3124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乙组齐读，丙组打分，丁组朗读，甲组打分。班长统计各组成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本课任务：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4284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幼圆"/>
              </a:rPr>
              <a:t>朗读芳草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幼圆"/>
              </a:rPr>
              <a:t>蓝色起跑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探究研讨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思维宽带网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创作运动场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617220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66ff33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AutoShape 5">
            <a:hlinkClick r:id="rId2" action="ppaction://hlinksldjump"/>
          </p:cNvPr>
          <p:cNvSpPr/>
          <p:nvPr/>
        </p:nvSpPr>
        <p:spPr>
          <a:xfrm>
            <a:off x="6248520" y="2666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AutoShape 6">
            <a:hlinkClick r:id="rId3" action="ppaction://hlinksldjump"/>
          </p:cNvPr>
          <p:cNvSpPr/>
          <p:nvPr/>
        </p:nvSpPr>
        <p:spPr>
          <a:xfrm>
            <a:off x="6248520" y="3505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33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AutoShape 7">
            <a:hlinkClick r:id="rId4" action="ppaction://hlinksldjump"/>
          </p:cNvPr>
          <p:cNvSpPr/>
          <p:nvPr/>
        </p:nvSpPr>
        <p:spPr>
          <a:xfrm>
            <a:off x="624852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AutoShape 8">
            <a:hlinkClick r:id="rId5" action="ppaction://hlinksldjump"/>
          </p:cNvPr>
          <p:cNvSpPr/>
          <p:nvPr/>
        </p:nvSpPr>
        <p:spPr>
          <a:xfrm>
            <a:off x="6248520" y="5105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439560" y="6095880"/>
            <a:ext cx="67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371600" y="22860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思考：在寻海的过程中“我”的心情有什么变化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4" descr="question动画"/>
          <p:cNvPicPr/>
          <p:nvPr/>
        </p:nvPicPr>
        <p:blipFill>
          <a:blip r:embed="rId1"/>
          <a:stretch/>
        </p:blipFill>
        <p:spPr>
          <a:xfrm>
            <a:off x="3429000" y="1676520"/>
            <a:ext cx="2819520" cy="3657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惊奇动画"/>
          <p:cNvPicPr/>
          <p:nvPr/>
        </p:nvPicPr>
        <p:blipFill>
          <a:blip r:embed="rId2"/>
          <a:stretch/>
        </p:blipFill>
        <p:spPr>
          <a:xfrm>
            <a:off x="1143000" y="0"/>
            <a:ext cx="1859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19320" y="1447920"/>
            <a:ext cx="1542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好奇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3886200" y="4038120"/>
            <a:ext cx="457200" cy="30492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828800" y="2819520"/>
            <a:ext cx="38088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1523880" y="2666880"/>
            <a:ext cx="1543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失望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2514600" y="3962520"/>
            <a:ext cx="38088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2286000" y="388620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委屈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4343400" y="274320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疑惑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5181480" y="4114800"/>
            <a:ext cx="38124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4876920" y="4191120"/>
            <a:ext cx="1542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失望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6" name="WordArt 14"/>
          <p:cNvSpPr txBox="1"/>
          <p:nvPr/>
        </p:nvSpPr>
        <p:spPr>
          <a:xfrm>
            <a:off x="7315200" y="358128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坚定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 flipV="1">
            <a:off x="7924680" y="3504960"/>
            <a:ext cx="0" cy="53316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7162920" y="2362320"/>
            <a:ext cx="13906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欣喜</a:t>
            </a:r>
            <a:endParaRPr b="1" lang="en-US" sz="54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10" name="Line 18"/>
          <p:cNvSpPr/>
          <p:nvPr/>
        </p:nvSpPr>
        <p:spPr>
          <a:xfrm flipV="1">
            <a:off x="7848720" y="2133360"/>
            <a:ext cx="0" cy="53316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WordArt 19"/>
          <p:cNvSpPr txBox="1"/>
          <p:nvPr/>
        </p:nvSpPr>
        <p:spPr>
          <a:xfrm>
            <a:off x="7010280" y="762120"/>
            <a:ext cx="1543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自豪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pic>
        <p:nvPicPr>
          <p:cNvPr id="212" name="Picture 21" descr="飘国旗"/>
          <p:cNvPicPr/>
          <p:nvPr/>
        </p:nvPicPr>
        <p:blipFill>
          <a:blip r:embed="rId1"/>
          <a:stretch/>
        </p:blipFill>
        <p:spPr>
          <a:xfrm>
            <a:off x="7315200" y="380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惊奇动画"/>
          <p:cNvPicPr/>
          <p:nvPr/>
        </p:nvPicPr>
        <p:blipFill>
          <a:blip r:embed="rId2"/>
          <a:stretch/>
        </p:blipFill>
        <p:spPr>
          <a:xfrm>
            <a:off x="838080" y="-228600"/>
            <a:ext cx="1859040" cy="2209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a00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981080" y="2209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你有什么梦想？该怎样实现它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7" name="Picture 4" descr="question动画"/>
          <p:cNvPicPr/>
          <p:nvPr/>
        </p:nvPicPr>
        <p:blipFill>
          <a:blip r:embed="rId2"/>
          <a:stretch/>
        </p:blipFill>
        <p:spPr>
          <a:xfrm>
            <a:off x="4648320" y="990720"/>
            <a:ext cx="2819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ject 1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幼圆"/>
              </a:rPr>
              <a:t>谁是</a:t>
            </a:r>
            <a:r>
              <a:rPr b="1" i="1" lang="zh-CN" sz="8000" spc="-1" strike="noStrike">
                <a:solidFill>
                  <a:srgbClr val="ff3300"/>
                </a:solidFill>
                <a:latin typeface="Times New Roman"/>
                <a:ea typeface="幼圆"/>
              </a:rPr>
              <a:t>冠军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16" descr="飘国旗"/>
          <p:cNvPicPr/>
          <p:nvPr/>
        </p:nvPicPr>
        <p:blipFill>
          <a:blip r:embed="rId2"/>
          <a:stretch/>
        </p:blipFill>
        <p:spPr>
          <a:xfrm>
            <a:off x="5638680" y="10666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BD05545_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685800" y="11430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600200" y="25146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我们大家一起把这首诗再来读一遍吧！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4427腰鼓声.wav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00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>
            <a:off x="2971800" y="53352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课后练笔</a:t>
            </a:r>
            <a:endParaRPr b="1" lang="en-US" sz="6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743200" y="2514600"/>
            <a:ext cx="52578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幼圆"/>
              </a:rPr>
              <a:t>写一段话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幼圆"/>
              </a:rPr>
              <a:t>我终于见到了大海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再见"/>
          <p:cNvPicPr/>
          <p:nvPr/>
        </p:nvPicPr>
        <p:blipFill>
          <a:blip r:embed="rId1"/>
          <a:stretch/>
        </p:blipFill>
        <p:spPr>
          <a:xfrm>
            <a:off x="3048120" y="3809880"/>
            <a:ext cx="5121000" cy="2194200"/>
          </a:xfrm>
          <a:prstGeom prst="rect">
            <a:avLst/>
          </a:prstGeom>
          <a:ln w="0">
            <a:noFill/>
          </a:ln>
        </p:spPr>
      </p:pic>
      <p:pic>
        <p:nvPicPr>
          <p:cNvPr id="230" name="0208听松.mid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图片11 拷贝"/>
          <p:cNvPicPr/>
          <p:nvPr/>
        </p:nvPicPr>
        <p:blipFill>
          <a:blip r:embed="rId3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DA6-B82C-4469-AB25-E0145E8BA9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356400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2" descr="PE01561_"/>
          <p:cNvPicPr/>
          <p:nvPr/>
        </p:nvPicPr>
        <p:blipFill>
          <a:blip r:embed="rId1"/>
          <a:stretch/>
        </p:blipFill>
        <p:spPr>
          <a:xfrm>
            <a:off x="1143000" y="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295280" y="2590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　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大家都读过课文或者看过演讲，怎样才算读得好，请同学们把自己认为必要的评价标准说出来，看看谁说得最好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我们来看看同学们自己订的标准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读出感情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要有自己对课文的理解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注意语气、语调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读准字音，不读错别字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声音适中，能让人听清楚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5" descr="BD06990_"/>
          <p:cNvPicPr/>
          <p:nvPr/>
        </p:nvPicPr>
        <p:blipFill>
          <a:blip r:embed="rId1"/>
          <a:stretch/>
        </p:blipFill>
        <p:spPr>
          <a:xfrm>
            <a:off x="1219320" y="2230560"/>
            <a:ext cx="281916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228600"/>
            <a:ext cx="4724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25560">
                  <a:solidFill>
                    <a:srgbClr val="996600"/>
                  </a:solidFill>
                  <a:round/>
                </a:ln>
                <a:solidFill>
                  <a:srgbClr val="eeb00b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幼圆"/>
              </a:rPr>
              <a:t>朗读大比拼</a:t>
            </a:r>
            <a:endParaRPr b="1" lang="en-US" sz="6600" spc="1" strike="noStrike">
              <a:ln cap="sq" w="25560">
                <a:solidFill>
                  <a:srgbClr val="996600"/>
                </a:solidFill>
                <a:round/>
              </a:ln>
              <a:solidFill>
                <a:srgbClr val="eeb00b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09" name="Picture 3" descr="BD06982_"/>
          <p:cNvPicPr/>
          <p:nvPr/>
        </p:nvPicPr>
        <p:blipFill>
          <a:blip r:embed="rId1"/>
          <a:stretch/>
        </p:blipFill>
        <p:spPr>
          <a:xfrm>
            <a:off x="1828800" y="2211480"/>
            <a:ext cx="6324480" cy="3043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609480" y="16002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371600" y="2743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甲组齐读，乙组按刚才制定的标准给甲组打分，丙组朗读，丁组打分。班长统计各组成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9" descr="a0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486400"/>
            <a:ext cx="1143000" cy="1162080"/>
          </a:xfrm>
          <a:prstGeom prst="rect">
            <a:avLst/>
          </a:prstGeom>
          <a:ln w="0">
            <a:noFill/>
          </a:ln>
        </p:spPr>
      </p:pic>
      <p:pic>
        <p:nvPicPr>
          <p:cNvPr id="113" name="524701.mp3" descr=""/>
          <p:cNvPicPr/>
          <p:nvPr/>
        </p:nvPicPr>
        <p:blipFill>
          <a:blip r:embed="rId4"/>
          <a:stretch/>
        </p:blipFill>
        <p:spPr>
          <a:xfrm>
            <a:off x="1295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7816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看一看，本课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生字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你掌握了多少</a:t>
            </a:r>
            <a:r>
              <a:rPr b="1" i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disk_0018"/>
          <p:cNvPicPr/>
          <p:nvPr/>
        </p:nvPicPr>
        <p:blipFill>
          <a:blip r:embed="rId1"/>
          <a:stretch/>
        </p:blipFill>
        <p:spPr>
          <a:xfrm>
            <a:off x="1295280" y="380880"/>
            <a:ext cx="10670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295280" y="19051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痴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想（　　）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秘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铁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青（　　）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凝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成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诱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惑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喧腾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（　　　　）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瞬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间（　　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>
            <a:hlinkClick r:id="" action="ppaction://hlinkshowjump?jump=nextslide"/>
          </p:cNvPr>
          <p:cNvSpPr/>
          <p:nvPr/>
        </p:nvSpPr>
        <p:spPr>
          <a:xfrm>
            <a:off x="3200400" y="1981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1981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ǐ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35268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i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0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í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12408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ò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47712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uān té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657600" y="4038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ù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15" descr="a0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666880" y="6094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诗分两节，你能说说为什么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962520" y="1447920"/>
            <a:ext cx="1752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447920" y="3429000"/>
            <a:ext cx="7238880" cy="259092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7400" y="419112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时间不同了，长大前与长大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没找到海／找到了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66688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幼圆"/>
              </a:rPr>
              <a:t>作者小时候有一个愿望：看到山那边的海，在当时，他的愿望实现了吗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5029200" y="762120"/>
            <a:ext cx="2438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371600" y="2819520"/>
            <a:ext cx="7543800" cy="32004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133720" y="3809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没有，哭着回来了／依然是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5257800" y="1295280"/>
            <a:ext cx="1828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447920" y="22860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如果要你来描述大海，是什么样子</a:t>
            </a:r>
            <a:endParaRPr b="1" lang="en-US" sz="24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6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43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