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gif" ContentType="image/gif"/>
  <Override PartName="/ppt/media/chimes.wav" ContentType="audio/x-wav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BBC8-FE4F-4A5F-A4C6-F3588122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A9F0-BBED-4D16-BCED-BC5A4FDC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FC9B-5DEB-4379-BBD5-DD8902C0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413-F95C-4100-8592-00D79448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08A1-207A-4775-94A6-B3C1CDD0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E9CD-C58D-41A2-B1F5-5EE7748F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93E2-DCBA-4AE7-A4AC-94AA2025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B4EA-4A43-4BD8-9204-A9BFCA0F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EFC1-DF15-4C27-83BF-DB45CBB7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6D9A-9F73-4F81-9CEE-7B8ED1C2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78A5-63D9-4E4C-A1AE-12CD8D05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2C43-D3D7-43F0-8FA8-04A52E3B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C07E-6A3A-4A1E-9B34-0F129332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04FD-0258-480C-9318-7ACAD545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920D-E9A8-447C-966B-3C4EFD32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663E-C1C3-4DC8-AF79-95AFE865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C5C5-04CC-4C3C-AF89-EEE9C3F7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0D6-8072-4D15-981F-81981E60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DAA3-01E1-410D-8380-AEB28CD0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0E18-D898-4A3F-AF64-C638343F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DD03-7EE1-4BC6-9DE6-9585DA65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EF18-9C48-47B5-9DAC-E50CB587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5AE7-4C6B-4C0B-AC3A-1ECFC3BA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3302-917F-4A71-BBE5-CDC6E200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0F27-892A-4A36-9D3A-64DBB0164C03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01BC-19A3-441B-8793-58F042A2EB24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8"/>
          <p:cNvSpPr/>
          <p:nvPr/>
        </p:nvSpPr>
        <p:spPr>
          <a:xfrm>
            <a:off x="6224760" y="148428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3" name="Picture 2" descr="无标题z"/>
          <p:cNvPicPr/>
          <p:nvPr/>
        </p:nvPicPr>
        <p:blipFill>
          <a:blip r:embed="rId1"/>
          <a:stretch/>
        </p:blipFill>
        <p:spPr>
          <a:xfrm>
            <a:off x="4859280" y="692280"/>
            <a:ext cx="3809880" cy="5486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304920" y="68580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408"/>
                </a:solidFill>
                <a:latin typeface="宋体"/>
              </a:rPr>
              <a:t>九年义务教育六年制小学教科书语文第</a:t>
            </a:r>
            <a:r>
              <a:rPr b="0" lang="en-US" sz="1600" spc="-1" strike="noStrike">
                <a:solidFill>
                  <a:srgbClr val="000408"/>
                </a:solidFill>
                <a:latin typeface="宋体"/>
              </a:rPr>
              <a:t>12</a:t>
            </a:r>
            <a:r>
              <a:rPr b="0" lang="zh-CN" sz="1600" spc="-1" strike="noStrike">
                <a:solidFill>
                  <a:srgbClr val="000408"/>
                </a:solidFill>
                <a:latin typeface="宋体"/>
              </a:rPr>
              <a:t>册课件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85800" y="1905120"/>
            <a:ext cx="40384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詹  天  佑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1476360" y="4456080"/>
            <a:ext cx="266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598bbd"/>
                </a:solidFill>
                <a:uFillTx/>
                <a:latin typeface="Times New Roman"/>
                <a:hlinkClick r:id="rId2" action="ppaction://hlinksldjump"/>
              </a:rPr>
              <a:t>课件放映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2627280" y="6308640"/>
            <a:ext cx="15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8" name="矩形 10"/>
          <p:cNvSpPr/>
          <p:nvPr/>
        </p:nvSpPr>
        <p:spPr>
          <a:xfrm>
            <a:off x="2574000" y="63086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828800" y="1752480"/>
            <a:ext cx="64771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Times New Roman"/>
              </a:rPr>
              <a:t>为国争光的爱国思想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5" name="Picture 3" descr="pic_r02_c0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19320" y="762120"/>
            <a:ext cx="1006200" cy="7318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1828800" y="2743200"/>
            <a:ext cx="67057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Times New Roman"/>
              </a:rPr>
              <a:t>严肃认真的工作态度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828800" y="3733920"/>
            <a:ext cx="64008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Times New Roman"/>
              </a:rPr>
              <a:t>身先士卒的工作作风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828800" y="4724280"/>
            <a:ext cx="64771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Times New Roman"/>
              </a:rPr>
              <a:t>勇于创新的智慧才干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838080" y="685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资  料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867280" y="541008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598bbd"/>
                </a:solidFill>
                <a:uFillTx/>
                <a:latin typeface="Times New Roman"/>
                <a:hlinkClick r:id="rId1" action="ppaction://hlinksldjump"/>
              </a:rPr>
              <a:t>返    回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371600" y="1600200"/>
            <a:ext cx="6477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264c"/>
                </a:solidFill>
                <a:latin typeface="Times New Roman"/>
              </a:rPr>
              <a:t>詹天佑（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1861—1919</a:t>
            </a:r>
            <a:r>
              <a:rPr b="0" lang="zh-CN" sz="2000" spc="-1" strike="noStrike">
                <a:solidFill>
                  <a:srgbClr val="00264c"/>
                </a:solidFill>
                <a:latin typeface="Times New Roman"/>
              </a:rPr>
              <a:t>年），江西婺源人。他是我国杰出的爱国工程师、铁路工程专家。他自幼酷爱学习。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1872</a:t>
            </a:r>
            <a:r>
              <a:rPr b="0" lang="zh-CN" sz="2000" spc="-1" strike="noStrike">
                <a:solidFill>
                  <a:srgbClr val="00264c"/>
                </a:solidFill>
                <a:latin typeface="Times New Roman"/>
              </a:rPr>
              <a:t>年，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00264c"/>
                </a:solidFill>
                <a:latin typeface="Times New Roman"/>
              </a:rPr>
              <a:t>岁的詹天佑考取了第一批幼童赴美留学班。在美国中学读书的时候，他发愤学习自然科学。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1878</a:t>
            </a:r>
            <a:r>
              <a:rPr b="0" lang="zh-CN" sz="2000" spc="-1" strike="noStrike">
                <a:solidFill>
                  <a:srgbClr val="00264c"/>
                </a:solidFill>
                <a:latin typeface="Times New Roman"/>
              </a:rPr>
              <a:t>年，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17</a:t>
            </a:r>
            <a:r>
              <a:rPr b="0" lang="zh-CN" sz="2000" spc="-1" strike="noStrike">
                <a:solidFill>
                  <a:srgbClr val="00264c"/>
                </a:solidFill>
                <a:latin typeface="Times New Roman"/>
              </a:rPr>
              <a:t>岁的詹天佑考入了美国耶鲁大学，学习土木工程和铁路专业，毕业成绩优异。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1881</a:t>
            </a:r>
            <a:r>
              <a:rPr b="0" lang="zh-CN" sz="2000" spc="-1" strike="noStrike">
                <a:solidFill>
                  <a:srgbClr val="00264c"/>
                </a:solidFill>
                <a:latin typeface="Times New Roman"/>
              </a:rPr>
              <a:t>年回国。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1888</a:t>
            </a:r>
            <a:r>
              <a:rPr b="0" lang="zh-CN" sz="2000" spc="-1" strike="noStrike">
                <a:solidFill>
                  <a:srgbClr val="00264c"/>
                </a:solidFill>
                <a:latin typeface="Times New Roman"/>
              </a:rPr>
              <a:t>年在当时的中国铁路公司任工程师。在他开始任职的八十天里，就完成了塘沽到天津的铁路铺轨任务。后来又建成了滦河大桥。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1894</a:t>
            </a:r>
            <a:r>
              <a:rPr b="0" lang="zh-CN" sz="2000" spc="-1" strike="noStrike">
                <a:solidFill>
                  <a:srgbClr val="00264c"/>
                </a:solidFill>
                <a:latin typeface="Times New Roman"/>
              </a:rPr>
              <a:t>年英国工程研究会正式接纳詹天佑为会员。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1905</a:t>
            </a:r>
            <a:r>
              <a:rPr b="0" lang="zh-CN" sz="2000" spc="-1" strike="noStrike">
                <a:solidFill>
                  <a:srgbClr val="00264c"/>
                </a:solidFill>
                <a:latin typeface="Times New Roman"/>
              </a:rPr>
              <a:t>年清政府任命詹天佑为修建京张铁路的总工程师。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264c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1919</a:t>
            </a:r>
            <a:r>
              <a:rPr b="0" lang="zh-CN" sz="2000" spc="-1" strike="noStrike">
                <a:solidFill>
                  <a:srgbClr val="00264c"/>
                </a:solidFill>
                <a:latin typeface="Times New Roman"/>
              </a:rPr>
              <a:t>年，詹天佑积劳成疾，不幸逝世，终年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58</a:t>
            </a:r>
            <a:r>
              <a:rPr b="0" lang="zh-CN" sz="2000" spc="-1" strike="noStrike">
                <a:solidFill>
                  <a:srgbClr val="00264c"/>
                </a:solidFill>
                <a:latin typeface="Times New Roman"/>
              </a:rPr>
              <a:t>岁。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598bbd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98bbd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64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EFA3-8A7C-457F-98FF-968C26B1344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无标题"/>
          <p:cNvPicPr/>
          <p:nvPr/>
        </p:nvPicPr>
        <p:blipFill>
          <a:blip r:embed="rId1"/>
          <a:stretch/>
        </p:blipFill>
        <p:spPr>
          <a:xfrm>
            <a:off x="457200" y="380880"/>
            <a:ext cx="7162920" cy="6019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3581280" y="1752480"/>
            <a:ext cx="35816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宋体"/>
              </a:rPr>
              <a:t>詹  天  佑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066680" y="838080"/>
            <a:ext cx="6324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宋体"/>
              </a:rPr>
              <a:t>小语第</a:t>
            </a:r>
            <a:r>
              <a:rPr b="0" lang="en-US" sz="2400" spc="-1" strike="noStrike">
                <a:solidFill>
                  <a:srgbClr val="9900cc"/>
                </a:solidFill>
                <a:latin typeface="宋体"/>
              </a:rPr>
              <a:t>12</a:t>
            </a:r>
            <a:r>
              <a:rPr b="0" lang="zh-CN" sz="2400" spc="-1" strike="noStrike">
                <a:solidFill>
                  <a:srgbClr val="9900cc"/>
                </a:solidFill>
                <a:latin typeface="宋体"/>
              </a:rPr>
              <a:t>册课件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7848720" y="12193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598bbd"/>
                </a:solidFill>
                <a:uFillTx/>
                <a:latin typeface="宋体"/>
                <a:hlinkClick r:id="rId2" action="ppaction://hlinksldjump"/>
              </a:rPr>
              <a:t>导  入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7924680" y="24382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598bbd"/>
                </a:solidFill>
                <a:uFillTx/>
                <a:latin typeface="Times New Roman"/>
                <a:hlinkClick r:id="rId3" action="ppaction://hlinksldjump"/>
              </a:rPr>
              <a:t>八达岭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4" name="Text Box 21"/>
          <p:cNvSpPr/>
          <p:nvPr/>
        </p:nvSpPr>
        <p:spPr>
          <a:xfrm>
            <a:off x="7924680" y="182880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598bbd"/>
                </a:solidFill>
                <a:uFillTx/>
                <a:latin typeface="Times New Roman"/>
                <a:hlinkClick r:id="rId4" action="ppaction://hlinksldjump"/>
              </a:rPr>
              <a:t>居庸关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7905600" y="3124080"/>
            <a:ext cx="247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598bbd"/>
                </a:solidFill>
                <a:uFillTx/>
                <a:latin typeface="Times New Roman"/>
                <a:hlinkClick r:id="rId5" action="ppaction://hlinksldjump"/>
              </a:rPr>
              <a:t>人字形_x000b_线    路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7924680" y="55627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598bbd"/>
                </a:solidFill>
                <a:uFillTx/>
                <a:latin typeface="Times New Roman"/>
                <a:hlinkClick r:id="rId6" action="ppaction://hlinksldjump"/>
              </a:rPr>
              <a:t>返   回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7" name="Text Box 24"/>
          <p:cNvSpPr/>
          <p:nvPr/>
        </p:nvSpPr>
        <p:spPr>
          <a:xfrm>
            <a:off x="7924680" y="42670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598bbd"/>
                </a:solidFill>
                <a:uFillTx/>
                <a:latin typeface="Times New Roman"/>
                <a:hlinkClick r:id="rId7" action="ppaction://hlinksldjump"/>
              </a:rPr>
              <a:t>总   结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7924680" y="49528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598bbd"/>
                </a:solidFill>
                <a:uFillTx/>
                <a:latin typeface="Times New Roman"/>
                <a:hlinkClick r:id="rId8" action="ppaction://hlinksldjump"/>
              </a:rPr>
              <a:t>资   料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t2"/>
          <p:cNvPicPr/>
          <p:nvPr/>
        </p:nvPicPr>
        <p:blipFill>
          <a:blip r:embed="rId1"/>
          <a:stretch/>
        </p:blipFill>
        <p:spPr>
          <a:xfrm>
            <a:off x="3780000" y="1052640"/>
            <a:ext cx="5003640" cy="5029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250920" y="1989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408"/>
                </a:solidFill>
                <a:latin typeface="宋体"/>
              </a:rPr>
              <a:t>当我们坐火车去八达岭，途中路过青龙桥车站时，会看到这样一座铜像，这就是詹天佑。此时此刻，你会想些什么呢？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1" name="Picture 7" descr="pic_r02_c0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308640"/>
            <a:ext cx="755640" cy="54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1295280"/>
            <a:ext cx="5029200" cy="453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华文细黑"/>
              </a:rPr>
              <a:t>         </a:t>
            </a:r>
            <a:r>
              <a:rPr b="1" lang="zh-CN" sz="5400" spc="-1" strike="noStrike">
                <a:solidFill>
                  <a:srgbClr val="9900cc"/>
                </a:solidFill>
                <a:latin typeface="宋体"/>
              </a:rPr>
              <a:t>詹天佑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宋体"/>
              </a:rPr>
              <a:t>  </a:t>
            </a:r>
            <a:r>
              <a:rPr b="1" lang="zh-CN" sz="5400" spc="-1" strike="noStrike">
                <a:solidFill>
                  <a:srgbClr val="9900cc"/>
                </a:solidFill>
                <a:latin typeface="宋体"/>
              </a:rPr>
              <a:t>我国杰出的 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宋体"/>
              </a:rPr>
              <a:t>  </a:t>
            </a:r>
            <a:r>
              <a:rPr b="1" lang="zh-CN" sz="5400" spc="-1" strike="noStrike">
                <a:solidFill>
                  <a:srgbClr val="9900cc"/>
                </a:solidFill>
                <a:latin typeface="宋体"/>
              </a:rPr>
              <a:t>爱国工程师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264c"/>
                </a:solidFill>
                <a:latin typeface="Times New Roman"/>
                <a:ea typeface="华文细黑"/>
              </a:rPr>
              <a:t>      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3" name="Picture 3" descr="pic_r02_c0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981080" y="5181480"/>
            <a:ext cx="1006560" cy="671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无标题z"/>
          <p:cNvPicPr/>
          <p:nvPr/>
        </p:nvPicPr>
        <p:blipFill>
          <a:blip r:embed="rId3"/>
          <a:stretch/>
        </p:blipFill>
        <p:spPr>
          <a:xfrm>
            <a:off x="5410080" y="1066680"/>
            <a:ext cx="3430800" cy="4800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1295280" y="15238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408"/>
                </a:solidFill>
                <a:latin typeface="Times New Roman"/>
              </a:rPr>
              <a:t>有一家外国报纸轻蔑地说：“能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219320" y="22860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408"/>
                </a:solidFill>
                <a:latin typeface="Times New Roman"/>
              </a:rPr>
              <a:t>在南口以北修筑铁路的中国工程师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219320" y="3048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408"/>
                </a:solidFill>
                <a:latin typeface="Times New Roman"/>
              </a:rPr>
              <a:t>还没有出世呢。”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8" name="Picture 6" descr="pic_r02_c0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609480"/>
            <a:ext cx="1006560" cy="731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1295280" y="4724280"/>
            <a:ext cx="72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264c"/>
                </a:solidFill>
                <a:latin typeface="Times New Roman"/>
              </a:rPr>
              <a:t>请联系上下文回答 “还没有出世”是什么意思？这家外国报纸为什么要这样说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reeform 6"/>
          <p:cNvSpPr/>
          <p:nvPr/>
        </p:nvSpPr>
        <p:spPr>
          <a:xfrm rot="21556200">
            <a:off x="3128760" y="988920"/>
            <a:ext cx="5722920" cy="4267440"/>
          </a:xfrm>
          <a:custGeom>
            <a:avLst/>
            <a:gdLst/>
            <a:ahLst/>
            <a:rect l="l" t="t" r="r" b="b"/>
            <a:pathLst>
              <a:path w="4514" h="2974">
                <a:moveTo>
                  <a:pt x="0" y="2880"/>
                </a:moveTo>
                <a:cubicBezTo>
                  <a:pt x="50" y="2807"/>
                  <a:pt x="3" y="2883"/>
                  <a:pt x="36" y="2810"/>
                </a:cubicBezTo>
                <a:cubicBezTo>
                  <a:pt x="51" y="2778"/>
                  <a:pt x="83" y="2716"/>
                  <a:pt x="83" y="2716"/>
                </a:cubicBezTo>
                <a:cubicBezTo>
                  <a:pt x="104" y="2630"/>
                  <a:pt x="118" y="2542"/>
                  <a:pt x="141" y="2457"/>
                </a:cubicBezTo>
                <a:cubicBezTo>
                  <a:pt x="158" y="2394"/>
                  <a:pt x="200" y="2269"/>
                  <a:pt x="200" y="2269"/>
                </a:cubicBezTo>
                <a:cubicBezTo>
                  <a:pt x="211" y="2186"/>
                  <a:pt x="221" y="2113"/>
                  <a:pt x="247" y="2034"/>
                </a:cubicBezTo>
                <a:cubicBezTo>
                  <a:pt x="259" y="1863"/>
                  <a:pt x="288" y="1702"/>
                  <a:pt x="341" y="1540"/>
                </a:cubicBezTo>
                <a:cubicBezTo>
                  <a:pt x="351" y="1459"/>
                  <a:pt x="370" y="1384"/>
                  <a:pt x="388" y="1305"/>
                </a:cubicBezTo>
                <a:cubicBezTo>
                  <a:pt x="422" y="1154"/>
                  <a:pt x="385" y="1190"/>
                  <a:pt x="459" y="1141"/>
                </a:cubicBezTo>
                <a:cubicBezTo>
                  <a:pt x="479" y="1145"/>
                  <a:pt x="500" y="1143"/>
                  <a:pt x="518" y="1152"/>
                </a:cubicBezTo>
                <a:cubicBezTo>
                  <a:pt x="533" y="1159"/>
                  <a:pt x="539" y="1179"/>
                  <a:pt x="553" y="1188"/>
                </a:cubicBezTo>
                <a:cubicBezTo>
                  <a:pt x="563" y="1195"/>
                  <a:pt x="576" y="1195"/>
                  <a:pt x="588" y="1199"/>
                </a:cubicBezTo>
                <a:cubicBezTo>
                  <a:pt x="604" y="1195"/>
                  <a:pt x="622" y="1197"/>
                  <a:pt x="635" y="1188"/>
                </a:cubicBezTo>
                <a:cubicBezTo>
                  <a:pt x="647" y="1180"/>
                  <a:pt x="650" y="1163"/>
                  <a:pt x="659" y="1152"/>
                </a:cubicBezTo>
                <a:cubicBezTo>
                  <a:pt x="673" y="1135"/>
                  <a:pt x="686" y="1115"/>
                  <a:pt x="706" y="1105"/>
                </a:cubicBezTo>
                <a:cubicBezTo>
                  <a:pt x="727" y="1095"/>
                  <a:pt x="753" y="1098"/>
                  <a:pt x="776" y="1094"/>
                </a:cubicBezTo>
                <a:cubicBezTo>
                  <a:pt x="807" y="1078"/>
                  <a:pt x="839" y="1064"/>
                  <a:pt x="870" y="1047"/>
                </a:cubicBezTo>
                <a:cubicBezTo>
                  <a:pt x="882" y="1040"/>
                  <a:pt x="891" y="1025"/>
                  <a:pt x="905" y="1023"/>
                </a:cubicBezTo>
                <a:cubicBezTo>
                  <a:pt x="925" y="1020"/>
                  <a:pt x="944" y="1031"/>
                  <a:pt x="964" y="1035"/>
                </a:cubicBezTo>
                <a:cubicBezTo>
                  <a:pt x="1056" y="1094"/>
                  <a:pt x="948" y="1018"/>
                  <a:pt x="1023" y="1094"/>
                </a:cubicBezTo>
                <a:cubicBezTo>
                  <a:pt x="1053" y="1125"/>
                  <a:pt x="1105" y="1141"/>
                  <a:pt x="1141" y="1164"/>
                </a:cubicBezTo>
                <a:cubicBezTo>
                  <a:pt x="1233" y="1023"/>
                  <a:pt x="1243" y="824"/>
                  <a:pt x="1258" y="659"/>
                </a:cubicBezTo>
                <a:cubicBezTo>
                  <a:pt x="1269" y="538"/>
                  <a:pt x="1265" y="506"/>
                  <a:pt x="1282" y="400"/>
                </a:cubicBezTo>
                <a:cubicBezTo>
                  <a:pt x="1284" y="385"/>
                  <a:pt x="1300" y="320"/>
                  <a:pt x="1305" y="318"/>
                </a:cubicBezTo>
                <a:cubicBezTo>
                  <a:pt x="1330" y="306"/>
                  <a:pt x="1360" y="310"/>
                  <a:pt x="1387" y="306"/>
                </a:cubicBezTo>
                <a:cubicBezTo>
                  <a:pt x="1507" y="330"/>
                  <a:pt x="1630" y="329"/>
                  <a:pt x="1752" y="341"/>
                </a:cubicBezTo>
                <a:cubicBezTo>
                  <a:pt x="1776" y="349"/>
                  <a:pt x="1805" y="356"/>
                  <a:pt x="1822" y="377"/>
                </a:cubicBezTo>
                <a:cubicBezTo>
                  <a:pt x="1839" y="398"/>
                  <a:pt x="1831" y="438"/>
                  <a:pt x="1846" y="459"/>
                </a:cubicBezTo>
                <a:cubicBezTo>
                  <a:pt x="1865" y="486"/>
                  <a:pt x="1898" y="502"/>
                  <a:pt x="1916" y="529"/>
                </a:cubicBezTo>
                <a:cubicBezTo>
                  <a:pt x="1924" y="541"/>
                  <a:pt x="1929" y="556"/>
                  <a:pt x="1940" y="565"/>
                </a:cubicBezTo>
                <a:cubicBezTo>
                  <a:pt x="1950" y="573"/>
                  <a:pt x="1963" y="572"/>
                  <a:pt x="1975" y="576"/>
                </a:cubicBezTo>
                <a:cubicBezTo>
                  <a:pt x="1991" y="572"/>
                  <a:pt x="2006" y="568"/>
                  <a:pt x="2022" y="565"/>
                </a:cubicBezTo>
                <a:cubicBezTo>
                  <a:pt x="2053" y="560"/>
                  <a:pt x="2085" y="560"/>
                  <a:pt x="2116" y="553"/>
                </a:cubicBezTo>
                <a:cubicBezTo>
                  <a:pt x="2140" y="548"/>
                  <a:pt x="2163" y="535"/>
                  <a:pt x="2187" y="529"/>
                </a:cubicBezTo>
                <a:cubicBezTo>
                  <a:pt x="2210" y="523"/>
                  <a:pt x="2234" y="522"/>
                  <a:pt x="2257" y="518"/>
                </a:cubicBezTo>
                <a:cubicBezTo>
                  <a:pt x="2506" y="434"/>
                  <a:pt x="2121" y="449"/>
                  <a:pt x="2633" y="471"/>
                </a:cubicBezTo>
                <a:cubicBezTo>
                  <a:pt x="2656" y="493"/>
                  <a:pt x="2679" y="511"/>
                  <a:pt x="2692" y="541"/>
                </a:cubicBezTo>
                <a:cubicBezTo>
                  <a:pt x="2711" y="585"/>
                  <a:pt x="2713" y="618"/>
                  <a:pt x="2739" y="659"/>
                </a:cubicBezTo>
                <a:cubicBezTo>
                  <a:pt x="2742" y="672"/>
                  <a:pt x="2758" y="747"/>
                  <a:pt x="2775" y="753"/>
                </a:cubicBezTo>
                <a:cubicBezTo>
                  <a:pt x="2792" y="758"/>
                  <a:pt x="2806" y="737"/>
                  <a:pt x="2822" y="729"/>
                </a:cubicBezTo>
                <a:cubicBezTo>
                  <a:pt x="2830" y="713"/>
                  <a:pt x="2841" y="699"/>
                  <a:pt x="2845" y="682"/>
                </a:cubicBezTo>
                <a:cubicBezTo>
                  <a:pt x="2853" y="651"/>
                  <a:pt x="2846" y="617"/>
                  <a:pt x="2857" y="588"/>
                </a:cubicBezTo>
                <a:cubicBezTo>
                  <a:pt x="2873" y="546"/>
                  <a:pt x="2907" y="512"/>
                  <a:pt x="2927" y="471"/>
                </a:cubicBezTo>
                <a:cubicBezTo>
                  <a:pt x="2938" y="449"/>
                  <a:pt x="2933" y="418"/>
                  <a:pt x="2951" y="400"/>
                </a:cubicBezTo>
                <a:cubicBezTo>
                  <a:pt x="3006" y="345"/>
                  <a:pt x="3084" y="315"/>
                  <a:pt x="3139" y="259"/>
                </a:cubicBezTo>
                <a:cubicBezTo>
                  <a:pt x="3162" y="235"/>
                  <a:pt x="3186" y="212"/>
                  <a:pt x="3209" y="188"/>
                </a:cubicBezTo>
                <a:cubicBezTo>
                  <a:pt x="3254" y="58"/>
                  <a:pt x="3216" y="179"/>
                  <a:pt x="3245" y="47"/>
                </a:cubicBezTo>
                <a:cubicBezTo>
                  <a:pt x="3248" y="35"/>
                  <a:pt x="3247" y="21"/>
                  <a:pt x="3256" y="12"/>
                </a:cubicBezTo>
                <a:cubicBezTo>
                  <a:pt x="3265" y="3"/>
                  <a:pt x="3280" y="4"/>
                  <a:pt x="3292" y="0"/>
                </a:cubicBezTo>
                <a:cubicBezTo>
                  <a:pt x="3336" y="30"/>
                  <a:pt x="3340" y="49"/>
                  <a:pt x="3362" y="94"/>
                </a:cubicBezTo>
                <a:cubicBezTo>
                  <a:pt x="3382" y="135"/>
                  <a:pt x="3420" y="163"/>
                  <a:pt x="3445" y="200"/>
                </a:cubicBezTo>
                <a:cubicBezTo>
                  <a:pt x="3449" y="224"/>
                  <a:pt x="3445" y="250"/>
                  <a:pt x="3456" y="271"/>
                </a:cubicBezTo>
                <a:cubicBezTo>
                  <a:pt x="3462" y="284"/>
                  <a:pt x="3481" y="285"/>
                  <a:pt x="3492" y="294"/>
                </a:cubicBezTo>
                <a:cubicBezTo>
                  <a:pt x="3527" y="323"/>
                  <a:pt x="3548" y="365"/>
                  <a:pt x="3597" y="377"/>
                </a:cubicBezTo>
                <a:cubicBezTo>
                  <a:pt x="3628" y="385"/>
                  <a:pt x="3691" y="400"/>
                  <a:pt x="3691" y="400"/>
                </a:cubicBezTo>
                <a:cubicBezTo>
                  <a:pt x="3746" y="480"/>
                  <a:pt x="3729" y="506"/>
                  <a:pt x="3715" y="623"/>
                </a:cubicBezTo>
                <a:cubicBezTo>
                  <a:pt x="3709" y="670"/>
                  <a:pt x="3691" y="764"/>
                  <a:pt x="3691" y="764"/>
                </a:cubicBezTo>
                <a:cubicBezTo>
                  <a:pt x="3699" y="927"/>
                  <a:pt x="3667" y="1079"/>
                  <a:pt x="3809" y="1176"/>
                </a:cubicBezTo>
                <a:cubicBezTo>
                  <a:pt x="3817" y="1188"/>
                  <a:pt x="3821" y="1202"/>
                  <a:pt x="3832" y="1211"/>
                </a:cubicBezTo>
                <a:cubicBezTo>
                  <a:pt x="3842" y="1219"/>
                  <a:pt x="3859" y="1214"/>
                  <a:pt x="3868" y="1223"/>
                </a:cubicBezTo>
                <a:cubicBezTo>
                  <a:pt x="3877" y="1232"/>
                  <a:pt x="3874" y="1247"/>
                  <a:pt x="3880" y="1258"/>
                </a:cubicBezTo>
                <a:cubicBezTo>
                  <a:pt x="3900" y="1297"/>
                  <a:pt x="3903" y="1293"/>
                  <a:pt x="3938" y="1317"/>
                </a:cubicBezTo>
                <a:cubicBezTo>
                  <a:pt x="3945" y="1353"/>
                  <a:pt x="3957" y="1387"/>
                  <a:pt x="3962" y="1423"/>
                </a:cubicBezTo>
                <a:cubicBezTo>
                  <a:pt x="3975" y="1522"/>
                  <a:pt x="3961" y="1551"/>
                  <a:pt x="4009" y="1623"/>
                </a:cubicBezTo>
                <a:cubicBezTo>
                  <a:pt x="4009" y="1625"/>
                  <a:pt x="4027" y="1698"/>
                  <a:pt x="4032" y="1705"/>
                </a:cubicBezTo>
                <a:cubicBezTo>
                  <a:pt x="4082" y="1780"/>
                  <a:pt x="4051" y="1705"/>
                  <a:pt x="4103" y="1764"/>
                </a:cubicBezTo>
                <a:cubicBezTo>
                  <a:pt x="4129" y="1793"/>
                  <a:pt x="4150" y="1827"/>
                  <a:pt x="4173" y="1858"/>
                </a:cubicBezTo>
                <a:cubicBezTo>
                  <a:pt x="4185" y="1874"/>
                  <a:pt x="4197" y="1889"/>
                  <a:pt x="4209" y="1905"/>
                </a:cubicBezTo>
                <a:cubicBezTo>
                  <a:pt x="4221" y="1921"/>
                  <a:pt x="4244" y="1952"/>
                  <a:pt x="4244" y="1952"/>
                </a:cubicBezTo>
                <a:cubicBezTo>
                  <a:pt x="4257" y="2028"/>
                  <a:pt x="4260" y="2113"/>
                  <a:pt x="4279" y="2187"/>
                </a:cubicBezTo>
                <a:cubicBezTo>
                  <a:pt x="4303" y="2281"/>
                  <a:pt x="4343" y="2376"/>
                  <a:pt x="4373" y="2469"/>
                </a:cubicBezTo>
                <a:cubicBezTo>
                  <a:pt x="4384" y="2503"/>
                  <a:pt x="4424" y="2521"/>
                  <a:pt x="4444" y="2551"/>
                </a:cubicBezTo>
                <a:cubicBezTo>
                  <a:pt x="4423" y="2613"/>
                  <a:pt x="4447" y="2669"/>
                  <a:pt x="4467" y="2728"/>
                </a:cubicBezTo>
                <a:cubicBezTo>
                  <a:pt x="4475" y="2751"/>
                  <a:pt x="4483" y="2775"/>
                  <a:pt x="4491" y="2798"/>
                </a:cubicBezTo>
                <a:cubicBezTo>
                  <a:pt x="4495" y="2810"/>
                  <a:pt x="4503" y="2833"/>
                  <a:pt x="4503" y="2833"/>
                </a:cubicBezTo>
                <a:cubicBezTo>
                  <a:pt x="4514" y="2967"/>
                  <a:pt x="4514" y="2920"/>
                  <a:pt x="4514" y="2974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6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3124080" y="4572000"/>
            <a:ext cx="1447920" cy="0"/>
          </a:xfrm>
          <a:prstGeom prst="line">
            <a:avLst/>
          </a:prstGeom>
          <a:ln w="127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2" name="Line 9"/>
          <p:cNvSpPr/>
          <p:nvPr/>
        </p:nvSpPr>
        <p:spPr>
          <a:xfrm flipH="1">
            <a:off x="7620120" y="4572000"/>
            <a:ext cx="1218960" cy="0"/>
          </a:xfrm>
          <a:prstGeom prst="line">
            <a:avLst/>
          </a:prstGeom>
          <a:ln w="127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23" name="Picture 13" descr="pic_r02_c0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90720" y="1600200"/>
            <a:ext cx="1006200" cy="731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4"/>
          <p:cNvSpPr/>
          <p:nvPr/>
        </p:nvSpPr>
        <p:spPr>
          <a:xfrm>
            <a:off x="3851280" y="54450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（两端同时向中间凿进）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2"/>
          <p:cNvSpPr/>
          <p:nvPr/>
        </p:nvSpPr>
        <p:spPr>
          <a:xfrm rot="111600">
            <a:off x="1750680" y="1757520"/>
            <a:ext cx="7085160" cy="3133440"/>
          </a:xfrm>
          <a:custGeom>
            <a:avLst/>
            <a:gdLst/>
            <a:ahLst/>
            <a:rect l="l" t="t" r="r" b="b"/>
            <a:pathLst>
              <a:path w="5761" h="2598">
                <a:moveTo>
                  <a:pt x="0" y="2598"/>
                </a:moveTo>
                <a:cubicBezTo>
                  <a:pt x="15" y="2538"/>
                  <a:pt x="28" y="2479"/>
                  <a:pt x="47" y="2421"/>
                </a:cubicBezTo>
                <a:cubicBezTo>
                  <a:pt x="61" y="2260"/>
                  <a:pt x="72" y="2100"/>
                  <a:pt x="82" y="1939"/>
                </a:cubicBezTo>
                <a:cubicBezTo>
                  <a:pt x="91" y="1796"/>
                  <a:pt x="88" y="1722"/>
                  <a:pt x="129" y="1599"/>
                </a:cubicBezTo>
                <a:cubicBezTo>
                  <a:pt x="142" y="1559"/>
                  <a:pt x="188" y="1528"/>
                  <a:pt x="211" y="1493"/>
                </a:cubicBezTo>
                <a:cubicBezTo>
                  <a:pt x="300" y="1516"/>
                  <a:pt x="286" y="1542"/>
                  <a:pt x="352" y="1587"/>
                </a:cubicBezTo>
                <a:cubicBezTo>
                  <a:pt x="370" y="1535"/>
                  <a:pt x="408" y="1498"/>
                  <a:pt x="423" y="1446"/>
                </a:cubicBezTo>
                <a:cubicBezTo>
                  <a:pt x="443" y="1379"/>
                  <a:pt x="460" y="1312"/>
                  <a:pt x="482" y="1246"/>
                </a:cubicBezTo>
                <a:cubicBezTo>
                  <a:pt x="483" y="1243"/>
                  <a:pt x="503" y="1177"/>
                  <a:pt x="505" y="1175"/>
                </a:cubicBezTo>
                <a:cubicBezTo>
                  <a:pt x="525" y="1148"/>
                  <a:pt x="553" y="1125"/>
                  <a:pt x="564" y="1093"/>
                </a:cubicBezTo>
                <a:cubicBezTo>
                  <a:pt x="568" y="1081"/>
                  <a:pt x="570" y="1069"/>
                  <a:pt x="576" y="1058"/>
                </a:cubicBezTo>
                <a:cubicBezTo>
                  <a:pt x="593" y="1029"/>
                  <a:pt x="635" y="976"/>
                  <a:pt x="635" y="976"/>
                </a:cubicBezTo>
                <a:cubicBezTo>
                  <a:pt x="635" y="975"/>
                  <a:pt x="656" y="906"/>
                  <a:pt x="658" y="905"/>
                </a:cubicBezTo>
                <a:cubicBezTo>
                  <a:pt x="673" y="899"/>
                  <a:pt x="689" y="913"/>
                  <a:pt x="705" y="917"/>
                </a:cubicBezTo>
                <a:cubicBezTo>
                  <a:pt x="728" y="951"/>
                  <a:pt x="784" y="1015"/>
                  <a:pt x="799" y="1058"/>
                </a:cubicBezTo>
                <a:cubicBezTo>
                  <a:pt x="803" y="1070"/>
                  <a:pt x="804" y="1083"/>
                  <a:pt x="811" y="1093"/>
                </a:cubicBezTo>
                <a:cubicBezTo>
                  <a:pt x="820" y="1107"/>
                  <a:pt x="835" y="1115"/>
                  <a:pt x="846" y="1128"/>
                </a:cubicBezTo>
                <a:cubicBezTo>
                  <a:pt x="855" y="1139"/>
                  <a:pt x="862" y="1152"/>
                  <a:pt x="870" y="1164"/>
                </a:cubicBezTo>
                <a:cubicBezTo>
                  <a:pt x="883" y="1150"/>
                  <a:pt x="922" y="1115"/>
                  <a:pt x="928" y="1093"/>
                </a:cubicBezTo>
                <a:cubicBezTo>
                  <a:pt x="937" y="1060"/>
                  <a:pt x="947" y="929"/>
                  <a:pt x="975" y="893"/>
                </a:cubicBezTo>
                <a:cubicBezTo>
                  <a:pt x="984" y="882"/>
                  <a:pt x="999" y="878"/>
                  <a:pt x="1011" y="870"/>
                </a:cubicBezTo>
                <a:cubicBezTo>
                  <a:pt x="1030" y="874"/>
                  <a:pt x="1050" y="877"/>
                  <a:pt x="1069" y="881"/>
                </a:cubicBezTo>
                <a:cubicBezTo>
                  <a:pt x="1101" y="888"/>
                  <a:pt x="1164" y="905"/>
                  <a:pt x="1164" y="905"/>
                </a:cubicBezTo>
                <a:cubicBezTo>
                  <a:pt x="1225" y="950"/>
                  <a:pt x="1276" y="1004"/>
                  <a:pt x="1340" y="1046"/>
                </a:cubicBezTo>
                <a:cubicBezTo>
                  <a:pt x="1348" y="1058"/>
                  <a:pt x="1350" y="1076"/>
                  <a:pt x="1363" y="1081"/>
                </a:cubicBezTo>
                <a:cubicBezTo>
                  <a:pt x="1402" y="1097"/>
                  <a:pt x="1405" y="1052"/>
                  <a:pt x="1410" y="1034"/>
                </a:cubicBezTo>
                <a:cubicBezTo>
                  <a:pt x="1418" y="956"/>
                  <a:pt x="1425" y="886"/>
                  <a:pt x="1446" y="811"/>
                </a:cubicBezTo>
                <a:cubicBezTo>
                  <a:pt x="1449" y="799"/>
                  <a:pt x="1448" y="785"/>
                  <a:pt x="1457" y="776"/>
                </a:cubicBezTo>
                <a:cubicBezTo>
                  <a:pt x="1485" y="748"/>
                  <a:pt x="1520" y="729"/>
                  <a:pt x="1551" y="705"/>
                </a:cubicBezTo>
                <a:cubicBezTo>
                  <a:pt x="1578" y="685"/>
                  <a:pt x="1622" y="635"/>
                  <a:pt x="1622" y="635"/>
                </a:cubicBezTo>
                <a:cubicBezTo>
                  <a:pt x="1689" y="639"/>
                  <a:pt x="1756" y="636"/>
                  <a:pt x="1822" y="646"/>
                </a:cubicBezTo>
                <a:cubicBezTo>
                  <a:pt x="1854" y="651"/>
                  <a:pt x="1875" y="701"/>
                  <a:pt x="1892" y="717"/>
                </a:cubicBezTo>
                <a:cubicBezTo>
                  <a:pt x="1902" y="727"/>
                  <a:pt x="1916" y="732"/>
                  <a:pt x="1928" y="740"/>
                </a:cubicBezTo>
                <a:cubicBezTo>
                  <a:pt x="1944" y="751"/>
                  <a:pt x="1961" y="762"/>
                  <a:pt x="1975" y="776"/>
                </a:cubicBezTo>
                <a:cubicBezTo>
                  <a:pt x="2031" y="833"/>
                  <a:pt x="2026" y="934"/>
                  <a:pt x="2116" y="964"/>
                </a:cubicBezTo>
                <a:cubicBezTo>
                  <a:pt x="2172" y="880"/>
                  <a:pt x="2157" y="921"/>
                  <a:pt x="2174" y="846"/>
                </a:cubicBezTo>
                <a:cubicBezTo>
                  <a:pt x="2224" y="863"/>
                  <a:pt x="2224" y="887"/>
                  <a:pt x="2268" y="917"/>
                </a:cubicBezTo>
                <a:cubicBezTo>
                  <a:pt x="2294" y="955"/>
                  <a:pt x="2325" y="973"/>
                  <a:pt x="2351" y="1011"/>
                </a:cubicBezTo>
                <a:cubicBezTo>
                  <a:pt x="2442" y="988"/>
                  <a:pt x="2431" y="960"/>
                  <a:pt x="2457" y="881"/>
                </a:cubicBezTo>
                <a:cubicBezTo>
                  <a:pt x="2471" y="698"/>
                  <a:pt x="2508" y="482"/>
                  <a:pt x="2562" y="305"/>
                </a:cubicBezTo>
                <a:cubicBezTo>
                  <a:pt x="2617" y="313"/>
                  <a:pt x="2675" y="308"/>
                  <a:pt x="2727" y="329"/>
                </a:cubicBezTo>
                <a:cubicBezTo>
                  <a:pt x="2780" y="350"/>
                  <a:pt x="2830" y="461"/>
                  <a:pt x="2868" y="482"/>
                </a:cubicBezTo>
                <a:cubicBezTo>
                  <a:pt x="2889" y="494"/>
                  <a:pt x="2915" y="490"/>
                  <a:pt x="2939" y="494"/>
                </a:cubicBezTo>
                <a:cubicBezTo>
                  <a:pt x="2989" y="544"/>
                  <a:pt x="3019" y="609"/>
                  <a:pt x="3068" y="658"/>
                </a:cubicBezTo>
                <a:cubicBezTo>
                  <a:pt x="3135" y="726"/>
                  <a:pt x="3190" y="795"/>
                  <a:pt x="3232" y="881"/>
                </a:cubicBezTo>
                <a:cubicBezTo>
                  <a:pt x="3241" y="937"/>
                  <a:pt x="3259" y="1061"/>
                  <a:pt x="3291" y="1093"/>
                </a:cubicBezTo>
                <a:cubicBezTo>
                  <a:pt x="3348" y="1150"/>
                  <a:pt x="3325" y="1122"/>
                  <a:pt x="3362" y="1175"/>
                </a:cubicBezTo>
                <a:cubicBezTo>
                  <a:pt x="3365" y="1184"/>
                  <a:pt x="3380" y="1246"/>
                  <a:pt x="3397" y="1246"/>
                </a:cubicBezTo>
                <a:cubicBezTo>
                  <a:pt x="3417" y="1246"/>
                  <a:pt x="3428" y="1223"/>
                  <a:pt x="3444" y="1211"/>
                </a:cubicBezTo>
                <a:cubicBezTo>
                  <a:pt x="3504" y="1121"/>
                  <a:pt x="3487" y="920"/>
                  <a:pt x="3491" y="834"/>
                </a:cubicBezTo>
                <a:cubicBezTo>
                  <a:pt x="3522" y="842"/>
                  <a:pt x="3556" y="844"/>
                  <a:pt x="3585" y="858"/>
                </a:cubicBezTo>
                <a:cubicBezTo>
                  <a:pt x="3615" y="872"/>
                  <a:pt x="3667" y="917"/>
                  <a:pt x="3667" y="917"/>
                </a:cubicBezTo>
                <a:cubicBezTo>
                  <a:pt x="3715" y="988"/>
                  <a:pt x="3663" y="920"/>
                  <a:pt x="3726" y="976"/>
                </a:cubicBezTo>
                <a:cubicBezTo>
                  <a:pt x="3794" y="1036"/>
                  <a:pt x="3835" y="1107"/>
                  <a:pt x="3926" y="1128"/>
                </a:cubicBezTo>
                <a:cubicBezTo>
                  <a:pt x="4041" y="927"/>
                  <a:pt x="3971" y="1077"/>
                  <a:pt x="3996" y="635"/>
                </a:cubicBezTo>
                <a:cubicBezTo>
                  <a:pt x="4004" y="493"/>
                  <a:pt x="4075" y="298"/>
                  <a:pt x="4126" y="164"/>
                </a:cubicBezTo>
                <a:cubicBezTo>
                  <a:pt x="4136" y="137"/>
                  <a:pt x="4131" y="104"/>
                  <a:pt x="4149" y="82"/>
                </a:cubicBezTo>
                <a:cubicBezTo>
                  <a:pt x="4175" y="50"/>
                  <a:pt x="4232" y="23"/>
                  <a:pt x="4267" y="0"/>
                </a:cubicBezTo>
                <a:cubicBezTo>
                  <a:pt x="4326" y="20"/>
                  <a:pt x="4355" y="83"/>
                  <a:pt x="4396" y="129"/>
                </a:cubicBezTo>
                <a:cubicBezTo>
                  <a:pt x="4418" y="154"/>
                  <a:pt x="4443" y="176"/>
                  <a:pt x="4467" y="200"/>
                </a:cubicBezTo>
                <a:cubicBezTo>
                  <a:pt x="4509" y="242"/>
                  <a:pt x="4542" y="297"/>
                  <a:pt x="4584" y="341"/>
                </a:cubicBezTo>
                <a:cubicBezTo>
                  <a:pt x="4610" y="417"/>
                  <a:pt x="4640" y="457"/>
                  <a:pt x="4714" y="482"/>
                </a:cubicBezTo>
                <a:cubicBezTo>
                  <a:pt x="4726" y="474"/>
                  <a:pt x="4736" y="464"/>
                  <a:pt x="4749" y="458"/>
                </a:cubicBezTo>
                <a:cubicBezTo>
                  <a:pt x="4771" y="448"/>
                  <a:pt x="4819" y="435"/>
                  <a:pt x="4819" y="435"/>
                </a:cubicBezTo>
                <a:cubicBezTo>
                  <a:pt x="4912" y="466"/>
                  <a:pt x="4931" y="466"/>
                  <a:pt x="4996" y="529"/>
                </a:cubicBezTo>
                <a:cubicBezTo>
                  <a:pt x="5025" y="589"/>
                  <a:pt x="5037" y="643"/>
                  <a:pt x="5054" y="705"/>
                </a:cubicBezTo>
                <a:cubicBezTo>
                  <a:pt x="5060" y="729"/>
                  <a:pt x="5070" y="752"/>
                  <a:pt x="5078" y="776"/>
                </a:cubicBezTo>
                <a:cubicBezTo>
                  <a:pt x="5082" y="788"/>
                  <a:pt x="5090" y="811"/>
                  <a:pt x="5090" y="811"/>
                </a:cubicBezTo>
                <a:cubicBezTo>
                  <a:pt x="5094" y="854"/>
                  <a:pt x="5095" y="897"/>
                  <a:pt x="5101" y="940"/>
                </a:cubicBezTo>
                <a:cubicBezTo>
                  <a:pt x="5103" y="953"/>
                  <a:pt x="5101" y="972"/>
                  <a:pt x="5113" y="976"/>
                </a:cubicBezTo>
                <a:cubicBezTo>
                  <a:pt x="5136" y="983"/>
                  <a:pt x="5160" y="968"/>
                  <a:pt x="5184" y="964"/>
                </a:cubicBezTo>
                <a:cubicBezTo>
                  <a:pt x="5262" y="984"/>
                  <a:pt x="5207" y="959"/>
                  <a:pt x="5254" y="1011"/>
                </a:cubicBezTo>
                <a:cubicBezTo>
                  <a:pt x="5276" y="1036"/>
                  <a:pt x="5325" y="1081"/>
                  <a:pt x="5325" y="1081"/>
                </a:cubicBezTo>
                <a:cubicBezTo>
                  <a:pt x="5344" y="1139"/>
                  <a:pt x="5393" y="1176"/>
                  <a:pt x="5431" y="1222"/>
                </a:cubicBezTo>
                <a:cubicBezTo>
                  <a:pt x="5440" y="1233"/>
                  <a:pt x="5448" y="1245"/>
                  <a:pt x="5454" y="1258"/>
                </a:cubicBezTo>
                <a:cubicBezTo>
                  <a:pt x="5464" y="1281"/>
                  <a:pt x="5478" y="1328"/>
                  <a:pt x="5478" y="1328"/>
                </a:cubicBezTo>
                <a:cubicBezTo>
                  <a:pt x="5482" y="1465"/>
                  <a:pt x="5479" y="1603"/>
                  <a:pt x="5489" y="1740"/>
                </a:cubicBezTo>
                <a:cubicBezTo>
                  <a:pt x="5490" y="1758"/>
                  <a:pt x="5510" y="1770"/>
                  <a:pt x="5513" y="1787"/>
                </a:cubicBezTo>
                <a:cubicBezTo>
                  <a:pt x="5562" y="2108"/>
                  <a:pt x="5491" y="1873"/>
                  <a:pt x="5548" y="2045"/>
                </a:cubicBezTo>
                <a:cubicBezTo>
                  <a:pt x="5566" y="2100"/>
                  <a:pt x="5643" y="2182"/>
                  <a:pt x="5677" y="2233"/>
                </a:cubicBezTo>
                <a:cubicBezTo>
                  <a:pt x="5684" y="2244"/>
                  <a:pt x="5682" y="2258"/>
                  <a:pt x="5689" y="2269"/>
                </a:cubicBezTo>
                <a:cubicBezTo>
                  <a:pt x="5706" y="2298"/>
                  <a:pt x="5748" y="2351"/>
                  <a:pt x="5748" y="2351"/>
                </a:cubicBezTo>
                <a:cubicBezTo>
                  <a:pt x="5761" y="2390"/>
                  <a:pt x="5760" y="2374"/>
                  <a:pt x="5760" y="2398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6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Freeform 7"/>
          <p:cNvSpPr/>
          <p:nvPr/>
        </p:nvSpPr>
        <p:spPr>
          <a:xfrm>
            <a:off x="7686720" y="2514600"/>
            <a:ext cx="1457280" cy="2332080"/>
          </a:xfrm>
          <a:custGeom>
            <a:avLst/>
            <a:gdLst/>
            <a:ahLst/>
            <a:rect l="l" t="t" r="r" b="b"/>
            <a:pathLst>
              <a:path w="918" h="1469">
                <a:moveTo>
                  <a:pt x="424" y="1469"/>
                </a:moveTo>
                <a:cubicBezTo>
                  <a:pt x="398" y="1460"/>
                  <a:pt x="374" y="1455"/>
                  <a:pt x="353" y="1434"/>
                </a:cubicBezTo>
                <a:cubicBezTo>
                  <a:pt x="343" y="1424"/>
                  <a:pt x="341" y="1407"/>
                  <a:pt x="330" y="1398"/>
                </a:cubicBezTo>
                <a:cubicBezTo>
                  <a:pt x="280" y="1354"/>
                  <a:pt x="206" y="1313"/>
                  <a:pt x="142" y="1293"/>
                </a:cubicBezTo>
                <a:cubicBezTo>
                  <a:pt x="134" y="1281"/>
                  <a:pt x="128" y="1267"/>
                  <a:pt x="118" y="1257"/>
                </a:cubicBezTo>
                <a:cubicBezTo>
                  <a:pt x="108" y="1247"/>
                  <a:pt x="92" y="1245"/>
                  <a:pt x="83" y="1234"/>
                </a:cubicBezTo>
                <a:cubicBezTo>
                  <a:pt x="80" y="1230"/>
                  <a:pt x="61" y="1167"/>
                  <a:pt x="60" y="1163"/>
                </a:cubicBezTo>
                <a:cubicBezTo>
                  <a:pt x="52" y="1140"/>
                  <a:pt x="36" y="1093"/>
                  <a:pt x="36" y="1093"/>
                </a:cubicBezTo>
                <a:cubicBezTo>
                  <a:pt x="58" y="874"/>
                  <a:pt x="6" y="1000"/>
                  <a:pt x="95" y="987"/>
                </a:cubicBezTo>
                <a:cubicBezTo>
                  <a:pt x="109" y="985"/>
                  <a:pt x="118" y="971"/>
                  <a:pt x="130" y="963"/>
                </a:cubicBezTo>
                <a:cubicBezTo>
                  <a:pt x="128" y="918"/>
                  <a:pt x="89" y="596"/>
                  <a:pt x="118" y="517"/>
                </a:cubicBezTo>
                <a:cubicBezTo>
                  <a:pt x="123" y="503"/>
                  <a:pt x="142" y="501"/>
                  <a:pt x="154" y="493"/>
                </a:cubicBezTo>
                <a:cubicBezTo>
                  <a:pt x="204" y="510"/>
                  <a:pt x="222" y="550"/>
                  <a:pt x="259" y="587"/>
                </a:cubicBezTo>
                <a:cubicBezTo>
                  <a:pt x="233" y="509"/>
                  <a:pt x="224" y="468"/>
                  <a:pt x="165" y="411"/>
                </a:cubicBezTo>
                <a:cubicBezTo>
                  <a:pt x="141" y="338"/>
                  <a:pt x="101" y="254"/>
                  <a:pt x="48" y="199"/>
                </a:cubicBezTo>
                <a:cubicBezTo>
                  <a:pt x="40" y="176"/>
                  <a:pt x="32" y="152"/>
                  <a:pt x="24" y="129"/>
                </a:cubicBezTo>
                <a:cubicBezTo>
                  <a:pt x="0" y="56"/>
                  <a:pt x="5" y="93"/>
                  <a:pt x="130" y="105"/>
                </a:cubicBezTo>
                <a:cubicBezTo>
                  <a:pt x="154" y="121"/>
                  <a:pt x="177" y="136"/>
                  <a:pt x="201" y="152"/>
                </a:cubicBezTo>
                <a:cubicBezTo>
                  <a:pt x="213" y="160"/>
                  <a:pt x="236" y="176"/>
                  <a:pt x="236" y="176"/>
                </a:cubicBezTo>
                <a:cubicBezTo>
                  <a:pt x="243" y="144"/>
                  <a:pt x="251" y="31"/>
                  <a:pt x="271" y="11"/>
                </a:cubicBezTo>
                <a:cubicBezTo>
                  <a:pt x="280" y="2"/>
                  <a:pt x="294" y="4"/>
                  <a:pt x="306" y="0"/>
                </a:cubicBezTo>
                <a:cubicBezTo>
                  <a:pt x="369" y="19"/>
                  <a:pt x="331" y="4"/>
                  <a:pt x="412" y="58"/>
                </a:cubicBezTo>
                <a:cubicBezTo>
                  <a:pt x="424" y="66"/>
                  <a:pt x="436" y="74"/>
                  <a:pt x="448" y="82"/>
                </a:cubicBezTo>
                <a:cubicBezTo>
                  <a:pt x="460" y="90"/>
                  <a:pt x="483" y="105"/>
                  <a:pt x="483" y="105"/>
                </a:cubicBezTo>
                <a:cubicBezTo>
                  <a:pt x="504" y="139"/>
                  <a:pt x="508" y="139"/>
                  <a:pt x="518" y="176"/>
                </a:cubicBezTo>
                <a:cubicBezTo>
                  <a:pt x="523" y="195"/>
                  <a:pt x="519" y="218"/>
                  <a:pt x="530" y="235"/>
                </a:cubicBezTo>
                <a:cubicBezTo>
                  <a:pt x="548" y="263"/>
                  <a:pt x="582" y="277"/>
                  <a:pt x="600" y="305"/>
                </a:cubicBezTo>
                <a:cubicBezTo>
                  <a:pt x="616" y="329"/>
                  <a:pt x="631" y="352"/>
                  <a:pt x="647" y="376"/>
                </a:cubicBezTo>
                <a:cubicBezTo>
                  <a:pt x="649" y="379"/>
                  <a:pt x="693" y="442"/>
                  <a:pt x="694" y="446"/>
                </a:cubicBezTo>
                <a:cubicBezTo>
                  <a:pt x="702" y="470"/>
                  <a:pt x="718" y="517"/>
                  <a:pt x="718" y="517"/>
                </a:cubicBezTo>
                <a:cubicBezTo>
                  <a:pt x="735" y="685"/>
                  <a:pt x="776" y="853"/>
                  <a:pt x="718" y="1022"/>
                </a:cubicBezTo>
                <a:cubicBezTo>
                  <a:pt x="727" y="1078"/>
                  <a:pt x="736" y="1159"/>
                  <a:pt x="765" y="1210"/>
                </a:cubicBezTo>
                <a:cubicBezTo>
                  <a:pt x="786" y="1247"/>
                  <a:pt x="811" y="1281"/>
                  <a:pt x="835" y="1316"/>
                </a:cubicBezTo>
                <a:cubicBezTo>
                  <a:pt x="843" y="1328"/>
                  <a:pt x="859" y="1351"/>
                  <a:pt x="859" y="1351"/>
                </a:cubicBezTo>
                <a:cubicBezTo>
                  <a:pt x="869" y="1380"/>
                  <a:pt x="898" y="1449"/>
                  <a:pt x="918" y="1469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7" name="Line 9"/>
          <p:cNvSpPr/>
          <p:nvPr/>
        </p:nvSpPr>
        <p:spPr>
          <a:xfrm flipH="1">
            <a:off x="5219640" y="4292640"/>
            <a:ext cx="782640" cy="0"/>
          </a:xfrm>
          <a:prstGeom prst="line">
            <a:avLst/>
          </a:prstGeom>
          <a:ln w="127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1752480" y="4267080"/>
            <a:ext cx="1219320" cy="0"/>
          </a:xfrm>
          <a:prstGeom prst="line">
            <a:avLst/>
          </a:prstGeom>
          <a:ln w="127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5867280" y="4292640"/>
            <a:ext cx="720720" cy="0"/>
          </a:xfrm>
          <a:prstGeom prst="line">
            <a:avLst/>
          </a:prstGeom>
          <a:ln w="127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Line 12"/>
          <p:cNvSpPr/>
          <p:nvPr/>
        </p:nvSpPr>
        <p:spPr>
          <a:xfrm flipH="1">
            <a:off x="7924680" y="4267080"/>
            <a:ext cx="990720" cy="0"/>
          </a:xfrm>
          <a:prstGeom prst="line">
            <a:avLst/>
          </a:prstGeom>
          <a:ln w="127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6012000" y="2637000"/>
            <a:ext cx="0" cy="1655640"/>
          </a:xfrm>
          <a:prstGeom prst="line">
            <a:avLst/>
          </a:prstGeom>
          <a:ln w="127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2" name="Picture 18" descr="pic_r02_c0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0120" y="762120"/>
            <a:ext cx="1006200" cy="7318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9"/>
          <p:cNvSpPr/>
          <p:nvPr/>
        </p:nvSpPr>
        <p:spPr>
          <a:xfrm>
            <a:off x="4267080" y="52578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（中部竖井法）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4" name="Line 20"/>
          <p:cNvSpPr/>
          <p:nvPr/>
        </p:nvSpPr>
        <p:spPr>
          <a:xfrm flipH="1" flipV="1">
            <a:off x="3284280" y="4233600"/>
            <a:ext cx="711000" cy="58680"/>
          </a:xfrm>
          <a:prstGeom prst="line">
            <a:avLst/>
          </a:prstGeom>
          <a:ln w="127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5" name="Line 21"/>
          <p:cNvSpPr/>
          <p:nvPr/>
        </p:nvSpPr>
        <p:spPr>
          <a:xfrm flipV="1">
            <a:off x="3995640" y="4233600"/>
            <a:ext cx="594000" cy="58680"/>
          </a:xfrm>
          <a:prstGeom prst="line">
            <a:avLst/>
          </a:prstGeom>
          <a:ln w="127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6" name="Line 22"/>
          <p:cNvSpPr/>
          <p:nvPr/>
        </p:nvSpPr>
        <p:spPr>
          <a:xfrm>
            <a:off x="3995640" y="2565360"/>
            <a:ext cx="0" cy="1655640"/>
          </a:xfrm>
          <a:prstGeom prst="line">
            <a:avLst/>
          </a:prstGeom>
          <a:ln w="127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无标题"/>
          <p:cNvPicPr/>
          <p:nvPr/>
        </p:nvPicPr>
        <p:blipFill>
          <a:blip r:embed="rId1"/>
          <a:stretch/>
        </p:blipFill>
        <p:spPr>
          <a:xfrm>
            <a:off x="609480" y="1143000"/>
            <a:ext cx="5639040" cy="4006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6629400" y="2819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华文细黑"/>
              </a:rPr>
              <a:t>        </a:t>
            </a:r>
            <a:r>
              <a:rPr b="0" lang="zh-CN" sz="2400" spc="-1" strike="noStrike">
                <a:solidFill>
                  <a:srgbClr val="000408"/>
                </a:solidFill>
                <a:latin typeface="Times New Roman"/>
                <a:ea typeface="华文细黑"/>
              </a:rPr>
              <a:t>火车是怎样过青龙桥的？为什么要把铁路设计为人字形？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9" name="Picture 5" descr="pic_r02_c0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34320" y="1219320"/>
            <a:ext cx="1006200" cy="73188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1"/>
          <p:cNvSpPr/>
          <p:nvPr/>
        </p:nvSpPr>
        <p:spPr>
          <a:xfrm>
            <a:off x="789120" y="6130800"/>
            <a:ext cx="103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64c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264c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264c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264c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c3"/>
          <p:cNvPicPr/>
          <p:nvPr/>
        </p:nvPicPr>
        <p:blipFill>
          <a:blip r:embed="rId1"/>
          <a:stretch/>
        </p:blipFill>
        <p:spPr>
          <a:xfrm>
            <a:off x="2627280" y="692280"/>
            <a:ext cx="5867280" cy="3962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pic_r02_c0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480" y="914400"/>
            <a:ext cx="1006560" cy="7318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304920" y="2514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408"/>
                </a:solidFill>
                <a:latin typeface="Times New Roman"/>
              </a:rPr>
              <a:t>想一想，生活中哪些时候也用到这个办法？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6:09:20Z</dcterms:modified>
  <cp:revision>1</cp:revision>
  <dc:subject/>
  <dc:title>幻灯片 1</dc:title>
</cp:coreProperties>
</file>