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96B-7828-4F00-8310-BEA879EF6D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E7C-CF1C-4112-B999-A870DFC371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AF4-7B65-4665-988D-AD44395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979-B5DC-4B2C-A698-6169BD4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92D-8BB1-4D1F-A976-7E6056B7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310-3BAE-4C0F-AECF-C88FF92B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7ED-50CD-432E-BA1F-170B8422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CF1-DF17-4263-A8DE-96CB85D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8F4-281C-45E1-971F-53504156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2CF-920F-4125-9862-3525E1E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D79-3A90-46BA-AE52-3BBB1AF3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5ED-0CF4-44D0-828A-04E5D8A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569-7C40-4F0A-830D-18CB3D7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E7D-336D-4E50-B1EC-3BB4535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A5A-9721-49CC-BEBA-86230742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nci.gov.cn/shuhua/uploadfile/2007713115936968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2.iecool.com/show/58/245.htm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www.wenyi.com/art/guohua/qiyuan/ctp.htm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4360" y="2349360"/>
            <a:ext cx="7775280" cy="129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砖瓦和陶器、瓷器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22046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2988360" y="90792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三   我们周围的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15ef970f4a"/>
          <p:cNvPicPr/>
          <p:nvPr/>
        </p:nvPicPr>
        <p:blipFill>
          <a:blip r:embed="rId1"/>
          <a:stretch/>
        </p:blipFill>
        <p:spPr>
          <a:xfrm>
            <a:off x="826920" y="126828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298040" y="566100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泥 和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55640" y="26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陶瓷的制作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15ef85c226"/>
          <p:cNvPicPr/>
          <p:nvPr/>
        </p:nvPicPr>
        <p:blipFill>
          <a:blip r:embed="rId1"/>
          <a:stretch/>
        </p:blipFill>
        <p:spPr>
          <a:xfrm>
            <a:off x="971640" y="333360"/>
            <a:ext cx="7127640" cy="534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112640" y="59500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拉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5ef863103"/>
          <p:cNvPicPr/>
          <p:nvPr/>
        </p:nvPicPr>
        <p:blipFill>
          <a:blip r:embed="rId1"/>
          <a:stretch/>
        </p:blipFill>
        <p:spPr>
          <a:xfrm>
            <a:off x="971640" y="476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039560" y="59500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施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15ef9616bf"/>
          <p:cNvPicPr/>
          <p:nvPr/>
        </p:nvPicPr>
        <p:blipFill>
          <a:blip r:embed="rId1"/>
          <a:stretch/>
        </p:blipFill>
        <p:spPr>
          <a:xfrm>
            <a:off x="1187280" y="404640"/>
            <a:ext cx="7345440" cy="5508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328280" y="6021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15ef84be7b"/>
          <p:cNvPicPr/>
          <p:nvPr/>
        </p:nvPicPr>
        <p:blipFill>
          <a:blip r:embed="rId1"/>
          <a:stretch/>
        </p:blipFill>
        <p:spPr>
          <a:xfrm>
            <a:off x="971640" y="404640"/>
            <a:ext cx="7345440" cy="5508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039560" y="59500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装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15ef989e65"/>
          <p:cNvPicPr/>
          <p:nvPr/>
        </p:nvPicPr>
        <p:blipFill>
          <a:blip r:embed="rId1"/>
          <a:stretch/>
        </p:blipFill>
        <p:spPr>
          <a:xfrm>
            <a:off x="1116000" y="47628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328280" y="5805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祭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15ef99ef29"/>
          <p:cNvPicPr/>
          <p:nvPr/>
        </p:nvPicPr>
        <p:blipFill>
          <a:blip r:embed="rId1"/>
          <a:stretch/>
        </p:blipFill>
        <p:spPr>
          <a:xfrm>
            <a:off x="1042920" y="549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255200" y="58770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11280" y="934920"/>
            <a:ext cx="831672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陶器生产的历史十分悠久，在河北省徐水县的南庄头遗址发现了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年前生产的陶器；江苏省溧水县回峰山的神仙洞遗址出土了距今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00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左右的陶片。我国距今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的新石器时代文化已出现大量红陶、灰陶、黑陶、白陶、彩陶、彩绘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陶瓷是中国文化宝库中的瑰宝，是最富民族特色的日用工艺品。随着中国历史的发展，对外经济、文化的交往，陶瓷艺术传播到世界各国，许多国家瓷器工艺的发展都直接或间接地受到中国陶瓷工艺的影响。陶瓷也与茶叶、丝绸并称为中国三大特产而名扬中外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2960" y="404640"/>
            <a:ext cx="154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陶瓷小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法蓝瓷之旺富木槿花瓶"/>
          <p:cNvPicPr/>
          <p:nvPr/>
        </p:nvPicPr>
        <p:blipFill>
          <a:blip r:embed="rId1"/>
          <a:stretch/>
        </p:blipFill>
        <p:spPr>
          <a:xfrm>
            <a:off x="2340000" y="692280"/>
            <a:ext cx="43624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077131159369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765000"/>
            <a:ext cx="7235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95ec897f2acbaa1029388a5c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,0,291,17489,454,341,542a52b6"/>
          <p:cNvPicPr/>
          <p:nvPr/>
        </p:nvPicPr>
        <p:blipFill>
          <a:blip r:embed="rId2"/>
          <a:stretch/>
        </p:blipFill>
        <p:spPr>
          <a:xfrm>
            <a:off x="4643280" y="0"/>
            <a:ext cx="4141800" cy="311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ww003"/>
          <p:cNvPicPr/>
          <p:nvPr/>
        </p:nvPicPr>
        <p:blipFill>
          <a:blip r:embed="rId3"/>
          <a:stretch/>
        </p:blipFill>
        <p:spPr>
          <a:xfrm>
            <a:off x="250920" y="3429000"/>
            <a:ext cx="4176720" cy="322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xin_363090412091387528961"/>
          <p:cNvPicPr/>
          <p:nvPr/>
        </p:nvPicPr>
        <p:blipFill>
          <a:blip r:embed="rId4"/>
          <a:stretch/>
        </p:blipFill>
        <p:spPr>
          <a:xfrm>
            <a:off x="5435640" y="3284640"/>
            <a:ext cx="239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瓷器陶瓷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60280"/>
            <a:ext cx="485280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"/>
          <p:cNvSpPr/>
          <p:nvPr/>
        </p:nvSpPr>
        <p:spPr>
          <a:xfrm>
            <a:off x="1327320" y="614196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x_332_251_3_4813173"/>
          <p:cNvPicPr/>
          <p:nvPr/>
        </p:nvPicPr>
        <p:blipFill>
          <a:blip r:embed="rId1"/>
          <a:stretch/>
        </p:blipFill>
        <p:spPr>
          <a:xfrm>
            <a:off x="1547640" y="404640"/>
            <a:ext cx="626616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4b4219427e42f10d21b70a4"/>
          <p:cNvPicPr/>
          <p:nvPr/>
        </p:nvPicPr>
        <p:blipFill>
          <a:blip r:embed="rId1"/>
          <a:stretch/>
        </p:blipFill>
        <p:spPr>
          <a:xfrm>
            <a:off x="1835280" y="404640"/>
            <a:ext cx="56894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13B-0A55-4698-930B-802286543E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712880" y="3960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砖瓦和陶器、瓷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G_42601"/>
          <p:cNvPicPr/>
          <p:nvPr/>
        </p:nvPicPr>
        <p:blipFill>
          <a:blip r:embed="rId1"/>
          <a:stretch/>
        </p:blipFill>
        <p:spPr>
          <a:xfrm>
            <a:off x="108000" y="797040"/>
            <a:ext cx="2160360" cy="162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42661"/>
          <p:cNvPicPr/>
          <p:nvPr/>
        </p:nvPicPr>
        <p:blipFill>
          <a:blip r:embed="rId2"/>
          <a:stretch/>
        </p:blipFill>
        <p:spPr>
          <a:xfrm>
            <a:off x="2916360" y="71748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MG_42781"/>
          <p:cNvPicPr/>
          <p:nvPr/>
        </p:nvPicPr>
        <p:blipFill>
          <a:blip r:embed="rId3"/>
          <a:stretch/>
        </p:blipFill>
        <p:spPr>
          <a:xfrm>
            <a:off x="5940360" y="836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MG_42591"/>
          <p:cNvPicPr/>
          <p:nvPr/>
        </p:nvPicPr>
        <p:blipFill>
          <a:blip r:embed="rId4"/>
          <a:stretch/>
        </p:blipFill>
        <p:spPr>
          <a:xfrm>
            <a:off x="6014880" y="2763720"/>
            <a:ext cx="2229120" cy="167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42681"/>
          <p:cNvPicPr/>
          <p:nvPr/>
        </p:nvPicPr>
        <p:blipFill>
          <a:blip r:embed="rId5"/>
          <a:stretch/>
        </p:blipFill>
        <p:spPr>
          <a:xfrm>
            <a:off x="184320" y="2708280"/>
            <a:ext cx="2199960" cy="165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G_42691"/>
          <p:cNvPicPr/>
          <p:nvPr/>
        </p:nvPicPr>
        <p:blipFill>
          <a:blip r:embed="rId6"/>
          <a:stretch/>
        </p:blipFill>
        <p:spPr>
          <a:xfrm>
            <a:off x="2987640" y="269064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MG_42801"/>
          <p:cNvPicPr/>
          <p:nvPr/>
        </p:nvPicPr>
        <p:blipFill>
          <a:blip r:embed="rId7"/>
          <a:stretch/>
        </p:blipFill>
        <p:spPr>
          <a:xfrm>
            <a:off x="109440" y="4797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MG_43561"/>
          <p:cNvPicPr/>
          <p:nvPr/>
        </p:nvPicPr>
        <p:blipFill>
          <a:blip r:embed="rId8"/>
          <a:stretch/>
        </p:blipFill>
        <p:spPr>
          <a:xfrm>
            <a:off x="2987640" y="4770360"/>
            <a:ext cx="2338560" cy="175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43571"/>
          <p:cNvPicPr/>
          <p:nvPr/>
        </p:nvPicPr>
        <p:blipFill>
          <a:blip r:embed="rId9"/>
          <a:stretch/>
        </p:blipFill>
        <p:spPr>
          <a:xfrm>
            <a:off x="6013440" y="4797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砖瓦和陶器、瓷器的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95520" y="2486160"/>
            <a:ext cx="657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1280" y="1700280"/>
          <a:ext cx="8136000" cy="3816360"/>
        </p:xfrm>
        <a:graphic>
          <a:graphicData uri="http://schemas.openxmlformats.org/drawingml/2006/table">
            <a:tbl>
              <a:tblPr/>
              <a:tblGrid>
                <a:gridCol w="1628640"/>
                <a:gridCol w="1625760"/>
                <a:gridCol w="1627200"/>
                <a:gridCol w="1625400"/>
                <a:gridCol w="1629000"/>
              </a:tblGrid>
              <a:tr h="1041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硬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是否容易吸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水中的沉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是否容易折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陶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瓷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3419640" y="3284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砖瓦和陶器、瓷器的相同点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不同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628640"/>
          <a:ext cx="8640720" cy="4876920"/>
        </p:xfrm>
        <a:graphic>
          <a:graphicData uri="http://schemas.openxmlformats.org/drawingml/2006/table">
            <a:tbl>
              <a:tblPr/>
              <a:tblGrid>
                <a:gridCol w="2232000"/>
                <a:gridCol w="3529080"/>
                <a:gridCol w="287964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较软、容易吸水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表面粗糙，有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用黏土烧制而成的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在水中会沉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不易折弯柔韧性不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较硬、较容易吸水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表面较粗糙，有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陶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较硬、颗粒细小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吸水性较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瓷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很硬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表面光滑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不容易吸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7928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2251080"/>
                <a:gridCol w="3557520"/>
                <a:gridCol w="2905200"/>
              </a:tblGrid>
              <a:tr h="1117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9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1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陶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6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瓷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846000"/>
            <a:ext cx="54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Times New Roman"/>
                <a:ea typeface="文鼎中行书简"/>
              </a:rPr>
              <a:t>陶器的产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2286000"/>
            <a:ext cx="66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  <a:ea typeface="文鼎中行书简"/>
              </a:rPr>
              <a:t>     </a:t>
            </a: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文鼎中行书简"/>
              </a:rPr>
              <a:t>人类制造陶器始于新石器时代，约有八九千年的历史。它是人类进化过程中具有划时代意义的伟大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s13-2"/>
          <p:cNvPicPr/>
          <p:nvPr/>
        </p:nvPicPr>
        <p:blipFill>
          <a:blip r:embed="rId1"/>
          <a:stretch/>
        </p:blipFill>
        <p:spPr>
          <a:xfrm>
            <a:off x="1371600" y="304920"/>
            <a:ext cx="2362320" cy="180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10-24-4"/>
          <p:cNvPicPr/>
          <p:nvPr/>
        </p:nvPicPr>
        <p:blipFill>
          <a:blip r:embed="rId2"/>
          <a:stretch/>
        </p:blipFill>
        <p:spPr>
          <a:xfrm>
            <a:off x="1219320" y="3124080"/>
            <a:ext cx="270036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0-13-16"/>
          <p:cNvPicPr/>
          <p:nvPr/>
        </p:nvPicPr>
        <p:blipFill>
          <a:blip r:embed="rId3"/>
          <a:stretch/>
        </p:blipFill>
        <p:spPr>
          <a:xfrm>
            <a:off x="6781680" y="0"/>
            <a:ext cx="2079720" cy="217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aitao%20renmianwenbo%20big"/>
          <p:cNvPicPr/>
          <p:nvPr/>
        </p:nvPicPr>
        <p:blipFill>
          <a:blip r:embed="rId4"/>
          <a:stretch/>
        </p:blipFill>
        <p:spPr>
          <a:xfrm>
            <a:off x="3886200" y="304920"/>
            <a:ext cx="1676520" cy="164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wdwctp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497480"/>
            <a:ext cx="3429000" cy="23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 [ 古陶文明博物馆 ] "/>
          <p:cNvPicPr/>
          <p:nvPr/>
        </p:nvPicPr>
        <p:blipFill>
          <a:blip r:embed="rId7"/>
          <a:stretch/>
        </p:blipFill>
        <p:spPr>
          <a:xfrm>
            <a:off x="6248520" y="2286000"/>
            <a:ext cx="2590560" cy="1955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13716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  <a:ea typeface="幼圆"/>
              </a:rPr>
              <a:t>鸟形陶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18148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人面鱼纹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054480" y="228600"/>
            <a:ext cx="72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幼圆"/>
              </a:rPr>
              <a:t>叶纹陶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1e0a"/>
                </a:solidFill>
                <a:latin typeface="Times New Roman"/>
                <a:ea typeface="幼圆"/>
              </a:rPr>
              <a:t>白陶</a:t>
            </a:r>
            <a:r>
              <a:rPr b="0" lang="en-US" sz="1800" spc="-1" strike="noStrike">
                <a:solidFill>
                  <a:srgbClr val="de1e0a"/>
                </a:solidFill>
                <a:latin typeface="Times New Roman"/>
                <a:ea typeface="幼圆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0574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Times New Roman"/>
                <a:ea typeface="幼圆"/>
              </a:rPr>
              <a:t>漩涡纹尖底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ts7"/>
          <p:cNvPicPr/>
          <p:nvPr/>
        </p:nvPicPr>
        <p:blipFill>
          <a:blip r:embed="rId8"/>
          <a:stretch/>
        </p:blipFill>
        <p:spPr>
          <a:xfrm>
            <a:off x="3809880" y="44956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54864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舞蹈纹彩陶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luoxuanwen%20shuangerweng"/>
          <p:cNvPicPr/>
          <p:nvPr/>
        </p:nvPicPr>
        <p:blipFill>
          <a:blip r:embed="rId9"/>
          <a:stretch/>
        </p:blipFill>
        <p:spPr>
          <a:xfrm>
            <a:off x="4267080" y="2133720"/>
            <a:ext cx="168444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34290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00"/>
                </a:solidFill>
                <a:latin typeface="Times New Roman"/>
                <a:ea typeface="幼圆"/>
              </a:rPr>
              <a:t>双耳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ec026fb2ad0fe73024f5640"/>
          <p:cNvPicPr/>
          <p:nvPr/>
        </p:nvPicPr>
        <p:blipFill>
          <a:blip r:embed="rId1"/>
          <a:stretch/>
        </p:blipFill>
        <p:spPr>
          <a:xfrm>
            <a:off x="250920" y="907920"/>
            <a:ext cx="4752720" cy="475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20051212137653169"/>
          <p:cNvPicPr/>
          <p:nvPr/>
        </p:nvPicPr>
        <p:blipFill>
          <a:blip r:embed="rId2"/>
          <a:stretch/>
        </p:blipFill>
        <p:spPr>
          <a:xfrm>
            <a:off x="5219640" y="620640"/>
            <a:ext cx="3427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00000" y="457200"/>
            <a:ext cx="77868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中国的陶瓷发展史上，先有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有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瓷器由陶器脱胎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76520" y="16002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幼圆"/>
              </a:rPr>
              <a:t>陶瓷的区别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幼圆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2514600"/>
          <a:ext cx="8012160" cy="2565360"/>
        </p:xfrm>
        <a:graphic>
          <a:graphicData uri="http://schemas.openxmlformats.org/drawingml/2006/table">
            <a:tbl>
              <a:tblPr/>
              <a:tblGrid>
                <a:gridCol w="865080"/>
                <a:gridCol w="1800360"/>
                <a:gridCol w="2832120"/>
                <a:gridCol w="2514600"/>
              </a:tblGrid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料不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烧制温度不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水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黏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砂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摄氏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吸水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瓷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岭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摄氏度以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密实不透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2:56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51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