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2F5-14CD-407A-846E-CC0495B2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ED5-42A1-49BB-8342-5DFB1124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47B-6958-4910-926F-6B1F3A36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2C2-DB2D-4353-B319-C3314CB0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FC8-839D-4309-ABC6-13452591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313-C20E-41E2-A191-CCC91D11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805-7FF8-441F-8FFB-22D85CBC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F46-7A8D-40CA-8355-6B297E6D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805-4866-4B8D-8777-0EFD1840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194-1C59-4B65-99DE-9A4DF432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DD4-EC3D-4721-A2BE-7525679A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778-7073-4659-812D-78D7A269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FB73-C6B0-4CE8-B2E9-A2E453F0DF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826920" y="2170080"/>
            <a:ext cx="7088400" cy="7034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中心对称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免费下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192320" y="838080"/>
            <a:ext cx="443376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第二十三章     旋转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778040" y="836640"/>
            <a:ext cx="553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如图，四边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绕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旋转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80°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请作出旋转后的图案，并回答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问题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5244840" y="2276640"/>
            <a:ext cx="2420280" cy="2863440"/>
            <a:chOff x="5244840" y="2276640"/>
            <a:chExt cx="2420280" cy="2863440"/>
          </a:xfrm>
        </p:grpSpPr>
        <p:grpSp>
          <p:nvGrpSpPr>
            <p:cNvPr id="134" name="Group 5"/>
            <p:cNvGrpSpPr/>
            <p:nvPr/>
          </p:nvGrpSpPr>
          <p:grpSpPr>
            <a:xfrm>
              <a:off x="5747760" y="2852640"/>
              <a:ext cx="1511640" cy="1582560"/>
              <a:chOff x="5747760" y="2852640"/>
              <a:chExt cx="1511640" cy="158256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5747760" y="2852640"/>
                <a:ext cx="719280" cy="1582200"/>
                <a:chOff x="5747760" y="2852640"/>
                <a:chExt cx="719280" cy="1582200"/>
              </a:xfrm>
            </p:grpSpPr>
            <p:sp>
              <p:nvSpPr>
                <p:cNvPr id="136" name="Line 6"/>
                <p:cNvSpPr/>
                <p:nvPr/>
              </p:nvSpPr>
              <p:spPr>
                <a:xfrm flipH="1">
                  <a:off x="5747760" y="2852640"/>
                  <a:ext cx="718920" cy="1582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 txBox="1"/>
                <p:nvPr/>
              </p:nvSpPr>
              <p:spPr>
                <a:xfrm>
                  <a:off x="5748120" y="2852640"/>
                  <a:ext cx="71892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748120" y="4434840"/>
                <a:ext cx="1511280" cy="360"/>
                <a:chOff x="5748120" y="4434840"/>
                <a:chExt cx="1511280" cy="360"/>
              </a:xfrm>
            </p:grpSpPr>
            <p:sp>
              <p:nvSpPr>
                <p:cNvPr id="139" name="Line 7"/>
                <p:cNvSpPr/>
                <p:nvPr/>
              </p:nvSpPr>
              <p:spPr>
                <a:xfrm flipH="1">
                  <a:off x="5748120" y="4434840"/>
                  <a:ext cx="1511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 txBox="1"/>
                <p:nvPr/>
              </p:nvSpPr>
              <p:spPr>
                <a:xfrm>
                  <a:off x="5748120" y="4434840"/>
                  <a:ext cx="151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114680" y="3284280"/>
                <a:ext cx="144720" cy="1150200"/>
                <a:chOff x="7114680" y="3284280"/>
                <a:chExt cx="144720" cy="1150200"/>
              </a:xfrm>
            </p:grpSpPr>
            <p:sp>
              <p:nvSpPr>
                <p:cNvPr id="142" name="Line 8"/>
                <p:cNvSpPr/>
                <p:nvPr/>
              </p:nvSpPr>
              <p:spPr>
                <a:xfrm>
                  <a:off x="7114680" y="3284280"/>
                  <a:ext cx="144720" cy="1150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 txBox="1"/>
                <p:nvPr/>
              </p:nvSpPr>
              <p:spPr>
                <a:xfrm>
                  <a:off x="7114680" y="3284280"/>
                  <a:ext cx="144720" cy="11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467040" y="2852640"/>
                <a:ext cx="647640" cy="431640"/>
                <a:chOff x="6467040" y="2852640"/>
                <a:chExt cx="647640" cy="431640"/>
              </a:xfrm>
            </p:grpSpPr>
            <p:sp>
              <p:nvSpPr>
                <p:cNvPr id="145" name="Line 9"/>
                <p:cNvSpPr/>
                <p:nvPr/>
              </p:nvSpPr>
              <p:spPr>
                <a:xfrm>
                  <a:off x="6467040" y="2852640"/>
                  <a:ext cx="647640" cy="431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 txBox="1"/>
                <p:nvPr/>
              </p:nvSpPr>
              <p:spPr>
                <a:xfrm>
                  <a:off x="6467040" y="2852640"/>
                  <a:ext cx="64764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" name="Rectangle 10"/>
            <p:cNvSpPr/>
            <p:nvPr/>
          </p:nvSpPr>
          <p:spPr>
            <a:xfrm>
              <a:off x="7118640" y="2852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5966280" y="2276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5244840" y="40050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6903000" y="4436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Text Box 14"/>
          <p:cNvSpPr/>
          <p:nvPr/>
        </p:nvSpPr>
        <p:spPr>
          <a:xfrm>
            <a:off x="1160640" y="2781360"/>
            <a:ext cx="3459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如果是中心对称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那么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关于中心的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称点分别是哪些点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文本框 8200"/>
          <p:cNvSpPr/>
          <p:nvPr/>
        </p:nvSpPr>
        <p:spPr>
          <a:xfrm>
            <a:off x="809640" y="57373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229040" y="836640"/>
            <a:ext cx="67665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如图，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点坐标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3,3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将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先向下移动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个单位得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’B’C’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再将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’B’C’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绕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逆时针旋转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80°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得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’’B’’C’’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请你画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△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’B’C’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△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’’B’’C’’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并写出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’’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坐标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32" descr=""/>
          <p:cNvPicPr/>
          <p:nvPr/>
        </p:nvPicPr>
        <p:blipFill>
          <a:blip r:embed="rId1"/>
          <a:srcRect l="0" t="0" r="6994" b="0"/>
          <a:stretch/>
        </p:blipFill>
        <p:spPr>
          <a:xfrm>
            <a:off x="3419640" y="2708280"/>
            <a:ext cx="572436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451880" y="1125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中心对称与旋转的关系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归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87120" y="1989000"/>
            <a:ext cx="700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中心对称是旋转的特殊情况，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旋转角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80°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893960" y="1197000"/>
            <a:ext cx="517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如图，画出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关于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称的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图形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41800" y="2637000"/>
            <a:ext cx="4920480" cy="2738520"/>
            <a:chOff x="2341800" y="2637000"/>
            <a:chExt cx="4920480" cy="2738520"/>
          </a:xfrm>
        </p:grpSpPr>
        <p:sp>
          <p:nvSpPr>
            <p:cNvPr id="162" name="AutoShape 5"/>
            <p:cNvSpPr/>
            <p:nvPr/>
          </p:nvSpPr>
          <p:spPr>
            <a:xfrm>
              <a:off x="2914560" y="3305520"/>
              <a:ext cx="2520360" cy="1441440"/>
            </a:xfrm>
            <a:prstGeom prst="triangle">
              <a:avLst>
                <a:gd name="adj" fmla="val 87625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Oval 6"/>
            <p:cNvSpPr/>
            <p:nvPr/>
          </p:nvSpPr>
          <p:spPr>
            <a:xfrm>
              <a:off x="6443280" y="42404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5047920" y="2637000"/>
              <a:ext cx="60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2341800" y="43848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5292360" y="467208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6659280" y="3808440"/>
              <a:ext cx="60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1586880" y="765000"/>
            <a:ext cx="610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如图，网格中有一个四边形和两个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角形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请你画出三个图形关于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中心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称图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Group 48"/>
          <p:cNvGrpSpPr/>
          <p:nvPr/>
        </p:nvGrpSpPr>
        <p:grpSpPr>
          <a:xfrm>
            <a:off x="4140360" y="2637000"/>
            <a:ext cx="4319280" cy="4221000"/>
            <a:chOff x="4140360" y="2637000"/>
            <a:chExt cx="4319280" cy="4221000"/>
          </a:xfrm>
        </p:grpSpPr>
        <p:pic>
          <p:nvPicPr>
            <p:cNvPr id="171" name="Picture 46" descr=""/>
            <p:cNvPicPr/>
            <p:nvPr/>
          </p:nvPicPr>
          <p:blipFill>
            <a:blip r:embed="rId1"/>
            <a:srcRect l="0" t="0" r="11774" b="2652"/>
            <a:stretch/>
          </p:blipFill>
          <p:spPr>
            <a:xfrm>
              <a:off x="4140360" y="2637000"/>
              <a:ext cx="4319280" cy="42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47"/>
            <p:cNvSpPr/>
            <p:nvPr/>
          </p:nvSpPr>
          <p:spPr>
            <a:xfrm>
              <a:off x="6444720" y="4508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AutoShape 49"/>
          <p:cNvSpPr/>
          <p:nvPr/>
        </p:nvSpPr>
        <p:spPr>
          <a:xfrm rot="5400000">
            <a:off x="5943240" y="3502080"/>
            <a:ext cx="1222200" cy="431640"/>
          </a:xfrm>
          <a:prstGeom prst="triangle">
            <a:avLst>
              <a:gd name="adj" fmla="val 59403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50"/>
          <p:cNvSpPr/>
          <p:nvPr/>
        </p:nvSpPr>
        <p:spPr>
          <a:xfrm flipV="1" rot="16200000">
            <a:off x="5936400" y="5552280"/>
            <a:ext cx="1224000" cy="432000"/>
          </a:xfrm>
          <a:prstGeom prst="triangle">
            <a:avLst>
              <a:gd name="adj" fmla="val 59403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Group 53"/>
          <p:cNvGrpSpPr/>
          <p:nvPr/>
        </p:nvGrpSpPr>
        <p:grpSpPr>
          <a:xfrm>
            <a:off x="6842160" y="4311000"/>
            <a:ext cx="1225440" cy="869040"/>
            <a:chOff x="6842160" y="4311000"/>
            <a:chExt cx="1225440" cy="869040"/>
          </a:xfrm>
        </p:grpSpPr>
        <p:sp>
          <p:nvSpPr>
            <p:cNvPr id="176" name="AutoShape 51"/>
            <p:cNvSpPr/>
            <p:nvPr/>
          </p:nvSpPr>
          <p:spPr>
            <a:xfrm flipH="1" flipV="1" rot="10800000">
              <a:off x="6843600" y="4310640"/>
              <a:ext cx="1224000" cy="431640"/>
            </a:xfrm>
            <a:prstGeom prst="triangle">
              <a:avLst>
                <a:gd name="adj" fmla="val 59403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AutoShape 52"/>
            <p:cNvSpPr/>
            <p:nvPr/>
          </p:nvSpPr>
          <p:spPr>
            <a:xfrm flipH="1" rot="10800000">
              <a:off x="6842160" y="4748040"/>
              <a:ext cx="1224000" cy="432000"/>
            </a:xfrm>
            <a:prstGeom prst="triangle">
              <a:avLst>
                <a:gd name="adj" fmla="val 59403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482840" y="765000"/>
            <a:ext cx="6303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将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中画出的图形与原图形看成一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整体图形，请写出这个整体图形对称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条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试问这个整体图形至少旋转多少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度才能与自身重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8"/>
          <p:cNvGrpSpPr/>
          <p:nvPr/>
        </p:nvGrpSpPr>
        <p:grpSpPr>
          <a:xfrm>
            <a:off x="4140360" y="2637000"/>
            <a:ext cx="4319280" cy="4221000"/>
            <a:chOff x="4140360" y="2637000"/>
            <a:chExt cx="4319280" cy="4221000"/>
          </a:xfrm>
        </p:grpSpPr>
        <p:pic>
          <p:nvPicPr>
            <p:cNvPr id="181" name="Picture 9" descr=""/>
            <p:cNvPicPr/>
            <p:nvPr/>
          </p:nvPicPr>
          <p:blipFill>
            <a:blip r:embed="rId1"/>
            <a:srcRect l="0" t="0" r="11774" b="2652"/>
            <a:stretch/>
          </p:blipFill>
          <p:spPr>
            <a:xfrm>
              <a:off x="4140360" y="2637000"/>
              <a:ext cx="4319280" cy="42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10"/>
            <p:cNvSpPr/>
            <p:nvPr/>
          </p:nvSpPr>
          <p:spPr>
            <a:xfrm>
              <a:off x="6444720" y="4508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AutoShape 11"/>
          <p:cNvSpPr/>
          <p:nvPr/>
        </p:nvSpPr>
        <p:spPr>
          <a:xfrm rot="5400000">
            <a:off x="5943240" y="3502080"/>
            <a:ext cx="1222200" cy="431640"/>
          </a:xfrm>
          <a:prstGeom prst="triangle">
            <a:avLst>
              <a:gd name="adj" fmla="val 59403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AutoShape 12"/>
          <p:cNvSpPr/>
          <p:nvPr/>
        </p:nvSpPr>
        <p:spPr>
          <a:xfrm flipV="1" rot="16200000">
            <a:off x="5936400" y="5552280"/>
            <a:ext cx="1224000" cy="432000"/>
          </a:xfrm>
          <a:prstGeom prst="triangle">
            <a:avLst>
              <a:gd name="adj" fmla="val 59403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Group 13"/>
          <p:cNvGrpSpPr/>
          <p:nvPr/>
        </p:nvGrpSpPr>
        <p:grpSpPr>
          <a:xfrm>
            <a:off x="6842160" y="4311000"/>
            <a:ext cx="1225440" cy="869040"/>
            <a:chOff x="6842160" y="4311000"/>
            <a:chExt cx="1225440" cy="869040"/>
          </a:xfrm>
        </p:grpSpPr>
        <p:sp>
          <p:nvSpPr>
            <p:cNvPr id="186" name="AutoShape 14"/>
            <p:cNvSpPr/>
            <p:nvPr/>
          </p:nvSpPr>
          <p:spPr>
            <a:xfrm flipH="1" flipV="1" rot="10800000">
              <a:off x="6843600" y="4310640"/>
              <a:ext cx="1224000" cy="431640"/>
            </a:xfrm>
            <a:prstGeom prst="triangle">
              <a:avLst>
                <a:gd name="adj" fmla="val 59403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AutoShape 15"/>
            <p:cNvSpPr/>
            <p:nvPr/>
          </p:nvSpPr>
          <p:spPr>
            <a:xfrm flipH="1" rot="10800000">
              <a:off x="6842160" y="4748040"/>
              <a:ext cx="1224000" cy="432000"/>
            </a:xfrm>
            <a:prstGeom prst="triangle">
              <a:avLst>
                <a:gd name="adj" fmla="val 59403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798840" y="907920"/>
            <a:ext cx="788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如图，在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中，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=A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将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绕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旋转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80°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后得到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试猜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F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有何关系？说明你的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理由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47"/>
          <p:cNvGrpSpPr/>
          <p:nvPr/>
        </p:nvGrpSpPr>
        <p:grpSpPr>
          <a:xfrm>
            <a:off x="3060720" y="2924280"/>
            <a:ext cx="5675040" cy="3440160"/>
            <a:chOff x="3060720" y="2924280"/>
            <a:chExt cx="5675040" cy="3440160"/>
          </a:xfrm>
        </p:grpSpPr>
        <p:grpSp>
          <p:nvGrpSpPr>
            <p:cNvPr id="191" name="Group 41"/>
            <p:cNvGrpSpPr/>
            <p:nvPr/>
          </p:nvGrpSpPr>
          <p:grpSpPr>
            <a:xfrm>
              <a:off x="3635280" y="3426840"/>
              <a:ext cx="4627800" cy="2521080"/>
              <a:chOff x="3635280" y="3426840"/>
              <a:chExt cx="4627800" cy="252108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635280" y="3642840"/>
                <a:ext cx="4608720" cy="2089080"/>
                <a:chOff x="3635280" y="3642840"/>
                <a:chExt cx="4608720" cy="2089080"/>
              </a:xfrm>
            </p:grpSpPr>
            <p:sp>
              <p:nvSpPr>
                <p:cNvPr id="193" name="Line 34"/>
                <p:cNvSpPr/>
                <p:nvPr/>
              </p:nvSpPr>
              <p:spPr>
                <a:xfrm flipV="1">
                  <a:off x="3635640" y="3642840"/>
                  <a:ext cx="4608360" cy="2089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 txBox="1"/>
                <p:nvPr/>
              </p:nvSpPr>
              <p:spPr>
                <a:xfrm rot="10800000">
                  <a:off x="3635280" y="3642840"/>
                  <a:ext cx="4608360" cy="208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211640" y="3426840"/>
                <a:ext cx="3456000" cy="2521080"/>
                <a:chOff x="4211640" y="3426840"/>
                <a:chExt cx="3456000" cy="2521080"/>
              </a:xfrm>
            </p:grpSpPr>
            <p:sp>
              <p:nvSpPr>
                <p:cNvPr id="196" name="Line 35"/>
                <p:cNvSpPr/>
                <p:nvPr/>
              </p:nvSpPr>
              <p:spPr>
                <a:xfrm flipH="1" flipV="1">
                  <a:off x="4211640" y="3426840"/>
                  <a:ext cx="3456000" cy="2521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 txBox="1"/>
                <p:nvPr/>
              </p:nvSpPr>
              <p:spPr>
                <a:xfrm rot="10800000">
                  <a:off x="4211640" y="3426840"/>
                  <a:ext cx="3456000" cy="25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635280" y="3426840"/>
                <a:ext cx="595440" cy="2305080"/>
                <a:chOff x="3635280" y="3426840"/>
                <a:chExt cx="595440" cy="2305080"/>
              </a:xfrm>
            </p:grpSpPr>
            <p:sp>
              <p:nvSpPr>
                <p:cNvPr id="199" name="Line 37"/>
                <p:cNvSpPr/>
                <p:nvPr/>
              </p:nvSpPr>
              <p:spPr>
                <a:xfrm flipV="1">
                  <a:off x="3635640" y="3426840"/>
                  <a:ext cx="595080" cy="2305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 txBox="1"/>
                <p:nvPr/>
              </p:nvSpPr>
              <p:spPr>
                <a:xfrm rot="10800000">
                  <a:off x="3635280" y="3426840"/>
                  <a:ext cx="595080" cy="23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7667640" y="3642840"/>
                <a:ext cx="595440" cy="2305080"/>
                <a:chOff x="7667640" y="3642840"/>
                <a:chExt cx="595440" cy="2305080"/>
              </a:xfrm>
            </p:grpSpPr>
            <p:sp>
              <p:nvSpPr>
                <p:cNvPr id="202" name="Line 38"/>
                <p:cNvSpPr/>
                <p:nvPr/>
              </p:nvSpPr>
              <p:spPr>
                <a:xfrm flipV="1">
                  <a:off x="7667640" y="3642840"/>
                  <a:ext cx="595440" cy="2305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 txBox="1"/>
                <p:nvPr/>
              </p:nvSpPr>
              <p:spPr>
                <a:xfrm rot="10800000">
                  <a:off x="7667640" y="3642840"/>
                  <a:ext cx="595440" cy="23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4226040" y="3414600"/>
              <a:ext cx="4017960" cy="228600"/>
              <a:chOff x="4226040" y="3414600"/>
              <a:chExt cx="4017960" cy="228600"/>
            </a:xfrm>
          </p:grpSpPr>
          <p:sp>
            <p:nvSpPr>
              <p:cNvPr id="205" name="Line 39"/>
              <p:cNvSpPr/>
              <p:nvPr/>
            </p:nvSpPr>
            <p:spPr>
              <a:xfrm>
                <a:off x="4226040" y="3414600"/>
                <a:ext cx="401796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4226040" y="3414600"/>
                <a:ext cx="40179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35640" y="5732280"/>
              <a:ext cx="4017960" cy="228600"/>
              <a:chOff x="3635640" y="5732280"/>
              <a:chExt cx="4017960" cy="228600"/>
            </a:xfrm>
          </p:grpSpPr>
          <p:sp>
            <p:nvSpPr>
              <p:cNvPr id="208" name="Line 40"/>
              <p:cNvSpPr/>
              <p:nvPr/>
            </p:nvSpPr>
            <p:spPr>
              <a:xfrm>
                <a:off x="3635640" y="5732280"/>
                <a:ext cx="401796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3635640" y="5732280"/>
                <a:ext cx="40179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" name="Rectangle 42"/>
            <p:cNvSpPr/>
            <p:nvPr/>
          </p:nvSpPr>
          <p:spPr>
            <a:xfrm>
              <a:off x="5582160" y="46512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Rectangle 43"/>
            <p:cNvSpPr/>
            <p:nvPr/>
          </p:nvSpPr>
          <p:spPr>
            <a:xfrm>
              <a:off x="3637800" y="292428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44"/>
            <p:cNvSpPr/>
            <p:nvPr/>
          </p:nvSpPr>
          <p:spPr>
            <a:xfrm>
              <a:off x="3060720" y="537192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45"/>
            <p:cNvSpPr/>
            <p:nvPr/>
          </p:nvSpPr>
          <p:spPr>
            <a:xfrm>
              <a:off x="8245800" y="328464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46"/>
            <p:cNvSpPr/>
            <p:nvPr/>
          </p:nvSpPr>
          <p:spPr>
            <a:xfrm>
              <a:off x="7669080" y="56610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924480" y="1254240"/>
            <a:ext cx="715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若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面积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c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求四边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EF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面积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Group 17"/>
          <p:cNvGrpSpPr/>
          <p:nvPr/>
        </p:nvGrpSpPr>
        <p:grpSpPr>
          <a:xfrm>
            <a:off x="3060720" y="2924280"/>
            <a:ext cx="5675040" cy="3440160"/>
            <a:chOff x="3060720" y="2924280"/>
            <a:chExt cx="5675040" cy="3440160"/>
          </a:xfrm>
        </p:grpSpPr>
        <p:grpSp>
          <p:nvGrpSpPr>
            <p:cNvPr id="218" name="Group 18"/>
            <p:cNvGrpSpPr/>
            <p:nvPr/>
          </p:nvGrpSpPr>
          <p:grpSpPr>
            <a:xfrm>
              <a:off x="3635280" y="3426840"/>
              <a:ext cx="4627800" cy="2521080"/>
              <a:chOff x="3635280" y="3426840"/>
              <a:chExt cx="4627800" cy="25210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3635280" y="3642840"/>
                <a:ext cx="4608720" cy="2089080"/>
                <a:chOff x="3635280" y="3642840"/>
                <a:chExt cx="4608720" cy="2089080"/>
              </a:xfrm>
            </p:grpSpPr>
            <p:sp>
              <p:nvSpPr>
                <p:cNvPr id="220" name="Line 19"/>
                <p:cNvSpPr/>
                <p:nvPr/>
              </p:nvSpPr>
              <p:spPr>
                <a:xfrm flipV="1">
                  <a:off x="3635640" y="3642840"/>
                  <a:ext cx="4608360" cy="2089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 txBox="1"/>
                <p:nvPr/>
              </p:nvSpPr>
              <p:spPr>
                <a:xfrm rot="10800000">
                  <a:off x="3635280" y="3642840"/>
                  <a:ext cx="4608360" cy="208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211640" y="3426840"/>
                <a:ext cx="3456000" cy="2521080"/>
                <a:chOff x="4211640" y="3426840"/>
                <a:chExt cx="3456000" cy="2521080"/>
              </a:xfrm>
            </p:grpSpPr>
            <p:sp>
              <p:nvSpPr>
                <p:cNvPr id="223" name="Line 20"/>
                <p:cNvSpPr/>
                <p:nvPr/>
              </p:nvSpPr>
              <p:spPr>
                <a:xfrm flipH="1" flipV="1">
                  <a:off x="4211640" y="3426840"/>
                  <a:ext cx="3456000" cy="2521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 txBox="1"/>
                <p:nvPr/>
              </p:nvSpPr>
              <p:spPr>
                <a:xfrm rot="10800000">
                  <a:off x="4211640" y="3426840"/>
                  <a:ext cx="3456000" cy="25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635280" y="3426840"/>
                <a:ext cx="595440" cy="2305080"/>
                <a:chOff x="3635280" y="3426840"/>
                <a:chExt cx="595440" cy="2305080"/>
              </a:xfrm>
            </p:grpSpPr>
            <p:sp>
              <p:nvSpPr>
                <p:cNvPr id="226" name="Line 21"/>
                <p:cNvSpPr/>
                <p:nvPr/>
              </p:nvSpPr>
              <p:spPr>
                <a:xfrm flipV="1">
                  <a:off x="3635640" y="3426840"/>
                  <a:ext cx="595080" cy="2305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 rot="10800000">
                  <a:off x="3635280" y="3426840"/>
                  <a:ext cx="595080" cy="23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7667640" y="3642840"/>
                <a:ext cx="595440" cy="2305080"/>
                <a:chOff x="7667640" y="3642840"/>
                <a:chExt cx="595440" cy="2305080"/>
              </a:xfrm>
            </p:grpSpPr>
            <p:sp>
              <p:nvSpPr>
                <p:cNvPr id="229" name="Line 22"/>
                <p:cNvSpPr/>
                <p:nvPr/>
              </p:nvSpPr>
              <p:spPr>
                <a:xfrm flipV="1">
                  <a:off x="7667640" y="3642840"/>
                  <a:ext cx="595440" cy="2305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 txBox="1"/>
                <p:nvPr/>
              </p:nvSpPr>
              <p:spPr>
                <a:xfrm rot="10800000">
                  <a:off x="7667640" y="3642840"/>
                  <a:ext cx="595440" cy="23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"/>
            <p:cNvGrpSpPr/>
            <p:nvPr/>
          </p:nvGrpSpPr>
          <p:grpSpPr>
            <a:xfrm>
              <a:off x="4226040" y="3414600"/>
              <a:ext cx="4017960" cy="228600"/>
              <a:chOff x="4226040" y="3414600"/>
              <a:chExt cx="4017960" cy="228600"/>
            </a:xfrm>
          </p:grpSpPr>
          <p:sp>
            <p:nvSpPr>
              <p:cNvPr id="232" name="Line 23"/>
              <p:cNvSpPr/>
              <p:nvPr/>
            </p:nvSpPr>
            <p:spPr>
              <a:xfrm>
                <a:off x="4226040" y="3414600"/>
                <a:ext cx="401796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4226040" y="3414600"/>
                <a:ext cx="40179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635640" y="5732280"/>
              <a:ext cx="4017960" cy="228600"/>
              <a:chOff x="3635640" y="5732280"/>
              <a:chExt cx="4017960" cy="228600"/>
            </a:xfrm>
          </p:grpSpPr>
          <p:sp>
            <p:nvSpPr>
              <p:cNvPr id="235" name="Line 24"/>
              <p:cNvSpPr/>
              <p:nvPr/>
            </p:nvSpPr>
            <p:spPr>
              <a:xfrm>
                <a:off x="3635640" y="5732280"/>
                <a:ext cx="401796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3635640" y="5732280"/>
                <a:ext cx="40179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25"/>
            <p:cNvSpPr/>
            <p:nvPr/>
          </p:nvSpPr>
          <p:spPr>
            <a:xfrm>
              <a:off x="5582160" y="46512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Rectangle 26"/>
            <p:cNvSpPr/>
            <p:nvPr/>
          </p:nvSpPr>
          <p:spPr>
            <a:xfrm>
              <a:off x="3637800" y="292428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27"/>
            <p:cNvSpPr/>
            <p:nvPr/>
          </p:nvSpPr>
          <p:spPr>
            <a:xfrm>
              <a:off x="3060720" y="537192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28"/>
            <p:cNvSpPr/>
            <p:nvPr/>
          </p:nvSpPr>
          <p:spPr>
            <a:xfrm>
              <a:off x="8245800" y="328464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29"/>
            <p:cNvSpPr/>
            <p:nvPr/>
          </p:nvSpPr>
          <p:spPr>
            <a:xfrm>
              <a:off x="7669080" y="56610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126080" y="1254240"/>
            <a:ext cx="703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当∠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为多少度时，四边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EF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为矩形？试说明你的理由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Group 17"/>
          <p:cNvGrpSpPr/>
          <p:nvPr/>
        </p:nvGrpSpPr>
        <p:grpSpPr>
          <a:xfrm>
            <a:off x="3060720" y="2924280"/>
            <a:ext cx="5675040" cy="3440160"/>
            <a:chOff x="3060720" y="2924280"/>
            <a:chExt cx="5675040" cy="3440160"/>
          </a:xfrm>
        </p:grpSpPr>
        <p:grpSp>
          <p:nvGrpSpPr>
            <p:cNvPr id="245" name="Group 18"/>
            <p:cNvGrpSpPr/>
            <p:nvPr/>
          </p:nvGrpSpPr>
          <p:grpSpPr>
            <a:xfrm>
              <a:off x="3635280" y="3426840"/>
              <a:ext cx="4627800" cy="2521080"/>
              <a:chOff x="3635280" y="3426840"/>
              <a:chExt cx="4627800" cy="252108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3635280" y="3642840"/>
                <a:ext cx="4608720" cy="2089080"/>
                <a:chOff x="3635280" y="3642840"/>
                <a:chExt cx="4608720" cy="2089080"/>
              </a:xfrm>
            </p:grpSpPr>
            <p:sp>
              <p:nvSpPr>
                <p:cNvPr id="247" name="Line 19"/>
                <p:cNvSpPr/>
                <p:nvPr/>
              </p:nvSpPr>
              <p:spPr>
                <a:xfrm flipV="1">
                  <a:off x="3635640" y="3642840"/>
                  <a:ext cx="4608360" cy="2089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 txBox="1"/>
                <p:nvPr/>
              </p:nvSpPr>
              <p:spPr>
                <a:xfrm rot="10800000">
                  <a:off x="3635280" y="3642840"/>
                  <a:ext cx="4608360" cy="208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211640" y="3426840"/>
                <a:ext cx="3456000" cy="2521080"/>
                <a:chOff x="4211640" y="3426840"/>
                <a:chExt cx="3456000" cy="2521080"/>
              </a:xfrm>
            </p:grpSpPr>
            <p:sp>
              <p:nvSpPr>
                <p:cNvPr id="250" name="Line 20"/>
                <p:cNvSpPr/>
                <p:nvPr/>
              </p:nvSpPr>
              <p:spPr>
                <a:xfrm flipH="1" flipV="1">
                  <a:off x="4211640" y="3426840"/>
                  <a:ext cx="3456000" cy="2521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 txBox="1"/>
                <p:nvPr/>
              </p:nvSpPr>
              <p:spPr>
                <a:xfrm rot="10800000">
                  <a:off x="4211640" y="3426840"/>
                  <a:ext cx="3456000" cy="25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635280" y="3426840"/>
                <a:ext cx="595440" cy="2305080"/>
                <a:chOff x="3635280" y="3426840"/>
                <a:chExt cx="595440" cy="2305080"/>
              </a:xfrm>
            </p:grpSpPr>
            <p:sp>
              <p:nvSpPr>
                <p:cNvPr id="253" name="Line 21"/>
                <p:cNvSpPr/>
                <p:nvPr/>
              </p:nvSpPr>
              <p:spPr>
                <a:xfrm flipV="1">
                  <a:off x="3635640" y="3426840"/>
                  <a:ext cx="595080" cy="2305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 txBox="1"/>
                <p:nvPr/>
              </p:nvSpPr>
              <p:spPr>
                <a:xfrm rot="10800000">
                  <a:off x="3635280" y="3426840"/>
                  <a:ext cx="595080" cy="23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667640" y="3642840"/>
                <a:ext cx="595440" cy="2305080"/>
                <a:chOff x="7667640" y="3642840"/>
                <a:chExt cx="595440" cy="2305080"/>
              </a:xfrm>
            </p:grpSpPr>
            <p:sp>
              <p:nvSpPr>
                <p:cNvPr id="256" name="Line 22"/>
                <p:cNvSpPr/>
                <p:nvPr/>
              </p:nvSpPr>
              <p:spPr>
                <a:xfrm flipV="1">
                  <a:off x="7667640" y="3642840"/>
                  <a:ext cx="595440" cy="2305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 txBox="1"/>
                <p:nvPr/>
              </p:nvSpPr>
              <p:spPr>
                <a:xfrm rot="10800000">
                  <a:off x="7667640" y="3642840"/>
                  <a:ext cx="595440" cy="23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4226040" y="3414600"/>
              <a:ext cx="4017960" cy="228600"/>
              <a:chOff x="4226040" y="3414600"/>
              <a:chExt cx="4017960" cy="228600"/>
            </a:xfrm>
          </p:grpSpPr>
          <p:sp>
            <p:nvSpPr>
              <p:cNvPr id="259" name="Line 23"/>
              <p:cNvSpPr/>
              <p:nvPr/>
            </p:nvSpPr>
            <p:spPr>
              <a:xfrm>
                <a:off x="4226040" y="3414600"/>
                <a:ext cx="401796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4226040" y="3414600"/>
                <a:ext cx="40179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635640" y="5732280"/>
              <a:ext cx="4017960" cy="228600"/>
              <a:chOff x="3635640" y="5732280"/>
              <a:chExt cx="4017960" cy="228600"/>
            </a:xfrm>
          </p:grpSpPr>
          <p:sp>
            <p:nvSpPr>
              <p:cNvPr id="262" name="Line 24"/>
              <p:cNvSpPr/>
              <p:nvPr/>
            </p:nvSpPr>
            <p:spPr>
              <a:xfrm>
                <a:off x="3635640" y="5732280"/>
                <a:ext cx="401796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3635640" y="5732280"/>
                <a:ext cx="40179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4" name="Rectangle 25"/>
            <p:cNvSpPr/>
            <p:nvPr/>
          </p:nvSpPr>
          <p:spPr>
            <a:xfrm>
              <a:off x="5582160" y="46512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26"/>
            <p:cNvSpPr/>
            <p:nvPr/>
          </p:nvSpPr>
          <p:spPr>
            <a:xfrm>
              <a:off x="3637800" y="292428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Rectangle 27"/>
            <p:cNvSpPr/>
            <p:nvPr/>
          </p:nvSpPr>
          <p:spPr>
            <a:xfrm>
              <a:off x="3060720" y="537192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28"/>
            <p:cNvSpPr/>
            <p:nvPr/>
          </p:nvSpPr>
          <p:spPr>
            <a:xfrm>
              <a:off x="8245800" y="328464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29"/>
            <p:cNvSpPr/>
            <p:nvPr/>
          </p:nvSpPr>
          <p:spPr>
            <a:xfrm>
              <a:off x="7669080" y="56610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文本框 8200"/>
          <p:cNvSpPr/>
          <p:nvPr/>
        </p:nvSpPr>
        <p:spPr>
          <a:xfrm>
            <a:off x="1477800" y="62866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35160" y="836640"/>
            <a:ext cx="864936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如图，直线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和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⊥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上，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上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画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使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与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关于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称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45"/>
          <p:cNvGrpSpPr/>
          <p:nvPr/>
        </p:nvGrpSpPr>
        <p:grpSpPr>
          <a:xfrm>
            <a:off x="3427560" y="2781360"/>
            <a:ext cx="4947480" cy="4091040"/>
            <a:chOff x="3427560" y="2781360"/>
            <a:chExt cx="4947480" cy="4091040"/>
          </a:xfrm>
        </p:grpSpPr>
        <p:grpSp>
          <p:nvGrpSpPr>
            <p:cNvPr id="273" name=""/>
            <p:cNvGrpSpPr/>
            <p:nvPr/>
          </p:nvGrpSpPr>
          <p:grpSpPr>
            <a:xfrm>
              <a:off x="3427560" y="4870800"/>
              <a:ext cx="4464000" cy="360"/>
              <a:chOff x="3427560" y="4870800"/>
              <a:chExt cx="4464000" cy="360"/>
            </a:xfrm>
          </p:grpSpPr>
          <p:sp>
            <p:nvSpPr>
              <p:cNvPr id="274" name="Line 33"/>
              <p:cNvSpPr/>
              <p:nvPr/>
            </p:nvSpPr>
            <p:spPr>
              <a:xfrm>
                <a:off x="3427560" y="4870800"/>
                <a:ext cx="4464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3427560" y="4870800"/>
                <a:ext cx="446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226120" y="2781360"/>
              <a:ext cx="360" cy="3841920"/>
              <a:chOff x="5226120" y="2781360"/>
              <a:chExt cx="360" cy="3841920"/>
            </a:xfrm>
          </p:grpSpPr>
          <p:sp>
            <p:nvSpPr>
              <p:cNvPr id="277" name="Line 34"/>
              <p:cNvSpPr/>
              <p:nvPr/>
            </p:nvSpPr>
            <p:spPr>
              <a:xfrm flipV="1">
                <a:off x="5226120" y="2781360"/>
                <a:ext cx="0" cy="3841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6200000">
                <a:off x="3305160" y="4701960"/>
                <a:ext cx="3841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225760" y="3212640"/>
              <a:ext cx="1655640" cy="1656720"/>
              <a:chOff x="5225760" y="3212640"/>
              <a:chExt cx="1655640" cy="1656720"/>
            </a:xfrm>
          </p:grpSpPr>
          <p:sp>
            <p:nvSpPr>
              <p:cNvPr id="280" name="Line 35"/>
              <p:cNvSpPr/>
              <p:nvPr/>
            </p:nvSpPr>
            <p:spPr>
              <a:xfrm flipH="1" flipV="1">
                <a:off x="5225760" y="3212640"/>
                <a:ext cx="1655640" cy="1656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 rot="5400000">
                <a:off x="5225040" y="3213000"/>
                <a:ext cx="1656720" cy="165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227200" y="3214080"/>
              <a:ext cx="863640" cy="1656720"/>
              <a:chOff x="5227200" y="3214080"/>
              <a:chExt cx="863640" cy="1656720"/>
            </a:xfrm>
          </p:grpSpPr>
          <p:sp>
            <p:nvSpPr>
              <p:cNvPr id="283" name="Line 36"/>
              <p:cNvSpPr/>
              <p:nvPr/>
            </p:nvSpPr>
            <p:spPr>
              <a:xfrm flipH="1" flipV="1">
                <a:off x="5227200" y="3214080"/>
                <a:ext cx="863640" cy="1656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 rot="5400000">
                <a:off x="4830840" y="3610800"/>
                <a:ext cx="1656360" cy="8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5" name="Rectangle 38"/>
            <p:cNvSpPr/>
            <p:nvPr/>
          </p:nvSpPr>
          <p:spPr>
            <a:xfrm>
              <a:off x="4735800" y="6085080"/>
              <a:ext cx="470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Rectangle 40"/>
            <p:cNvSpPr/>
            <p:nvPr/>
          </p:nvSpPr>
          <p:spPr>
            <a:xfrm>
              <a:off x="7904520" y="4726800"/>
              <a:ext cx="470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41"/>
            <p:cNvSpPr/>
            <p:nvPr/>
          </p:nvSpPr>
          <p:spPr>
            <a:xfrm>
              <a:off x="6669720" y="479808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42"/>
            <p:cNvSpPr/>
            <p:nvPr/>
          </p:nvSpPr>
          <p:spPr>
            <a:xfrm>
              <a:off x="4725000" y="285408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Rectangle 43"/>
            <p:cNvSpPr/>
            <p:nvPr/>
          </p:nvSpPr>
          <p:spPr>
            <a:xfrm>
              <a:off x="5803920" y="479808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Rectangle 44"/>
            <p:cNvSpPr/>
            <p:nvPr/>
          </p:nvSpPr>
          <p:spPr>
            <a:xfrm>
              <a:off x="4653360" y="480276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439440" y="90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下面两个图形有什么关系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复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600160" y="5300640"/>
            <a:ext cx="269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关于直线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轴对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Group 11"/>
          <p:cNvGrpSpPr/>
          <p:nvPr/>
        </p:nvGrpSpPr>
        <p:grpSpPr>
          <a:xfrm>
            <a:off x="4818600" y="2525400"/>
            <a:ext cx="3949920" cy="1394640"/>
            <a:chOff x="4818600" y="2525400"/>
            <a:chExt cx="3949920" cy="1394640"/>
          </a:xfrm>
        </p:grpSpPr>
        <p:pic>
          <p:nvPicPr>
            <p:cNvPr id="48" name="Picture 9" descr="1"/>
            <p:cNvPicPr/>
            <p:nvPr/>
          </p:nvPicPr>
          <p:blipFill>
            <a:blip r:embed="rId1"/>
            <a:stretch/>
          </p:blipFill>
          <p:spPr>
            <a:xfrm flipH="1" rot="16420800">
              <a:off x="4849560" y="2574720"/>
              <a:ext cx="130500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1"/>
            <p:cNvPicPr/>
            <p:nvPr/>
          </p:nvPicPr>
          <p:blipFill>
            <a:blip r:embed="rId2"/>
            <a:stretch/>
          </p:blipFill>
          <p:spPr>
            <a:xfrm flipH="1" rot="16421400">
              <a:off x="7432200" y="2584440"/>
              <a:ext cx="1304640" cy="12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Line 12"/>
          <p:cNvSpPr/>
          <p:nvPr/>
        </p:nvSpPr>
        <p:spPr>
          <a:xfrm>
            <a:off x="6804000" y="1916280"/>
            <a:ext cx="0" cy="29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877080" y="45417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53000" y="2205000"/>
            <a:ext cx="30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33ccff"/>
                </a:solidFill>
                <a:latin typeface="Times New Roman"/>
              </a:rPr>
              <a:t>什么叫轴对称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828720" y="3284640"/>
            <a:ext cx="310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33ccff"/>
                </a:solidFill>
                <a:latin typeface="Times New Roman"/>
              </a:rPr>
              <a:t>直线</a:t>
            </a:r>
            <a:r>
              <a:rPr b="1" i="1" lang="en-US" sz="4000" spc="-1" strike="noStrike">
                <a:solidFill>
                  <a:srgbClr val="33ccff"/>
                </a:solidFill>
                <a:latin typeface="Times New Roman"/>
              </a:rPr>
              <a:t>l</a:t>
            </a:r>
            <a:r>
              <a:rPr b="1" lang="zh-CN" sz="4000" spc="-1" strike="noStrike">
                <a:solidFill>
                  <a:srgbClr val="33ccff"/>
                </a:solidFill>
                <a:latin typeface="Times New Roman"/>
              </a:rPr>
              <a:t>叫什么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1257840" y="4292640"/>
            <a:ext cx="363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33ccff"/>
                </a:solidFill>
                <a:latin typeface="Times New Roman"/>
              </a:rPr>
              <a:t>指出图中的对称点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718560" y="836640"/>
            <a:ext cx="7933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如图，直线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和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⊥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上，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上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连接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四边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和四边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各是什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四边形？并说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你的理由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3427560" y="2781360"/>
            <a:ext cx="4947480" cy="4091040"/>
            <a:chOff x="3427560" y="2781360"/>
            <a:chExt cx="4947480" cy="4091040"/>
          </a:xfrm>
        </p:grpSpPr>
        <p:grpSp>
          <p:nvGrpSpPr>
            <p:cNvPr id="294" name=""/>
            <p:cNvGrpSpPr/>
            <p:nvPr/>
          </p:nvGrpSpPr>
          <p:grpSpPr>
            <a:xfrm>
              <a:off x="3427560" y="4870800"/>
              <a:ext cx="4464000" cy="360"/>
              <a:chOff x="3427560" y="4870800"/>
              <a:chExt cx="4464000" cy="360"/>
            </a:xfrm>
          </p:grpSpPr>
          <p:sp>
            <p:nvSpPr>
              <p:cNvPr id="295" name="Line 5"/>
              <p:cNvSpPr/>
              <p:nvPr/>
            </p:nvSpPr>
            <p:spPr>
              <a:xfrm>
                <a:off x="3427560" y="4870800"/>
                <a:ext cx="4464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3427560" y="4870800"/>
                <a:ext cx="446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226120" y="2781360"/>
              <a:ext cx="360" cy="3841920"/>
              <a:chOff x="5226120" y="2781360"/>
              <a:chExt cx="360" cy="3841920"/>
            </a:xfrm>
          </p:grpSpPr>
          <p:sp>
            <p:nvSpPr>
              <p:cNvPr id="298" name="Line 6"/>
              <p:cNvSpPr/>
              <p:nvPr/>
            </p:nvSpPr>
            <p:spPr>
              <a:xfrm flipV="1">
                <a:off x="5226120" y="2781360"/>
                <a:ext cx="0" cy="3841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 rot="16200000">
                <a:off x="3305160" y="4701960"/>
                <a:ext cx="3841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225760" y="3212640"/>
              <a:ext cx="1655640" cy="1656720"/>
              <a:chOff x="5225760" y="3212640"/>
              <a:chExt cx="1655640" cy="1656720"/>
            </a:xfrm>
          </p:grpSpPr>
          <p:sp>
            <p:nvSpPr>
              <p:cNvPr id="301" name="Line 7"/>
              <p:cNvSpPr/>
              <p:nvPr/>
            </p:nvSpPr>
            <p:spPr>
              <a:xfrm flipH="1" flipV="1">
                <a:off x="5225760" y="3212640"/>
                <a:ext cx="1655640" cy="1656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 rot="5400000">
                <a:off x="5225040" y="3213000"/>
                <a:ext cx="1656720" cy="165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227200" y="3214080"/>
              <a:ext cx="863640" cy="1656720"/>
              <a:chOff x="5227200" y="3214080"/>
              <a:chExt cx="863640" cy="1656720"/>
            </a:xfrm>
          </p:grpSpPr>
          <p:sp>
            <p:nvSpPr>
              <p:cNvPr id="304" name="Line 8"/>
              <p:cNvSpPr/>
              <p:nvPr/>
            </p:nvSpPr>
            <p:spPr>
              <a:xfrm flipH="1" flipV="1">
                <a:off x="5227200" y="3214080"/>
                <a:ext cx="863640" cy="1656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 rot="5400000">
                <a:off x="4830840" y="3610800"/>
                <a:ext cx="1656360" cy="8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" name="Rectangle 9"/>
            <p:cNvSpPr/>
            <p:nvPr/>
          </p:nvSpPr>
          <p:spPr>
            <a:xfrm>
              <a:off x="4735800" y="6085080"/>
              <a:ext cx="470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10"/>
            <p:cNvSpPr/>
            <p:nvPr/>
          </p:nvSpPr>
          <p:spPr>
            <a:xfrm>
              <a:off x="7904520" y="4726800"/>
              <a:ext cx="470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11"/>
            <p:cNvSpPr/>
            <p:nvPr/>
          </p:nvSpPr>
          <p:spPr>
            <a:xfrm>
              <a:off x="6669720" y="479808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>
              <a:off x="4725000" y="285408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13"/>
            <p:cNvSpPr/>
            <p:nvPr/>
          </p:nvSpPr>
          <p:spPr>
            <a:xfrm>
              <a:off x="5803920" y="479808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14"/>
            <p:cNvSpPr/>
            <p:nvPr/>
          </p:nvSpPr>
          <p:spPr>
            <a:xfrm>
              <a:off x="4653360" y="480276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817560" y="272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小结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1329120" y="1465200"/>
            <a:ext cx="28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中心对称的定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1649160" y="2924280"/>
            <a:ext cx="373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中心对称的的相关概念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1587960" y="4437000"/>
            <a:ext cx="40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中心对称与旋转的关系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6FA6-4130-41A2-9BAE-755F22FEAA7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95120" y="965160"/>
            <a:ext cx="884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如图，将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绕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逆时针旋转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00°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画出旋转后的图形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复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Group 11"/>
          <p:cNvGrpSpPr/>
          <p:nvPr/>
        </p:nvGrpSpPr>
        <p:grpSpPr>
          <a:xfrm>
            <a:off x="5365440" y="2276640"/>
            <a:ext cx="3428640" cy="4048200"/>
            <a:chOff x="5365440" y="2276640"/>
            <a:chExt cx="3428640" cy="4048200"/>
          </a:xfrm>
        </p:grpSpPr>
        <p:sp>
          <p:nvSpPr>
            <p:cNvPr id="58" name="AutoShape 5"/>
            <p:cNvSpPr/>
            <p:nvPr/>
          </p:nvSpPr>
          <p:spPr>
            <a:xfrm rot="14950200">
              <a:off x="5614560" y="3677040"/>
              <a:ext cx="2950920" cy="1871640"/>
            </a:xfrm>
            <a:prstGeom prst="triangle">
              <a:avLst>
                <a:gd name="adj" fmla="val 75847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8247600" y="55879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7166520" y="2276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5365440" y="386064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Rectangle 12"/>
          <p:cNvSpPr/>
          <p:nvPr/>
        </p:nvSpPr>
        <p:spPr>
          <a:xfrm>
            <a:off x="950760" y="2852640"/>
            <a:ext cx="272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33ccff"/>
                </a:solidFill>
                <a:latin typeface="Times New Roman"/>
              </a:rPr>
              <a:t>什么叫旋转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1155600" y="4149720"/>
            <a:ext cx="33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33ccff"/>
                </a:solidFill>
                <a:latin typeface="Times New Roman"/>
              </a:rPr>
              <a:t>怎样画旋转图形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815920" y="907920"/>
            <a:ext cx="370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、如图，把其中一个图形绕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旋转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80°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你有什么发现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9" descr="68"/>
          <p:cNvPicPr/>
          <p:nvPr/>
        </p:nvPicPr>
        <p:blipFill>
          <a:blip r:embed="rId1"/>
          <a:srcRect l="22079" t="36557" r="53491" b="51814"/>
          <a:stretch/>
        </p:blipFill>
        <p:spPr>
          <a:xfrm>
            <a:off x="2050920" y="2279520"/>
            <a:ext cx="5185080" cy="3454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3603600" y="5805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两个图案重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45040" y="907920"/>
            <a:ext cx="8158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、如图，线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相交于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A=O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B=O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把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C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绕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旋转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80°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你有什么发现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1693800" y="2781360"/>
            <a:ext cx="5658840" cy="2792520"/>
            <a:chOff x="1693800" y="2781360"/>
            <a:chExt cx="5658840" cy="2792520"/>
          </a:xfrm>
        </p:grpSpPr>
        <p:grpSp>
          <p:nvGrpSpPr>
            <p:cNvPr id="71" name=""/>
            <p:cNvGrpSpPr/>
            <p:nvPr/>
          </p:nvGrpSpPr>
          <p:grpSpPr>
            <a:xfrm>
              <a:off x="2195280" y="3141720"/>
              <a:ext cx="4537440" cy="2154240"/>
              <a:chOff x="2195280" y="3141720"/>
              <a:chExt cx="4537440" cy="2154240"/>
            </a:xfrm>
          </p:grpSpPr>
          <p:sp>
            <p:nvSpPr>
              <p:cNvPr id="72" name="Line 7"/>
              <p:cNvSpPr/>
              <p:nvPr/>
            </p:nvSpPr>
            <p:spPr>
              <a:xfrm flipV="1">
                <a:off x="2195640" y="3141720"/>
                <a:ext cx="4537080" cy="2154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 rot="10800000">
                <a:off x="2195280" y="3141720"/>
                <a:ext cx="4537080" cy="215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616920" y="3205800"/>
              <a:ext cx="1757520" cy="1957680"/>
              <a:chOff x="3616920" y="3205800"/>
              <a:chExt cx="1757520" cy="1957680"/>
            </a:xfrm>
          </p:grpSpPr>
          <p:sp>
            <p:nvSpPr>
              <p:cNvPr id="75" name="Line 8"/>
              <p:cNvSpPr/>
              <p:nvPr/>
            </p:nvSpPr>
            <p:spPr>
              <a:xfrm>
                <a:off x="3616920" y="3714840"/>
                <a:ext cx="1757520" cy="939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 rot="14022600">
                <a:off x="3596760" y="3754080"/>
                <a:ext cx="1797120" cy="860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249640" y="3737160"/>
              <a:ext cx="1366560" cy="1511280"/>
              <a:chOff x="2249640" y="3737160"/>
              <a:chExt cx="1366560" cy="1511280"/>
            </a:xfrm>
          </p:grpSpPr>
          <p:sp>
            <p:nvSpPr>
              <p:cNvPr id="78" name="Line 9"/>
              <p:cNvSpPr/>
              <p:nvPr/>
            </p:nvSpPr>
            <p:spPr>
              <a:xfrm flipV="1">
                <a:off x="2249640" y="3737160"/>
                <a:ext cx="1366560" cy="151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 rot="10800000">
                <a:off x="2249640" y="3737160"/>
                <a:ext cx="1366560" cy="151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5345280" y="3165480"/>
              <a:ext cx="1366560" cy="1511280"/>
              <a:chOff x="5345280" y="3165480"/>
              <a:chExt cx="1366560" cy="1511280"/>
            </a:xfrm>
          </p:grpSpPr>
          <p:sp>
            <p:nvSpPr>
              <p:cNvPr id="81" name="Line 10"/>
              <p:cNvSpPr/>
              <p:nvPr/>
            </p:nvSpPr>
            <p:spPr>
              <a:xfrm flipV="1">
                <a:off x="5345280" y="3165480"/>
                <a:ext cx="1366560" cy="151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 rot="10800000">
                <a:off x="5345280" y="3165480"/>
                <a:ext cx="1366560" cy="151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Rectangle 13"/>
            <p:cNvSpPr/>
            <p:nvPr/>
          </p:nvSpPr>
          <p:spPr>
            <a:xfrm>
              <a:off x="4286520" y="350208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4"/>
            <p:cNvSpPr/>
            <p:nvPr/>
          </p:nvSpPr>
          <p:spPr>
            <a:xfrm>
              <a:off x="3278880" y="30798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5"/>
            <p:cNvSpPr/>
            <p:nvPr/>
          </p:nvSpPr>
          <p:spPr>
            <a:xfrm>
              <a:off x="5366160" y="4437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6"/>
            <p:cNvSpPr/>
            <p:nvPr/>
          </p:nvSpPr>
          <p:spPr>
            <a:xfrm>
              <a:off x="1693800" y="487044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Rectangle 17"/>
            <p:cNvSpPr/>
            <p:nvPr/>
          </p:nvSpPr>
          <p:spPr>
            <a:xfrm>
              <a:off x="6806160" y="2781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Rectangle 19"/>
          <p:cNvSpPr/>
          <p:nvPr/>
        </p:nvSpPr>
        <p:spPr>
          <a:xfrm>
            <a:off x="3274200" y="5661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两个三角形重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23920" y="9986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中心对称的定义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归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1012320" y="1916280"/>
            <a:ext cx="670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把一个图形绕着某一个点旋转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80°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如果它能够与另一个图形重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合，那么就说这两个图形关于这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点对称或中心对称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763640" y="907920"/>
            <a:ext cx="54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中心对称的相关概念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新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4356000" y="57340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对称中心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4" descr="68"/>
          <p:cNvPicPr/>
          <p:nvPr/>
        </p:nvPicPr>
        <p:blipFill>
          <a:blip r:embed="rId1"/>
          <a:srcRect l="22079" t="36557" r="53491" b="51814"/>
          <a:stretch/>
        </p:blipFill>
        <p:spPr>
          <a:xfrm>
            <a:off x="2411280" y="2060640"/>
            <a:ext cx="5185080" cy="34542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5003280" y="3933360"/>
            <a:ext cx="792360" cy="1800360"/>
            <a:chOff x="5003280" y="3933360"/>
            <a:chExt cx="792360" cy="1800360"/>
          </a:xfrm>
        </p:grpSpPr>
        <p:sp>
          <p:nvSpPr>
            <p:cNvPr id="97" name="Line 25"/>
            <p:cNvSpPr/>
            <p:nvPr/>
          </p:nvSpPr>
          <p:spPr>
            <a:xfrm flipH="1" flipV="1">
              <a:off x="5003280" y="3933360"/>
              <a:ext cx="792360" cy="1800360"/>
            </a:xfrm>
            <a:prstGeom prst="line">
              <a:avLst/>
            </a:prstGeom>
            <a:ln w="5724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 rot="10800000">
              <a:off x="5003280" y="3933360"/>
              <a:ext cx="792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Text Box 26"/>
          <p:cNvSpPr/>
          <p:nvPr/>
        </p:nvSpPr>
        <p:spPr>
          <a:xfrm>
            <a:off x="431640" y="292428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对称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050560" y="3212640"/>
            <a:ext cx="3458160" cy="360"/>
            <a:chOff x="2050560" y="3212640"/>
            <a:chExt cx="3458160" cy="360"/>
          </a:xfrm>
        </p:grpSpPr>
        <p:sp>
          <p:nvSpPr>
            <p:cNvPr id="101" name="Line 27"/>
            <p:cNvSpPr/>
            <p:nvPr/>
          </p:nvSpPr>
          <p:spPr>
            <a:xfrm>
              <a:off x="2050920" y="3213000"/>
              <a:ext cx="3457800" cy="0"/>
            </a:xfrm>
            <a:prstGeom prst="line">
              <a:avLst/>
            </a:prstGeom>
            <a:ln w="5724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 rot="10800000">
              <a:off x="2050560" y="3212640"/>
              <a:ext cx="34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24000" y="3213000"/>
            <a:ext cx="2016360" cy="936720"/>
            <a:chOff x="2124000" y="3213000"/>
            <a:chExt cx="2016360" cy="936720"/>
          </a:xfrm>
        </p:grpSpPr>
        <p:sp>
          <p:nvSpPr>
            <p:cNvPr id="104" name="Line 28"/>
            <p:cNvSpPr/>
            <p:nvPr/>
          </p:nvSpPr>
          <p:spPr>
            <a:xfrm>
              <a:off x="2124000" y="3213000"/>
              <a:ext cx="2016360" cy="936720"/>
            </a:xfrm>
            <a:prstGeom prst="line">
              <a:avLst/>
            </a:prstGeom>
            <a:ln w="5724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2124000" y="3213000"/>
              <a:ext cx="201636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heel spokes="8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026440" y="1125360"/>
            <a:ext cx="492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如图，将正方形图案绕中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旋转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80°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后，得到的图案是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7" descr=""/>
          <p:cNvPicPr/>
          <p:nvPr/>
        </p:nvPicPr>
        <p:blipFill>
          <a:blip r:embed="rId1"/>
          <a:srcRect l="0" t="0" r="5745" b="0"/>
          <a:stretch/>
        </p:blipFill>
        <p:spPr>
          <a:xfrm>
            <a:off x="38160" y="2617920"/>
            <a:ext cx="91440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78040" y="836640"/>
            <a:ext cx="553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如图，四边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绕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旋转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80°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请作出旋转后的图案，并回答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问题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Group 65"/>
          <p:cNvGrpSpPr/>
          <p:nvPr/>
        </p:nvGrpSpPr>
        <p:grpSpPr>
          <a:xfrm>
            <a:off x="5244840" y="2276640"/>
            <a:ext cx="2420280" cy="2863440"/>
            <a:chOff x="5244840" y="2276640"/>
            <a:chExt cx="2420280" cy="2863440"/>
          </a:xfrm>
        </p:grpSpPr>
        <p:grpSp>
          <p:nvGrpSpPr>
            <p:cNvPr id="112" name="Group 60"/>
            <p:cNvGrpSpPr/>
            <p:nvPr/>
          </p:nvGrpSpPr>
          <p:grpSpPr>
            <a:xfrm>
              <a:off x="5747760" y="2852640"/>
              <a:ext cx="1511640" cy="1582560"/>
              <a:chOff x="5747760" y="2852640"/>
              <a:chExt cx="1511640" cy="158256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5747760" y="2852640"/>
                <a:ext cx="719280" cy="1582200"/>
                <a:chOff x="5747760" y="2852640"/>
                <a:chExt cx="719280" cy="1582200"/>
              </a:xfrm>
            </p:grpSpPr>
            <p:sp>
              <p:nvSpPr>
                <p:cNvPr id="114" name="Line 56"/>
                <p:cNvSpPr/>
                <p:nvPr/>
              </p:nvSpPr>
              <p:spPr>
                <a:xfrm flipH="1">
                  <a:off x="5747760" y="2852640"/>
                  <a:ext cx="718920" cy="1582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 txBox="1"/>
                <p:nvPr/>
              </p:nvSpPr>
              <p:spPr>
                <a:xfrm>
                  <a:off x="5748120" y="2852640"/>
                  <a:ext cx="71892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48120" y="4434840"/>
                <a:ext cx="1511280" cy="360"/>
                <a:chOff x="5748120" y="4434840"/>
                <a:chExt cx="1511280" cy="360"/>
              </a:xfrm>
            </p:grpSpPr>
            <p:sp>
              <p:nvSpPr>
                <p:cNvPr id="117" name="Line 57"/>
                <p:cNvSpPr/>
                <p:nvPr/>
              </p:nvSpPr>
              <p:spPr>
                <a:xfrm flipH="1">
                  <a:off x="5748120" y="4434840"/>
                  <a:ext cx="1511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 txBox="1"/>
                <p:nvPr/>
              </p:nvSpPr>
              <p:spPr>
                <a:xfrm>
                  <a:off x="5748120" y="4434840"/>
                  <a:ext cx="151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7114680" y="3284280"/>
                <a:ext cx="144720" cy="1150200"/>
                <a:chOff x="7114680" y="3284280"/>
                <a:chExt cx="144720" cy="1150200"/>
              </a:xfrm>
            </p:grpSpPr>
            <p:sp>
              <p:nvSpPr>
                <p:cNvPr id="120" name="Line 58"/>
                <p:cNvSpPr/>
                <p:nvPr/>
              </p:nvSpPr>
              <p:spPr>
                <a:xfrm>
                  <a:off x="7114680" y="3284280"/>
                  <a:ext cx="144720" cy="1150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 txBox="1"/>
                <p:nvPr/>
              </p:nvSpPr>
              <p:spPr>
                <a:xfrm>
                  <a:off x="7114680" y="3284280"/>
                  <a:ext cx="144720" cy="11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67040" y="2852640"/>
                <a:ext cx="647640" cy="431640"/>
                <a:chOff x="6467040" y="2852640"/>
                <a:chExt cx="647640" cy="431640"/>
              </a:xfrm>
            </p:grpSpPr>
            <p:sp>
              <p:nvSpPr>
                <p:cNvPr id="123" name="Line 59"/>
                <p:cNvSpPr/>
                <p:nvPr/>
              </p:nvSpPr>
              <p:spPr>
                <a:xfrm>
                  <a:off x="6467040" y="2852640"/>
                  <a:ext cx="647640" cy="431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 txBox="1"/>
                <p:nvPr/>
              </p:nvSpPr>
              <p:spPr>
                <a:xfrm>
                  <a:off x="6467040" y="2852640"/>
                  <a:ext cx="64764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Rectangle 61"/>
            <p:cNvSpPr/>
            <p:nvPr/>
          </p:nvSpPr>
          <p:spPr>
            <a:xfrm>
              <a:off x="7118640" y="2852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62"/>
            <p:cNvSpPr/>
            <p:nvPr/>
          </p:nvSpPr>
          <p:spPr>
            <a:xfrm>
              <a:off x="5966280" y="2276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Rectangle 63"/>
            <p:cNvSpPr/>
            <p:nvPr/>
          </p:nvSpPr>
          <p:spPr>
            <a:xfrm>
              <a:off x="5244840" y="40050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Rectangle 64"/>
            <p:cNvSpPr/>
            <p:nvPr/>
          </p:nvSpPr>
          <p:spPr>
            <a:xfrm>
              <a:off x="6903000" y="4436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Text Box 66"/>
          <p:cNvSpPr/>
          <p:nvPr/>
        </p:nvSpPr>
        <p:spPr>
          <a:xfrm>
            <a:off x="1224000" y="2781360"/>
            <a:ext cx="3333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这两个图象是成中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心对称的吗？如果是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称中心是哪一点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如果不是，请说明理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由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67"/>
          <p:cNvSpPr/>
          <p:nvPr/>
        </p:nvSpPr>
        <p:spPr>
          <a:xfrm>
            <a:off x="2478240" y="56610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ff"/>
                </a:solidFill>
                <a:latin typeface="Times New Roman"/>
              </a:rPr>
              <a:t>中心对称与旋转有怎样的关系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03:08:5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37:52Z</dcterms:modified>
  <cp:revision>3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