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2.png" ContentType="image/png"/>
  <Override PartName="/ppt/media/image11.wmf" ContentType="image/x-wmf"/>
  <Override PartName="/ppt/media/image1.png" ContentType="image/png"/>
  <Override PartName="/ppt/media/image3.jpeg" ContentType="image/jpeg"/>
  <Override PartName="/ppt/media/image9.jpeg" ContentType="image/jpeg"/>
  <Override PartName="/ppt/media/image7.jpeg" ContentType="image/jpeg"/>
  <Override PartName="/ppt/media/image2.png" ContentType="image/png"/>
  <Override PartName="/ppt/media/image4.jpeg" ContentType="image/jpeg"/>
  <Override PartName="/ppt/media/laser.wav" ContentType="audio/x-wav"/>
  <Override PartName="/ppt/media/image10.png" ContentType="image/png"/>
  <Override PartName="/ppt/media/image6.jpeg" ContentType="image/jpeg"/>
  <Override PartName="/ppt/media/wind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EB58-BD00-4CCB-86B5-78B3E0ABD8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E244-0D91-4CF2-8790-996F64B8A53B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8A2-7EDC-4A98-8EFE-FB7C514A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D73-850A-4EE8-BA66-46A238A3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5229C-8783-4E61-9594-5F6A605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41E9F-A7A3-4BB8-A2F0-002D4A2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B00A2-4A3E-4C7F-A7C9-24C050F8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92540-CE58-470D-B8A5-912DAD2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013FD-DD63-49D5-93C9-291372B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2AE08-B707-470F-8425-807B309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EBE5A-AF31-4F5F-B73C-85A248E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FE001-6B9F-4DFC-8753-B2A4CA38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13DFC-B130-485A-80A0-08FE136E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611A8-D10A-4C78-95B3-28FE9705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D73-B35E-41CE-8F11-3733F521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03801-9F20-4A3C-9CF9-7DEE5C9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3E750-FDA8-49D0-A245-475ED37C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180AE-57E6-4D6D-B0E6-F662EBD0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AFC9D-5BCD-4FFA-93A7-2E3F775D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6FD20-3ABE-44D3-BDFC-63A4AB34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5FE93-3C1D-4F54-AD49-0E3B720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E902B-8F7E-4A05-855B-B054B15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90B8F-9B03-4DBE-B6E4-E3E1C80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ADEEF-6CE9-46EE-9B69-017B3F1F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4C2C0-30C6-4715-8979-8A32AE19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4A5-672D-4C38-8784-F7F4B4BA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BB41D-B58A-4740-BECD-50CE0C44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FBEA1-3702-4BB9-AE98-8943D75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C5E30-29E1-43CE-85F1-63260C0D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6EBF-C11A-4207-BA4C-46E17156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213BA-6C40-4E59-83ED-D3E7B771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3B8D1-758F-462F-85B7-79B45C1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CB7A-B07F-47B2-87A3-E7A20DAE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3C220-5553-4356-8E77-290A201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C744-9F0C-4BDE-AFE5-ADD45B9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95342-8B79-4EA9-B96C-703047B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B3F2-384E-4F2D-A84F-6549AD60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C9175-438A-4FEB-B019-8E05852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6FBDC-30B9-4AE6-B5D5-0897D8EC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6B07-433A-4B83-BB8D-8A8A93C1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5ACAB-BA01-45E3-8FFE-7F1C2D8D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EF341-A887-4CD9-8980-2FD31E1D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B6BE7-CF90-4F2B-AD5E-15DDB226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A6F05-902B-4DC6-8FA4-C7E867E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BF4D3-F793-4BEB-958F-0D004BFB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68778-9C79-4D8A-B827-4B8871CB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BD093-C8ED-4A6E-B1F8-92DD863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F78-548E-49CC-88AE-F972273B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3C161-2E1C-4E99-9C40-66AC8CD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992B6-BE65-4C50-B01D-AD86876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7D3F-EC4B-4B3C-A343-3D9AE1F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ACC28-B72C-47C9-A377-5F72F359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4310B-79FD-4B65-A899-85DC7E4F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11C0F-C1C9-471C-A313-72186655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6B763-C8A7-4A73-A43C-EFC28406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CE866-1D71-42C0-A4B0-659EB6C4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C63B0-7433-490E-8865-677CC80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59BCD-3D66-4351-B2F5-4CEE016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22C1-318B-4062-94CA-B6859B1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4EB6A-B892-4EEA-A40B-770E26C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938FF-43DD-4E5B-A1B6-96E1E2D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8E016-2097-4659-B8FD-4C3A515F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8423E-9B0A-4400-B54B-A1411E69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487D1-84F6-4D4B-8D38-E52CA624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D5098-3E24-4A29-871F-A6B651C5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A1F0C-E4AC-4282-9AB2-8B148F84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DEC8C-EA0C-4746-932F-BEB812D1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7918C-D9B8-486A-8D66-78C99AB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F6426-7980-4ADA-9196-4333885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513B-1116-4436-89A6-9627505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917DC-689B-485B-B73E-D13E936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E345D-54B9-43E5-B673-5175A6CE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E517A-0A11-4F85-9747-4BDDC6BE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920CE-62A2-47FD-AB53-2C64211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BA24F-B0C0-4E07-AB0C-907B091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B9000-B328-4A40-8DFC-2C07C11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4826F-8588-43F5-B6EA-056CDCD9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0EC53-FFB7-43D1-A888-C6B96EB1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1A101-B998-45C8-8CE0-F2B2545C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09323-285D-47D5-9B3D-215CBEEB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6EFC-CA75-418B-889C-91E397F5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92283-0128-4D0E-B57A-85C4D02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FDEA6-B1CF-47B7-8491-F98B8167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E995F-EC21-4C1F-983F-87B8F0DB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34250-8FEC-4CD4-AF51-4A1578B1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B33D5-531B-4D1A-8FEE-998EB53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97D13-42F9-48C1-B21E-525582E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8FD55-22CB-4FE3-AB63-5447A16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4513B-7189-48DA-898F-B7A9C97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D911A-A9DA-404B-96BE-7DD91416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EFA0D-EFD3-4996-B694-354ACE9A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D2A5-4761-450D-B493-831EBE6A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EB101-1A46-4F91-9F2B-243BFFA5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8873F-04D2-41C9-9D81-4E26B44B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CC28F-5AE1-4A37-97C8-13C13F9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A0CF5-163A-47F9-828D-6CD83568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3A99D-185C-4DCB-AA9A-9C09EA6F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60723-0EE5-404A-B3DF-FF4864B6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E9243-F8B3-4903-B8EA-65C6CFA9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D200F-ED36-4CCD-A370-2CB711D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392DD-A015-4924-81E5-7B6F452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31E0C-1822-4D69-B789-88533F9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F269-5369-46DC-BC0D-93DBA4E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D8F00-C772-4646-8B62-CDC1131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2AAF3-0309-4696-9125-46F4D663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A2271-042C-465A-AD1E-6A109427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6DDF3-ECD1-4E32-A61D-E24B99AD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E8508-991A-4DD6-BBEB-8749B449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6E0A4-8FEE-4C88-8C3D-BFAE017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2D95E-D382-4759-A689-3F33EA0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D169A-575F-4549-A002-6EA5C71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08968-08CF-4E71-A279-C7F9944E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EF707-4C3A-41A5-A1A6-C0DA0E6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784-6E17-4618-975C-E73414DA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B0BA-6D1E-472D-BCE5-EE5CB0D7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F50DA-C98E-403E-B348-1AE4BCC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A36A1-796E-4E3E-99F6-849ED32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C713E-7683-4730-BA75-56493151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C8562-822F-43FF-9948-938ADC9B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30CE2-AADA-49CC-9514-86CBFADB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8FCE7-ACCA-4F82-9CC1-D73D9DCE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25CB8-D35C-46D1-B63C-8A5E6393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0828F-2FE1-409D-BFCA-0070AF4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DE60B-7A19-4498-9F95-E39C8A92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37199-2486-45BB-B051-EF67F967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C7C2-00A4-4374-8921-21A65A9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D7E23-DCA8-47B2-8BE9-54786DD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8BE1E-1A2F-4FBA-9E14-A8CBBCCD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88544-F0C9-411F-9ADA-0380110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77199-2FCF-42B4-8E8C-A32CE201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C0AA6-69B6-44A6-B12F-1ABC5A9E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F937C-1D9E-4FC3-8807-311232B2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AD12C-D09A-4F54-A748-9E5474D0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C1A9-65CE-4AD0-AAC3-197E07D1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5EE4-6966-4FD7-A5D4-F27155BF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1793-9E82-4464-8776-484CCDEC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F093-DFA1-4350-B457-5ABAC7B8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7994-0941-4BBD-8827-AC9373AC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DD0C-2C4D-4AA3-BF1A-43EEBB3A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C8CE-CC4F-49B2-B37D-561A0A29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95BE-E555-403A-B0EC-5B58C55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B88-7C03-4106-B472-747109F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EF16-44ED-495B-930A-8E1E0C17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56BE-CC75-40FD-947A-8FBBA86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3E9B-39A5-4EEF-B1ED-96FA13C0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9C03-1228-47A7-87DB-ABC1586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AD69-CB36-46AE-99B1-F8BD79D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1C19-FB08-4C6E-A74E-774E4B8A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83EF-A4E9-4B12-BF0A-9935F2F5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85DF-7AC2-4C13-805D-E44FC5B3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25EF-BA22-4E8D-857A-347CA67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BD7D-DAE6-43AB-BFAF-FA93273D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557-9B1A-446B-8014-7ED053B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D0CB-7A72-4E7E-92A5-E2DA1A2E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8EE8-AA25-4C53-8D8F-A264D9A8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D78C-43A3-46FE-8E62-FA71B02A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64F4-0C0E-48FF-8F6A-E94EF472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F84B-B1F9-43F8-BC18-5519FBA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2BD6-0525-4655-8F0C-2D04B72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C069-C1B2-4A88-9138-F2AEB587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4AAC-1468-491C-8E41-B4E02526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FD67-6D22-48FA-B37F-C52F590A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F930B-423D-4381-AF85-087004A9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B83-09E3-4805-B2EC-E745FF8E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B7379-A5A7-4B7A-B48C-B3B2FF0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A93C5-8129-41FE-9AA0-CD4E2792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89E98-60B4-42AE-A2F1-F88EE4F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D0ABA-E176-449B-AF49-7D2F22E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E279D-C0BD-4DD0-A26D-69A7E17A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51A1F-3EF6-4979-ADC1-6B815B7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ED16D-1BCA-4C08-9D29-AD53822B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E9BF8-6EE6-4C3A-9C57-327E0766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1E4D6-B3D7-46CA-91B7-66A1F5D5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AB15E-78A2-4101-BCB4-DD5F9E5D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2E7-9315-4D8A-9F16-A46B5FA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2527B-92AB-4FF3-B85C-12E29D37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FECE5-54FE-430A-BC47-D71062BC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748C5-6BFF-4363-8EE2-98F15E5D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ABB0C-4BB2-4C30-A1AA-745DE28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9EE60-182D-4738-BAA8-0614ACFA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CD23C-4223-454F-BE95-44039D64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0B01D-47BC-4D94-9C10-DBD2ABE0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33DB0-750C-4706-A2B3-6FCFC7E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D5B56-9AD0-4113-9CA7-4D560AC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3CF91-1B36-441A-B2B0-57FD18D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94F-5A89-4CC1-A365-0E53576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9C41F-63CF-4B7E-9640-A6C10F8C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A7CCE-25A1-444B-A303-AF507702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30EFE-5CDA-46C0-830B-EEDEBC46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54FA1-884D-4A84-9083-CF9FA921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A95F-1A65-4811-9422-1E24FF17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02B0-4239-4DC3-8C6F-EBBC46E6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73F4-3E51-4B16-AFFA-E86BFE75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1FA8-F5EF-4DDA-897B-3CAC78B1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9E6B-37CF-4D62-A3A1-9D00C4BA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F13B-C94F-4827-AA29-96B6BC9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0F0-E7AB-4DA7-92CD-751C9085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0825-1066-4CAB-ACBE-DE9E68A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FF3F-210F-429E-A623-9F5253C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42FF-3172-4A8D-8EA9-302F2BF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FE12-B5F9-43CB-AFC4-F046E28A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C133-FEB5-41B0-B527-4C285415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2A9D-49D1-4442-8627-7EFCAAA9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EBFD8-2CBD-4B12-9923-593C4449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41F9-2847-402C-B9F9-6B843FDB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FA87-962D-4DFD-890E-0FA29A0E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6E2D-66D8-45B9-BF95-E232A26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C72-8428-41AA-9E95-B32645B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161A0-A96D-4DF9-BAD6-E41B99A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172A3-A258-4207-A066-32A79B69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1BFF9-D133-47FC-8CE0-3717682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20C8-C57D-49BC-B011-F855457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99C4-E64F-43BF-8AC0-CA3AF6A9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AC0A-3E31-4652-AA91-81512AA7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EE258-B0DF-4C48-9AB0-44D8AA66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0CC2B-BDBC-4394-8390-CC9D3D39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35341-72D4-4A1E-94F2-7DDBB415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11442-C011-4B9F-BB00-BB7AC38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9904-47EA-49EE-9855-69C041916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1744-8BB2-4E5A-A482-B17C1E5264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A00-C714-4BC0-B863-E099EDA6E9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95DB-837A-47C4-973C-B86D1E999F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EE6D-60EB-4079-8D3E-48132EBB38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E60-C70B-40D4-B6D7-44698B185D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378D-B78B-4C6A-A921-00984E40DC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6C6-1350-4282-B10E-4B2B2E9870E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B95-7C49-4FDF-81C5-FABF1BBB7F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0EB8-7038-4B5F-899C-23FB8F6D1E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22B4-E052-4036-ABD9-A9569FF79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03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249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2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63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77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0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91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4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305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8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319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2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33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34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35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3E5-410F-4AA8-A4B5-6FDE35CF65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FF2-B954-4677-A906-274D4DC3AC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3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60DB-D224-46F6-B10B-1EDF5D772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277-55E4-4547-98C1-A8E38B83C3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5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8"/>
            <p:cNvSpPr/>
            <p:nvPr/>
          </p:nvSpPr>
          <p:spPr>
            <a:xfrm>
              <a:off x="5141160" y="1036080"/>
              <a:ext cx="10962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9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986960" y="2661840"/>
              <a:ext cx="9356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8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9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4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5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2CE9-3C0C-4D81-93B0-7EA39D479D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A420-1345-4367-B6DF-AFCEFE92642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ED8-A9C6-4911-AFBA-DAE4381022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4000" y="2544480"/>
            <a:ext cx="784692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走向共同富裕的道路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矩形 1"/>
          <p:cNvSpPr/>
          <p:nvPr/>
        </p:nvSpPr>
        <p:spPr>
          <a:xfrm>
            <a:off x="2741040" y="696960"/>
            <a:ext cx="343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第七课　关注经济发展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971640" y="40464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为了最终实现共同富裕，党和国家制定了我国经济建设的宏伟蓝图和目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Text Box 6"/>
          <p:cNvSpPr/>
          <p:nvPr/>
        </p:nvSpPr>
        <p:spPr>
          <a:xfrm>
            <a:off x="411120" y="234936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0703"/>
                </a:solidFill>
                <a:latin typeface="Tahoma"/>
                <a:ea typeface="宋体"/>
              </a:rPr>
              <a:t>第一步，从</a:t>
            </a:r>
            <a:r>
              <a:rPr b="1" lang="en-US" sz="2800" spc="-1" strike="noStrike">
                <a:solidFill>
                  <a:srgbClr val="090703"/>
                </a:solidFill>
                <a:latin typeface="Tahoma"/>
              </a:rPr>
              <a:t>1981</a:t>
            </a:r>
            <a:r>
              <a:rPr b="1" lang="zh-CN" sz="2800" spc="-1" strike="noStrike">
                <a:solidFill>
                  <a:srgbClr val="090703"/>
                </a:solidFill>
                <a:latin typeface="Tahoma"/>
                <a:ea typeface="宋体"/>
              </a:rPr>
              <a:t>年到</a:t>
            </a:r>
            <a:r>
              <a:rPr b="1" lang="en-US" sz="2800" spc="-1" strike="noStrike">
                <a:solidFill>
                  <a:srgbClr val="090703"/>
                </a:solidFill>
                <a:latin typeface="Tahoma"/>
              </a:rPr>
              <a:t>1990</a:t>
            </a:r>
            <a:r>
              <a:rPr b="1" lang="zh-CN" sz="2800" spc="-1" strike="noStrike">
                <a:solidFill>
                  <a:srgbClr val="090703"/>
                </a:solidFill>
                <a:latin typeface="Tahoma"/>
                <a:ea typeface="宋体"/>
              </a:rPr>
              <a:t>年，国民生产总值翻一番，解决人民的温饱问题。（提前三年完成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355680" y="3413160"/>
            <a:ext cx="82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703"/>
                </a:solidFill>
                <a:latin typeface="Tahoma"/>
                <a:ea typeface="宋体"/>
              </a:rPr>
              <a:t>第二步，到</a:t>
            </a:r>
            <a:r>
              <a:rPr b="1" lang="en-US" sz="3200" spc="-1" strike="noStrike">
                <a:solidFill>
                  <a:srgbClr val="090703"/>
                </a:solidFill>
                <a:latin typeface="Tahoma"/>
              </a:rPr>
              <a:t>20</a:t>
            </a:r>
            <a:r>
              <a:rPr b="1" lang="zh-CN" sz="3200" spc="-1" strike="noStrike">
                <a:solidFill>
                  <a:srgbClr val="090703"/>
                </a:solidFill>
                <a:latin typeface="Tahoma"/>
                <a:ea typeface="宋体"/>
              </a:rPr>
              <a:t>世纪末，国民生产总值再翻一番，人民生活达到小康水平。（提前五年完成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325440" y="5021280"/>
            <a:ext cx="83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703"/>
                </a:solidFill>
                <a:latin typeface="Tahoma"/>
                <a:ea typeface="宋体"/>
              </a:rPr>
              <a:t>第三步，到</a:t>
            </a:r>
            <a:r>
              <a:rPr b="1" lang="en-US" sz="3200" spc="-1" strike="noStrike">
                <a:solidFill>
                  <a:srgbClr val="090703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090703"/>
                </a:solidFill>
                <a:latin typeface="Tahoma"/>
                <a:ea typeface="宋体"/>
              </a:rPr>
              <a:t>世纪中叶，人均国民生产总值达到中等发达国家水平，人民生活比较富裕，基本实现现代化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Rectangle 11"/>
          <p:cNvSpPr/>
          <p:nvPr/>
        </p:nvSpPr>
        <p:spPr>
          <a:xfrm>
            <a:off x="476280" y="16286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、党的十三大制定了分三步走的战略部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Text Box 12"/>
          <p:cNvSpPr/>
          <p:nvPr/>
        </p:nvSpPr>
        <p:spPr>
          <a:xfrm>
            <a:off x="1116000" y="5013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文本框 8194"/>
          <p:cNvSpPr/>
          <p:nvPr/>
        </p:nvSpPr>
        <p:spPr>
          <a:xfrm>
            <a:off x="173160" y="6458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Tahoma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Text Box 4"/>
          <p:cNvSpPr/>
          <p:nvPr/>
        </p:nvSpPr>
        <p:spPr>
          <a:xfrm>
            <a:off x="2376360" y="148104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  <a:ea typeface="宋体"/>
              </a:rPr>
              <a:t>所谓小康水平，是指在温饱的基础上，生活质量进一步提高，达到丰衣足食。这既包括物质生活的改善，也包括精神生活的充实；既包括居民个人消费水平的提高，也包括社会福利和劳动环境的改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Text Box 7"/>
          <p:cNvSpPr/>
          <p:nvPr/>
        </p:nvSpPr>
        <p:spPr>
          <a:xfrm>
            <a:off x="1116000" y="335772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8"/>
          <p:cNvSpPr/>
          <p:nvPr/>
        </p:nvSpPr>
        <p:spPr>
          <a:xfrm>
            <a:off x="1165320" y="42433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  <a:ea typeface="宋体"/>
              </a:rPr>
              <a:t>我国人民生活总体上达到小康水平，但这还是低水平的、不全面的、发展很不平衡的小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4" name="Picture 9" descr="C:\Program Files\Common Files\Microsoft Shared\Clipart\cagcat50\AN02097_.wmf"/>
          <p:cNvPicPr/>
          <p:nvPr/>
        </p:nvPicPr>
        <p:blipFill>
          <a:blip r:embed="rId2"/>
          <a:stretch/>
        </p:blipFill>
        <p:spPr>
          <a:xfrm>
            <a:off x="0" y="0"/>
            <a:ext cx="2482920" cy="2903400"/>
          </a:xfrm>
          <a:prstGeom prst="rect">
            <a:avLst/>
          </a:prstGeom>
          <a:ln w="0">
            <a:noFill/>
          </a:ln>
        </p:spPr>
      </p:pic>
      <p:sp>
        <p:nvSpPr>
          <p:cNvPr id="1255" name="WordArt 10"/>
          <p:cNvSpPr txBox="1"/>
          <p:nvPr/>
        </p:nvSpPr>
        <p:spPr>
          <a:xfrm>
            <a:off x="6016680" y="4976640"/>
            <a:ext cx="2816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小资料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4"/>
          <p:cNvSpPr/>
          <p:nvPr/>
        </p:nvSpPr>
        <p:spPr>
          <a:xfrm>
            <a:off x="3921840" y="88092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、新世纪头二十年的奋斗目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898560" y="1752480"/>
            <a:ext cx="77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  <a:ea typeface="宋体"/>
              </a:rPr>
              <a:t>集中力量，全面建设惠及十几亿人口的更高水平的小康社会，使经济更加发展、民主更加健全、科教更加进步、文化更加繁荣、社会更加和谐、人民生活更加殷实。（全面建设小康社会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874800" y="4473720"/>
            <a:ext cx="79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10199"/>
                </a:solidFill>
                <a:latin typeface="宋体"/>
                <a:ea typeface="宋体"/>
              </a:rPr>
              <a:t>在全面建设小康社会的奋斗目标中，</a:t>
            </a:r>
            <a:r>
              <a:rPr b="1" lang="zh-CN" sz="3200" spc="-1" strike="noStrike" u="sng">
                <a:solidFill>
                  <a:srgbClr val="010199"/>
                </a:solidFill>
                <a:uFillTx/>
                <a:latin typeface="宋体"/>
                <a:ea typeface="宋体"/>
              </a:rPr>
              <a:t>最关键的目标</a:t>
            </a:r>
            <a:r>
              <a:rPr b="1" lang="zh-CN" sz="3200" spc="-1" strike="noStrike">
                <a:solidFill>
                  <a:srgbClr val="010199"/>
                </a:solidFill>
                <a:latin typeface="宋体"/>
                <a:ea typeface="宋体"/>
              </a:rPr>
              <a:t>是，力争</a:t>
            </a:r>
            <a:r>
              <a:rPr b="1" lang="en-US" sz="3200" spc="-1" strike="noStrike">
                <a:solidFill>
                  <a:srgbClr val="010199"/>
                </a:solidFill>
                <a:latin typeface="宋体"/>
              </a:rPr>
              <a:t>2020</a:t>
            </a:r>
            <a:r>
              <a:rPr b="1" lang="zh-CN" sz="3200" spc="-1" strike="noStrike">
                <a:solidFill>
                  <a:srgbClr val="010199"/>
                </a:solidFill>
                <a:latin typeface="宋体"/>
                <a:ea typeface="宋体"/>
              </a:rPr>
              <a:t>年国内生产总值笔</a:t>
            </a:r>
            <a:r>
              <a:rPr b="1" lang="en-US" sz="3200" spc="-1" strike="noStrike">
                <a:solidFill>
                  <a:srgbClr val="010199"/>
                </a:solidFill>
                <a:latin typeface="宋体"/>
              </a:rPr>
              <a:t>000</a:t>
            </a:r>
            <a:r>
              <a:rPr b="1" lang="zh-CN" sz="3200" spc="-1" strike="noStrike">
                <a:solidFill>
                  <a:srgbClr val="010199"/>
                </a:solidFill>
                <a:latin typeface="宋体"/>
                <a:ea typeface="宋体"/>
              </a:rPr>
              <a:t>年翻两番，综合国力和国际竞争力明显增强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75F4-0410-486F-BADD-EB8F941FEF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1" name="Picture 4" descr="F2003102009415300000"/>
          <p:cNvPicPr/>
          <p:nvPr/>
        </p:nvPicPr>
        <p:blipFill>
          <a:blip r:embed="rId1"/>
          <a:stretch/>
        </p:blipFill>
        <p:spPr>
          <a:xfrm>
            <a:off x="-1549440" y="-274680"/>
            <a:ext cx="11306160" cy="7121520"/>
          </a:xfrm>
          <a:prstGeom prst="rect">
            <a:avLst/>
          </a:prstGeom>
          <a:ln w="0">
            <a:noFill/>
          </a:ln>
        </p:spPr>
      </p:pic>
      <p:sp>
        <p:nvSpPr>
          <p:cNvPr id="1212" name="Text Box 7"/>
          <p:cNvSpPr/>
          <p:nvPr/>
        </p:nvSpPr>
        <p:spPr>
          <a:xfrm>
            <a:off x="900000" y="616572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0" y="3985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宋体"/>
              </a:rPr>
              <a:t>华西村农民别墅群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2" descr="E:\linpeng\shh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6" name="Picture 3074" descr="E:\linpeng\bp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7" name="文本框 8194"/>
          <p:cNvSpPr/>
          <p:nvPr/>
        </p:nvSpPr>
        <p:spPr>
          <a:xfrm>
            <a:off x="2143080" y="184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4"/>
          <p:cNvSpPr/>
          <p:nvPr/>
        </p:nvSpPr>
        <p:spPr>
          <a:xfrm>
            <a:off x="611280" y="836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社会主义的基本经济制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AutoShape 7"/>
          <p:cNvSpPr/>
          <p:nvPr/>
        </p:nvSpPr>
        <p:spPr>
          <a:xfrm>
            <a:off x="3419640" y="1557360"/>
            <a:ext cx="144360" cy="2016000"/>
          </a:xfrm>
          <a:prstGeom prst="downArrow">
            <a:avLst>
              <a:gd name="adj1" fmla="val 50000"/>
              <a:gd name="adj2" fmla="val 3490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2195640" y="3789360"/>
            <a:ext cx="24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社会主义的分配制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9"/>
          <p:cNvSpPr/>
          <p:nvPr/>
        </p:nvSpPr>
        <p:spPr>
          <a:xfrm>
            <a:off x="4645080" y="3548160"/>
            <a:ext cx="309600" cy="2050920"/>
          </a:xfrm>
          <a:custGeom>
            <a:avLst/>
            <a:gdLst>
              <a:gd name="textAreaLeft" fmla="*/ 198000 w 309600"/>
              <a:gd name="textAreaRight" fmla="*/ 309960 w 3096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907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Text Box 10"/>
          <p:cNvSpPr/>
          <p:nvPr/>
        </p:nvSpPr>
        <p:spPr>
          <a:xfrm>
            <a:off x="4960800" y="333216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按劳分配为主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Text Box 11"/>
          <p:cNvSpPr/>
          <p:nvPr/>
        </p:nvSpPr>
        <p:spPr>
          <a:xfrm>
            <a:off x="4881600" y="473220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多种分配方式并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12"/>
          <p:cNvSpPr/>
          <p:nvPr/>
        </p:nvSpPr>
        <p:spPr>
          <a:xfrm>
            <a:off x="3019680" y="184464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新宋体"/>
              </a:rPr>
              <a:t>决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 Box 4"/>
          <p:cNvSpPr/>
          <p:nvPr/>
        </p:nvSpPr>
        <p:spPr>
          <a:xfrm>
            <a:off x="0" y="2276640"/>
            <a:ext cx="441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社会主义的根本原则是什么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AutoShape 5"/>
          <p:cNvSpPr/>
          <p:nvPr/>
        </p:nvSpPr>
        <p:spPr>
          <a:xfrm>
            <a:off x="4067280" y="1773360"/>
            <a:ext cx="503280" cy="237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907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Text Box 6"/>
          <p:cNvSpPr/>
          <p:nvPr/>
        </p:nvSpPr>
        <p:spPr>
          <a:xfrm>
            <a:off x="4859280" y="11253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社会主义公有制经济为主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4932360" y="37162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共同富裕的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4"/>
          <p:cNvSpPr/>
          <p:nvPr/>
        </p:nvSpPr>
        <p:spPr>
          <a:xfrm>
            <a:off x="949320" y="3538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ahoma"/>
                <a:ea typeface="宋体"/>
              </a:rPr>
              <a:t>怎样正确理解共同富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709560" y="112716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66cc"/>
                </a:solidFill>
                <a:latin typeface="Tahoma"/>
                <a:ea typeface="宋体"/>
              </a:rPr>
              <a:t>、共同富裕是一个有先有后、有快有慢的过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Text Box 6"/>
          <p:cNvSpPr/>
          <p:nvPr/>
        </p:nvSpPr>
        <p:spPr>
          <a:xfrm>
            <a:off x="1206360" y="160164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只有鼓励一部分人、一部分地区通过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诚实劳动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合法经营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先富起来，形成示范效应，并通过先富者带动和帮助后富者，才能逐步实现共同富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585720" y="28843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66cc"/>
                </a:solidFill>
                <a:latin typeface="Tahoma"/>
                <a:ea typeface="宋体"/>
              </a:rPr>
              <a:t>、在不同的发展阶段，共同富裕有不同的内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8"/>
          <p:cNvSpPr/>
          <p:nvPr/>
        </p:nvSpPr>
        <p:spPr>
          <a:xfrm>
            <a:off x="403200" y="3498840"/>
            <a:ext cx="76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）改革开放以来，中西部地区在根据自己的条件发挥资源优势的同时，在各个方面支持了沿海地区先发展起来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Text Box 9"/>
          <p:cNvSpPr/>
          <p:nvPr/>
        </p:nvSpPr>
        <p:spPr>
          <a:xfrm>
            <a:off x="544680" y="4776840"/>
            <a:ext cx="75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）当改革和发展到了一定阶段之后，党和国家又实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西部大开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战略，推动先富裕起来的东部沿海地区支持中西部地区发展经济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我国实行什么样的分配制度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Text Box 4"/>
          <p:cNvSpPr/>
          <p:nvPr/>
        </p:nvSpPr>
        <p:spPr>
          <a:xfrm>
            <a:off x="826920" y="249228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这种分配制度是由什么决定的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WordArt 5"/>
          <p:cNvSpPr txBox="1"/>
          <p:nvPr/>
        </p:nvSpPr>
        <p:spPr>
          <a:xfrm>
            <a:off x="4211640" y="4365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1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1" i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2"/>
          <p:cNvSpPr/>
          <p:nvPr/>
        </p:nvSpPr>
        <p:spPr>
          <a:xfrm>
            <a:off x="411120" y="0"/>
            <a:ext cx="8458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材料：我国目前城乡收入比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西部地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省面积占全国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7%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人均国内生产总值仅相当于全国水平的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7%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东部地区的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同时，城市居民间也存在收入的差距。走共同富裕的道路就不能存在收入差距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材料辨析：存在收入的差距就不是走共同富裕的道路， 走共同富裕的道路就不能存在收入差距。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844560" y="2927520"/>
            <a:ext cx="60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）观点错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Text Box 6"/>
          <p:cNvSpPr/>
          <p:nvPr/>
        </p:nvSpPr>
        <p:spPr>
          <a:xfrm>
            <a:off x="981000" y="331632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共同富裕是社会主义的根本原则。但是共同富裕不是同           时富裕、同步富裕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844560" y="4160880"/>
            <a:ext cx="79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）实现共同富裕有一个过程，必须存在先富后富的问   题。材料中反映的各种收入差距，正是先富与后富的表现，只有通过先富者劳动和帮助后富者，才能逐步实现共同富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Text Box 9"/>
          <p:cNvSpPr/>
          <p:nvPr/>
        </p:nvSpPr>
        <p:spPr>
          <a:xfrm>
            <a:off x="934920" y="5670720"/>
            <a:ext cx="67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）国家采取各种有力措施，推动先富起来的地区和人民支持和帮助后富地区和人民发展经济，提高收入，最终实现共同富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WordArt 11"/>
          <p:cNvSpPr txBox="1"/>
          <p:nvPr/>
        </p:nvSpPr>
        <p:spPr>
          <a:xfrm>
            <a:off x="7505640" y="5624640"/>
            <a:ext cx="1638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1:21:1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10:36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