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EFB6-C810-4AD0-A3C4-200C715987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3A61-98BA-4966-A088-87107DE701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459-485B-4616-A41C-3EB2A4C9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759-E14C-415E-8CCB-D94A434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972-10AB-4579-8743-0B22FD9D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8A8-1CBB-460E-9865-0B729C7C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3F52-F8FF-4AC2-A893-3E9C1DC6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6D39-C408-46F0-BD35-CEAA9F65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961E-32F5-42C2-87FD-A4EE0C63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810F-63EF-407C-B511-21CC2FE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CA3A-0500-404E-8256-9F651074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12A1-6E08-42A5-BDF1-A6F1E506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6E6B-64EA-4F1D-B72F-A3615F0C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2B9-CBBC-4C1B-9EF9-964B73D4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86E6-CD77-4D61-9769-F1CDFC4E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0021-9F1F-4C22-BD50-7EA81028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4A09-A9A7-44E1-83F5-FC2BEFF5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0DE-685A-4511-AB8E-63DF0FC9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3F62-37A3-4BD7-8EA0-C657C53A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9DF-AB59-494A-A0CF-204E930E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B63-DBC0-446B-BEB1-2A77E93B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CDD-C49C-4ACD-BF9B-0A049C56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9D5-DE80-4979-BA19-DBBDB30F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ED0-0A1D-439D-ADCD-1226938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E47-DB92-4EE0-8F94-5DC0CDF5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B92-DAFD-48D8-9AC5-E516A851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DD92-E4C4-4E08-B5AC-A9D0F90464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3208-F85D-48D0-A820-464044B88B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.baidu.com/i?ct=503316480&amp;z=0&amp;tn=baiduimagedetail&amp;word=%C8%C8%C0%CB%CF&#181;%C4%C8%CB%C3%C7&amp;in=2670&amp;cl=2&amp;lm=-1&amp;pn=335&amp;rn=1&amp;di=24514162725&amp;ln=1&amp;fr=&amp;ic=0&amp;s=&amp;se=&amp;sme=0&amp;tab=&amp;width=&amp;height=&amp;face=0&amp;fb=0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6360" y="764640"/>
            <a:ext cx="7991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怎样得到更多的光和热</a:t>
            </a:r>
            <a:br>
              <a:rPr sz="60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谈谈太阳及其太阳光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253548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阳光直射、斜射与吸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4920" y="1267920"/>
            <a:ext cx="849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一颜色的物体，相对于太阳不同角度的照射会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同一时间内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同样的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和地面水平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和地面垂直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和阳光垂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整理获得的信息，我们怎么解释摆放与温度之间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阳光直射、斜射与吸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234900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30318"/>
                </a:solidFill>
                <a:latin typeface="Arial"/>
              </a:rPr>
              <a:t>物体受阳光照射角度与吸热的多少有关，物体与阳光垂直比倾斜吸热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1285920" y="4792680"/>
            <a:ext cx="56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9784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思   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5" descr="xin_040905251556031134417"/>
          <p:cNvPicPr/>
          <p:nvPr/>
        </p:nvPicPr>
        <p:blipFill>
          <a:blip r:embed="rId1"/>
          <a:stretch/>
        </p:blipFill>
        <p:spPr>
          <a:xfrm>
            <a:off x="6012000" y="2824200"/>
            <a:ext cx="2708280" cy="327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u=1775865102,3057803433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2997360"/>
            <a:ext cx="2932200" cy="3133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夏天人们为什么喜欢色浅的衣服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宇航员的衣服为什么是银白色的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0C40-61F1-4CB8-A319-BCB8EEEEC7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588fbe1df9f9015bf724e49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96841"/>
                </a:solidFill>
                <a:latin typeface="Garamond"/>
              </a:rPr>
              <a:t>太阳及其阳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258920" y="1484280"/>
            <a:ext cx="6624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阳：体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4×10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千米，是地球体积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倍。表面温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多度，内部温度二万多度。地球只得到了太阳的的光和热的二十亿分之一，但这相当于每年给地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亿度电，是目前全世界总发电量的几十亿倍。是地球一切活动的基本能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b88ac6c1bf398f6bb219a862"/>
          <p:cNvPicPr/>
          <p:nvPr/>
        </p:nvPicPr>
        <p:blipFill>
          <a:blip r:embed="rId1"/>
          <a:stretch/>
        </p:blipFill>
        <p:spPr>
          <a:xfrm>
            <a:off x="135000" y="0"/>
            <a:ext cx="9009000" cy="6756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5229360"/>
            <a:ext cx="4896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96841"/>
                </a:solidFill>
                <a:latin typeface="Garamond"/>
              </a:rPr>
              <a:t>太阳及其阳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1f0705df0a811d5bd1164e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  <a:ea typeface="黑体"/>
              </a:rPr>
              <a:t>怎样得到更多的光和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730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除了利用凹凸镜之外，人们还用什么方法从太阳中获得更多的阳光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5,104,-7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5,104,-7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5,104,-7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5,104,-7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370836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0100309163506615"/>
          <p:cNvPicPr/>
          <p:nvPr/>
        </p:nvPicPr>
        <p:blipFill>
          <a:blip r:embed="rId1"/>
          <a:stretch/>
        </p:blipFill>
        <p:spPr>
          <a:xfrm>
            <a:off x="135000" y="1212840"/>
            <a:ext cx="9009000" cy="5645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  <a:ea typeface="黑体"/>
              </a:rPr>
              <a:t>怎样得到更多的光和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5554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物体的颜色与吸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71640" y="2420640"/>
            <a:ext cx="7488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一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阳光下不同颜色的纸吸热情况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录我们的实验，分析这些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物体的颜色与吸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253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我们的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我们的猜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准备材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相同条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同条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实验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列表记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析结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700360" y="33577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6841"/>
                </a:solidFill>
                <a:latin typeface="Arial"/>
              </a:rPr>
              <a:t>受光面积、受光面粗糙程度、时间、光照角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627280" y="3933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6841"/>
                </a:solidFill>
                <a:latin typeface="Arial"/>
              </a:rPr>
              <a:t>受光面的颜色分别为：白、粉、黑、黑色蜡光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556000" y="4437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6841"/>
                </a:solidFill>
                <a:latin typeface="Arial"/>
              </a:rPr>
              <a:t>上述条件下，把温度计放入受光袋中，同时开始受光及终止受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物体的颜色与吸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析整理获得的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1547640" y="580536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1547640" y="256500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971640" y="2924280"/>
            <a:ext cx="720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温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340000" y="5950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          4             6             8              10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钟（时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47640" y="2852640"/>
          <a:ext cx="6840360" cy="2941560"/>
        </p:xfrm>
        <a:graphic>
          <a:graphicData uri="http://schemas.openxmlformats.org/drawingml/2006/table">
            <a:tbl>
              <a:tblPr/>
              <a:tblGrid>
                <a:gridCol w="936720"/>
                <a:gridCol w="1017360"/>
                <a:gridCol w="976320"/>
                <a:gridCol w="979560"/>
                <a:gridCol w="976320"/>
                <a:gridCol w="978120"/>
                <a:gridCol w="975960"/>
              </a:tblGrid>
              <a:tr h="5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Line 129"/>
          <p:cNvSpPr/>
          <p:nvPr/>
        </p:nvSpPr>
        <p:spPr>
          <a:xfrm flipV="1">
            <a:off x="1547640" y="4292280"/>
            <a:ext cx="6840720" cy="144360"/>
          </a:xfrm>
          <a:prstGeom prst="line">
            <a:avLst/>
          </a:prstGeom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1"/>
          <p:cNvSpPr/>
          <p:nvPr/>
        </p:nvSpPr>
        <p:spPr>
          <a:xfrm flipV="1">
            <a:off x="1547640" y="4076280"/>
            <a:ext cx="6840720" cy="360360"/>
          </a:xfrm>
          <a:prstGeom prst="line">
            <a:avLst/>
          </a:prstGeom>
          <a:ln w="572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2"/>
          <p:cNvSpPr/>
          <p:nvPr/>
        </p:nvSpPr>
        <p:spPr>
          <a:xfrm flipV="1">
            <a:off x="1547640" y="3716280"/>
            <a:ext cx="6840720" cy="7207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3"/>
          <p:cNvSpPr/>
          <p:nvPr/>
        </p:nvSpPr>
        <p:spPr>
          <a:xfrm flipV="1">
            <a:off x="1547640" y="3933720"/>
            <a:ext cx="6840720" cy="503280"/>
          </a:xfrm>
          <a:prstGeom prst="line">
            <a:avLst/>
          </a:prstGeom>
          <a:ln w="5724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4"/>
          <p:cNvSpPr/>
          <p:nvPr/>
        </p:nvSpPr>
        <p:spPr>
          <a:xfrm flipV="1">
            <a:off x="1547640" y="4436640"/>
            <a:ext cx="6840720" cy="71640"/>
          </a:xfrm>
          <a:prstGeom prst="line">
            <a:avLst/>
          </a:prstGeom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38"/>
          <p:cNvGrpSpPr/>
          <p:nvPr/>
        </p:nvGrpSpPr>
        <p:grpSpPr>
          <a:xfrm>
            <a:off x="4284720" y="1268280"/>
            <a:ext cx="762120" cy="3213360"/>
            <a:chOff x="4284720" y="1268280"/>
            <a:chExt cx="762120" cy="3213360"/>
          </a:xfrm>
        </p:grpSpPr>
        <p:sp>
          <p:nvSpPr>
            <p:cNvPr id="128" name="Text Box 136"/>
            <p:cNvSpPr/>
            <p:nvPr/>
          </p:nvSpPr>
          <p:spPr>
            <a:xfrm>
              <a:off x="4317840" y="1268280"/>
              <a:ext cx="729000" cy="90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铝箔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7"/>
            <p:cNvSpPr/>
            <p:nvPr/>
          </p:nvSpPr>
          <p:spPr>
            <a:xfrm flipH="1">
              <a:off x="4284720" y="2178000"/>
              <a:ext cx="649440" cy="230364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43"/>
          <p:cNvGrpSpPr/>
          <p:nvPr/>
        </p:nvGrpSpPr>
        <p:grpSpPr>
          <a:xfrm>
            <a:off x="5292360" y="1341360"/>
            <a:ext cx="530640" cy="3024360"/>
            <a:chOff x="5292360" y="1341360"/>
            <a:chExt cx="530640" cy="3024360"/>
          </a:xfrm>
        </p:grpSpPr>
        <p:sp>
          <p:nvSpPr>
            <p:cNvPr id="131" name="Rectangle 140"/>
            <p:cNvSpPr/>
            <p:nvPr/>
          </p:nvSpPr>
          <p:spPr>
            <a:xfrm>
              <a:off x="5364000" y="1341360"/>
              <a:ext cx="360360" cy="6476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1"/>
            <p:cNvSpPr/>
            <p:nvPr/>
          </p:nvSpPr>
          <p:spPr>
            <a:xfrm>
              <a:off x="5368320" y="1341360"/>
              <a:ext cx="4546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cc00"/>
                  </a:solidFill>
                  <a:latin typeface="Arial"/>
                </a:rPr>
                <a:t>白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42"/>
            <p:cNvSpPr/>
            <p:nvPr/>
          </p:nvSpPr>
          <p:spPr>
            <a:xfrm flipH="1">
              <a:off x="5292360" y="1989000"/>
              <a:ext cx="360360" cy="2376720"/>
            </a:xfrm>
            <a:prstGeom prst="line">
              <a:avLst/>
            </a:prstGeom>
            <a:ln w="93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46"/>
          <p:cNvGrpSpPr/>
          <p:nvPr/>
        </p:nvGrpSpPr>
        <p:grpSpPr>
          <a:xfrm>
            <a:off x="5940360" y="1268280"/>
            <a:ext cx="503280" cy="2952720"/>
            <a:chOff x="5940360" y="1268280"/>
            <a:chExt cx="503280" cy="2952720"/>
          </a:xfrm>
        </p:grpSpPr>
        <p:sp>
          <p:nvSpPr>
            <p:cNvPr id="135" name="Rectangle 144"/>
            <p:cNvSpPr/>
            <p:nvPr/>
          </p:nvSpPr>
          <p:spPr>
            <a:xfrm>
              <a:off x="5940360" y="1268280"/>
              <a:ext cx="50328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cc"/>
                  </a:solidFill>
                  <a:latin typeface="Arial"/>
                </a:rPr>
                <a:t>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cc"/>
                  </a:solidFill>
                  <a:latin typeface="Arial"/>
                </a:rPr>
                <a:t>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45"/>
            <p:cNvSpPr/>
            <p:nvPr/>
          </p:nvSpPr>
          <p:spPr>
            <a:xfrm flipH="1">
              <a:off x="6082920" y="2205000"/>
              <a:ext cx="215640" cy="2016000"/>
            </a:xfrm>
            <a:prstGeom prst="line">
              <a:avLst/>
            </a:prstGeom>
            <a:ln w="9360">
              <a:solidFill>
                <a:srgbClr val="ff66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49"/>
          <p:cNvGrpSpPr/>
          <p:nvPr/>
        </p:nvGrpSpPr>
        <p:grpSpPr>
          <a:xfrm>
            <a:off x="6588000" y="1052640"/>
            <a:ext cx="647640" cy="3023640"/>
            <a:chOff x="6588000" y="1052640"/>
            <a:chExt cx="647640" cy="3023640"/>
          </a:xfrm>
        </p:grpSpPr>
        <p:sp>
          <p:nvSpPr>
            <p:cNvPr id="138" name="Rectangle 147"/>
            <p:cNvSpPr/>
            <p:nvPr/>
          </p:nvSpPr>
          <p:spPr>
            <a:xfrm>
              <a:off x="6875280" y="1052640"/>
              <a:ext cx="3603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8"/>
            <p:cNvSpPr/>
            <p:nvPr/>
          </p:nvSpPr>
          <p:spPr>
            <a:xfrm flipH="1">
              <a:off x="6588000" y="2347920"/>
              <a:ext cx="432000" cy="1728360"/>
            </a:xfrm>
            <a:prstGeom prst="line">
              <a:avLst/>
            </a:prstGeom>
            <a:ln w="9360">
              <a:solidFill>
                <a:srgbClr val="00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2"/>
          <p:cNvGrpSpPr/>
          <p:nvPr/>
        </p:nvGrpSpPr>
        <p:grpSpPr>
          <a:xfrm>
            <a:off x="7667640" y="1052640"/>
            <a:ext cx="360360" cy="2734920"/>
            <a:chOff x="7667640" y="1052640"/>
            <a:chExt cx="360360" cy="2734920"/>
          </a:xfrm>
        </p:grpSpPr>
        <p:sp>
          <p:nvSpPr>
            <p:cNvPr id="141" name="Rectangle 150"/>
            <p:cNvSpPr/>
            <p:nvPr/>
          </p:nvSpPr>
          <p:spPr>
            <a:xfrm>
              <a:off x="7667640" y="1052640"/>
              <a:ext cx="360360" cy="103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51"/>
            <p:cNvSpPr/>
            <p:nvPr/>
          </p:nvSpPr>
          <p:spPr>
            <a:xfrm flipH="1">
              <a:off x="7740360" y="2087640"/>
              <a:ext cx="142920" cy="169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物体的颜色与吸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们的发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116000" y="256536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6841"/>
                </a:solidFill>
                <a:latin typeface="Arial"/>
              </a:rPr>
              <a:t>物体的颜色与吸热的本领有关，深颜色物体比浅颜色物体吸热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6841"/>
                </a:solidFill>
                <a:latin typeface="Arial"/>
              </a:rPr>
              <a:t>表面粗糙的物体比表面光滑的物体吸热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1:00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1:44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6</vt:r8>
  </property>
</Properties>
</file>