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6C7-3E08-4904-B565-E57829ED5D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DA54-A35D-46A1-95E7-ACCA71BE8F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B21-03B8-419F-9EB1-197ABAF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29B-C100-48BE-956C-B7331D6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029-09A5-4170-9037-3A19A6E5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9A5-40FB-40AF-8DDF-926DC995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372-89C3-4FF4-A35C-DA87518B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0301-EF1E-4C61-9715-3AA4AE3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C21-9CED-455E-B7AF-96ECDC0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728-B54A-4DB3-9DF7-1878BFB7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B3BF-6386-4683-A96D-82ED2BD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7EA1-6231-4321-9571-8ADB1C9D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1E9B-B4DF-4C99-87F7-14F9DEA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70A-FE3A-42D1-9D05-50B875C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22D-7AD7-4D8E-B2BB-3237B12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D2C-A240-4A1E-B451-81C5C1E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D43A-13BF-438D-8C41-E408B8F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F9A1-6350-4654-84A2-5091C747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F6B2-8568-455C-A045-332A9D71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A47F-D2F4-415E-A8EF-1AA3231F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BE03-4072-4BBE-9B51-43E8C72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7298-F687-417C-B73A-2F203D50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A4FA-FA87-4A4F-8DF1-8B6A2D9F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F2A6-D7A4-46C3-B29F-5EEF79C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A44-447D-44A8-81C2-7B876D3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77DA-8412-4FAF-8C76-AE74930C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91CB-5A87-42B9-B4AD-59CBB2A8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2083-6F9E-48E5-B37E-FD81FD8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60C1-C1A7-49B0-98AB-0A9D478D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2468-AFAA-4C50-AB02-556C95C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3DB3-42B0-4B9B-80BA-28146C03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5C06-D6D1-4816-ACF6-48B12CFE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549-F2BA-494E-A8CC-A577DF5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188-50E6-458E-9D08-26662748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BDC-763C-44CB-9919-2AAEF8CD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F67-F984-4873-B830-B052C1F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1D5-3701-433F-B2F2-BB118B0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851-4E81-4A8E-A17D-C6D2A15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9E2-5509-4C5B-9ED5-7AADBEEBAB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C70-D186-4BA9-A8EF-4B98E98C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4075-42DA-43BC-AB71-0ED31C36BF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2438280" y="838080"/>
            <a:ext cx="6096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8 </a:t>
            </a: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制作一个一分钟计时器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35" name="Picture 6" descr="我做的水钟"/>
          <p:cNvPicPr/>
          <p:nvPr/>
        </p:nvPicPr>
        <p:blipFill>
          <a:blip r:embed="rId1"/>
          <a:stretch/>
        </p:blipFill>
        <p:spPr>
          <a:xfrm>
            <a:off x="3429000" y="2590920"/>
            <a:ext cx="4419720" cy="341928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3276000" y="6172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35240" y="6238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旧知铺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362320" y="17524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同一个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摆绳越长，摆摆动得越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摆绳越短，摆摆动得越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摆具有等时性：同一个单摆每摆动一次，所需的时间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429000" y="1752480"/>
            <a:ext cx="79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去背3 拷贝"/>
          <p:cNvPicPr/>
          <p:nvPr/>
        </p:nvPicPr>
        <p:blipFill>
          <a:blip r:embed="rId1"/>
          <a:stretch/>
        </p:blipFill>
        <p:spPr>
          <a:xfrm>
            <a:off x="4191120" y="914400"/>
            <a:ext cx="4098960" cy="5727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133720" y="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索新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90512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二：观察摆钟齿轮操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060160" y="2743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齿轮操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0920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7238880" y="1905120"/>
            <a:ext cx="14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垂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8139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摆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523880" y="1905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几个重要部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523880" y="3733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工作原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件在摆钟工作时是怎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809880" y="4572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运动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G_4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5219640" y="5445000"/>
            <a:ext cx="14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71640" y="530064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齿轮操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653240" y="5181480"/>
            <a:ext cx="14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40016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摆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"/>
          <p:cNvPicPr/>
          <p:nvPr/>
        </p:nvPicPr>
        <p:blipFill>
          <a:blip r:embed="rId1"/>
          <a:stretch/>
        </p:blipFill>
        <p:spPr>
          <a:xfrm>
            <a:off x="3352680" y="533520"/>
            <a:ext cx="3078360" cy="5919840"/>
          </a:xfrm>
          <a:prstGeom prst="rect">
            <a:avLst/>
          </a:prstGeom>
          <a:ln w="0">
            <a:noFill/>
          </a:ln>
        </p:spPr>
      </p:pic>
      <p:sp>
        <p:nvSpPr>
          <p:cNvPr id="156" name="Line 5"/>
          <p:cNvSpPr/>
          <p:nvPr/>
        </p:nvSpPr>
        <p:spPr>
          <a:xfrm>
            <a:off x="5410080" y="1066680"/>
            <a:ext cx="1295640" cy="763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629400" y="838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齿轮操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410080" y="2666880"/>
            <a:ext cx="129564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781680" y="2819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562720" y="464832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934320" y="4724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摆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2666880" y="4419720"/>
            <a:ext cx="1828800" cy="14475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33720" y="3886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0493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  <a:path fill="darken" w="27984" h="21600">
                <a:moveTo>
                  <a:pt x="6986" y="3794"/>
                </a:moveTo>
                <a:lnTo>
                  <a:pt x="8648" y="3794"/>
                </a:lnTo>
                <a:lnTo>
                  <a:pt x="8648" y="17806"/>
                </a:lnTo>
                <a:lnTo>
                  <a:pt x="6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hockwaveFlash3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384720" cy="5365800"/>
          </a:xfrm>
          <a:prstGeom prst="rect">
            <a:avLst/>
          </a:prstGeom>
          <a:ln w="0">
            <a:noFill/>
          </a:ln>
        </p:spPr>
      </p:pic>
      <p:pic>
        <p:nvPicPr>
          <p:cNvPr id="166" name="ShockwaveFlash4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3753000" cy="594360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"/>
          <p:cNvSpPr/>
          <p:nvPr/>
        </p:nvSpPr>
        <p:spPr>
          <a:xfrm>
            <a:off x="2327400" y="583884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Arial"/>
              </a:rPr>
              <a:t>三：制作一个一分钟计时器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362320" y="23619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）让我们也制作一个能准确计量一分钟时间的钟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）完成的举手示意，请成功的小组进行展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124000" y="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24D-567B-4DBC-A718-5056F886C6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2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05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1606000000000001024120</vt:lpwstr>
  </property>
  <property fmtid="{D5CDD505-2E9C-101B-9397-08002B2CF9AE}" pid="4" name="Version">
    <vt:r8>1</vt:r8>
  </property>
</Properties>
</file>