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0B57-2E21-4B88-AF86-2C21AB8163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CE9C-05C8-4647-8741-C1FBF8F60039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乘法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067840" y="1960560"/>
            <a:ext cx="25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375948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4" descr="42"/>
          <p:cNvPicPr/>
          <p:nvPr/>
        </p:nvPicPr>
        <p:blipFill>
          <a:blip r:embed="rId1"/>
          <a:stretch/>
        </p:blipFill>
        <p:spPr>
          <a:xfrm>
            <a:off x="468360" y="2852640"/>
            <a:ext cx="8424720" cy="28400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1086480" y="1619280"/>
            <a:ext cx="2238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小兔子拔萝卜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7481880" y="4054320"/>
            <a:ext cx="785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7481880" y="4495680"/>
            <a:ext cx="785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0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Box 17"/>
          <p:cNvSpPr/>
          <p:nvPr/>
        </p:nvSpPr>
        <p:spPr>
          <a:xfrm>
            <a:off x="7481880" y="4957920"/>
            <a:ext cx="785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457200" y="44928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深化记忆，强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716040" y="2494080"/>
            <a:ext cx="81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60F2-AABD-4781-A9AB-7C83491C091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5"/>
          <p:cNvSpPr/>
          <p:nvPr/>
        </p:nvSpPr>
        <p:spPr>
          <a:xfrm>
            <a:off x="930240" y="199224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9" name="组合 10"/>
          <p:cNvGrpSpPr/>
          <p:nvPr/>
        </p:nvGrpSpPr>
        <p:grpSpPr>
          <a:xfrm>
            <a:off x="1500120" y="3054240"/>
            <a:ext cx="6572160" cy="2527560"/>
            <a:chOff x="1500120" y="3054240"/>
            <a:chExt cx="6572160" cy="2527560"/>
          </a:xfrm>
        </p:grpSpPr>
        <p:sp>
          <p:nvSpPr>
            <p:cNvPr id="90" name="圆角矩形 8"/>
            <p:cNvSpPr/>
            <p:nvPr/>
          </p:nvSpPr>
          <p:spPr>
            <a:xfrm>
              <a:off x="1500120" y="3054240"/>
              <a:ext cx="6572160" cy="2527560"/>
            </a:xfrm>
            <a:prstGeom prst="roundRect">
              <a:avLst>
                <a:gd name="adj" fmla="val 6102"/>
              </a:avLst>
            </a:prstGeom>
            <a:solidFill>
              <a:srgbClr val="daedef"/>
            </a:solidFill>
            <a:ln w="25560">
              <a:solidFill>
                <a:srgbClr val="a0aeb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1" name="圆角矩形 9"/>
            <p:cNvSpPr/>
            <p:nvPr/>
          </p:nvSpPr>
          <p:spPr>
            <a:xfrm>
              <a:off x="1644480" y="3155760"/>
              <a:ext cx="6292800" cy="2331000"/>
            </a:xfrm>
            <a:prstGeom prst="roundRect">
              <a:avLst>
                <a:gd name="adj" fmla="val 6102"/>
              </a:avLst>
            </a:prstGeom>
            <a:solidFill>
              <a:srgbClr val="ffffff"/>
            </a:solidFill>
            <a:ln w="2556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415800"/>
            <a:ext cx="84009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激发兴趣，揭示口诀学习的意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1908000" y="3222720"/>
            <a:ext cx="6531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120760" y="580428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问题：知道老师为什么算得快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5" name="Group 20"/>
          <p:cNvGrpSpPr/>
          <p:nvPr/>
        </p:nvGrpSpPr>
        <p:grpSpPr>
          <a:xfrm>
            <a:off x="6137280" y="5589720"/>
            <a:ext cx="955800" cy="955440"/>
            <a:chOff x="6137280" y="5589720"/>
            <a:chExt cx="955800" cy="955440"/>
          </a:xfrm>
        </p:grpSpPr>
        <p:sp>
          <p:nvSpPr>
            <p:cNvPr id="96" name="椭圆 11"/>
            <p:cNvSpPr/>
            <p:nvPr/>
          </p:nvSpPr>
          <p:spPr>
            <a:xfrm>
              <a:off x="6137280" y="5722920"/>
              <a:ext cx="955800" cy="82224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  <a:effectLst>
              <a:outerShdw dist="17819" dir="27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7" name="TextBox 10"/>
            <p:cNvSpPr/>
            <p:nvPr/>
          </p:nvSpPr>
          <p:spPr>
            <a:xfrm>
              <a:off x="6368400" y="5589720"/>
              <a:ext cx="5158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</a:rPr>
                <a:t>背</a:t>
              </a:r>
              <a:endParaRPr b="1" lang="en-US" sz="4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8" name="Group 21"/>
          <p:cNvGrpSpPr/>
          <p:nvPr/>
        </p:nvGrpSpPr>
        <p:grpSpPr>
          <a:xfrm>
            <a:off x="216000" y="1484280"/>
            <a:ext cx="4832280" cy="1608120"/>
            <a:chOff x="216000" y="1484280"/>
            <a:chExt cx="4832280" cy="1608120"/>
          </a:xfrm>
        </p:grpSpPr>
        <p:pic>
          <p:nvPicPr>
            <p:cNvPr id="99" name="Picture 15" descr="19"/>
            <p:cNvPicPr/>
            <p:nvPr/>
          </p:nvPicPr>
          <p:blipFill>
            <a:blip r:embed="rId1"/>
            <a:srcRect l="0" t="12499" r="-1232" b="12499"/>
            <a:stretch/>
          </p:blipFill>
          <p:spPr>
            <a:xfrm>
              <a:off x="216000" y="1484280"/>
              <a:ext cx="18223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6"/>
            <p:cNvSpPr/>
            <p:nvPr/>
          </p:nvSpPr>
          <p:spPr>
            <a:xfrm>
              <a:off x="2195640" y="1576440"/>
              <a:ext cx="2852640" cy="1286280"/>
            </a:xfrm>
            <a:prstGeom prst="wedgeRoundRectCallout">
              <a:avLst>
                <a:gd name="adj1" fmla="val -56157"/>
                <a:gd name="adj2" fmla="val 1309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请你计算下面各题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来比一比，看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算得又快又对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的乘法口诀的学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02" name="Group 34"/>
          <p:cNvGrpSpPr/>
          <p:nvPr/>
        </p:nvGrpSpPr>
        <p:grpSpPr>
          <a:xfrm>
            <a:off x="5219640" y="981000"/>
            <a:ext cx="3613320" cy="1279440"/>
            <a:chOff x="5219640" y="981000"/>
            <a:chExt cx="3613320" cy="1279440"/>
          </a:xfrm>
        </p:grpSpPr>
        <p:pic>
          <p:nvPicPr>
            <p:cNvPr id="103" name="Picture 31" descr="女天使"/>
            <p:cNvPicPr/>
            <p:nvPr/>
          </p:nvPicPr>
          <p:blipFill>
            <a:blip r:embed="rId1"/>
            <a:stretch/>
          </p:blipFill>
          <p:spPr>
            <a:xfrm>
              <a:off x="7308720" y="98100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AutoShape 32"/>
            <p:cNvSpPr/>
            <p:nvPr/>
          </p:nvSpPr>
          <p:spPr>
            <a:xfrm>
              <a:off x="5219640" y="1198440"/>
              <a:ext cx="1944720" cy="496440"/>
            </a:xfrm>
            <a:prstGeom prst="wedgeRoundRectCallout">
              <a:avLst>
                <a:gd name="adj1" fmla="val 59787"/>
                <a:gd name="adj2" fmla="val 87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种物品各有多少个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5" name="Group 40"/>
          <p:cNvGrpSpPr/>
          <p:nvPr/>
        </p:nvGrpSpPr>
        <p:grpSpPr>
          <a:xfrm>
            <a:off x="4067280" y="4168800"/>
            <a:ext cx="4112640" cy="2068560"/>
            <a:chOff x="4067280" y="4168800"/>
            <a:chExt cx="4112640" cy="2068560"/>
          </a:xfrm>
        </p:grpSpPr>
        <p:pic>
          <p:nvPicPr>
            <p:cNvPr id="106" name="Picture 38" descr="52-2"/>
            <p:cNvPicPr/>
            <p:nvPr/>
          </p:nvPicPr>
          <p:blipFill>
            <a:blip r:embed="rId2"/>
            <a:stretch/>
          </p:blipFill>
          <p:spPr>
            <a:xfrm>
              <a:off x="4795560" y="4168800"/>
              <a:ext cx="20682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39" descr="52-2"/>
            <p:cNvPicPr/>
            <p:nvPr/>
          </p:nvPicPr>
          <p:blipFill>
            <a:blip r:embed="rId3"/>
            <a:stretch/>
          </p:blipFill>
          <p:spPr>
            <a:xfrm>
              <a:off x="5876640" y="4486320"/>
              <a:ext cx="20682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5" descr="52-2"/>
            <p:cNvPicPr/>
            <p:nvPr/>
          </p:nvPicPr>
          <p:blipFill>
            <a:blip r:embed="rId4"/>
            <a:stretch/>
          </p:blipFill>
          <p:spPr>
            <a:xfrm>
              <a:off x="4067280" y="4813200"/>
              <a:ext cx="20682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36" descr="52-2"/>
            <p:cNvPicPr/>
            <p:nvPr/>
          </p:nvPicPr>
          <p:blipFill>
            <a:blip r:embed="rId5"/>
            <a:stretch/>
          </p:blipFill>
          <p:spPr>
            <a:xfrm>
              <a:off x="5141520" y="4991040"/>
              <a:ext cx="20682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7" descr="52-2"/>
            <p:cNvPicPr/>
            <p:nvPr/>
          </p:nvPicPr>
          <p:blipFill>
            <a:blip r:embed="rId6"/>
            <a:stretch/>
          </p:blipFill>
          <p:spPr>
            <a:xfrm>
              <a:off x="6111720" y="5186520"/>
              <a:ext cx="2068200" cy="105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53"/>
          <p:cNvGrpSpPr/>
          <p:nvPr/>
        </p:nvGrpSpPr>
        <p:grpSpPr>
          <a:xfrm>
            <a:off x="54000" y="860400"/>
            <a:ext cx="4301280" cy="4368240"/>
            <a:chOff x="54000" y="860400"/>
            <a:chExt cx="4301280" cy="4368240"/>
          </a:xfrm>
        </p:grpSpPr>
        <p:grpSp>
          <p:nvGrpSpPr>
            <p:cNvPr id="112" name="Group 46"/>
            <p:cNvGrpSpPr/>
            <p:nvPr/>
          </p:nvGrpSpPr>
          <p:grpSpPr>
            <a:xfrm>
              <a:off x="54000" y="860400"/>
              <a:ext cx="3861360" cy="3897720"/>
              <a:chOff x="54000" y="860400"/>
              <a:chExt cx="3861360" cy="3897720"/>
            </a:xfrm>
          </p:grpSpPr>
          <p:pic>
            <p:nvPicPr>
              <p:cNvPr id="113" name="Picture 42" descr="{DB3559EC-E873-4CBA-8432-81559F975100}"/>
              <p:cNvPicPr/>
              <p:nvPr/>
            </p:nvPicPr>
            <p:blipFill>
              <a:blip r:embed="rId7"/>
              <a:stretch/>
            </p:blipFill>
            <p:spPr>
              <a:xfrm>
                <a:off x="54000" y="860400"/>
                <a:ext cx="3654360" cy="36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43" descr="{DB3559EC-E873-4CBA-8432-81559F975100}"/>
              <p:cNvPicPr/>
              <p:nvPr/>
            </p:nvPicPr>
            <p:blipFill>
              <a:blip r:embed="rId8"/>
              <a:stretch/>
            </p:blipFill>
            <p:spPr>
              <a:xfrm>
                <a:off x="261000" y="1069200"/>
                <a:ext cx="3654360" cy="3688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Group 50"/>
            <p:cNvGrpSpPr/>
            <p:nvPr/>
          </p:nvGrpSpPr>
          <p:grpSpPr>
            <a:xfrm>
              <a:off x="493920" y="1330920"/>
              <a:ext cx="3861360" cy="3897720"/>
              <a:chOff x="493920" y="1330920"/>
              <a:chExt cx="3861360" cy="3897720"/>
            </a:xfrm>
          </p:grpSpPr>
          <p:pic>
            <p:nvPicPr>
              <p:cNvPr id="116" name="Picture 51" descr="{DB3559EC-E873-4CBA-8432-81559F975100}"/>
              <p:cNvPicPr/>
              <p:nvPr/>
            </p:nvPicPr>
            <p:blipFill>
              <a:blip r:embed="rId9"/>
              <a:stretch/>
            </p:blipFill>
            <p:spPr>
              <a:xfrm>
                <a:off x="493920" y="1330920"/>
                <a:ext cx="3654360" cy="36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52" descr="{DB3559EC-E873-4CBA-8432-81559F975100}"/>
              <p:cNvPicPr/>
              <p:nvPr/>
            </p:nvPicPr>
            <p:blipFill>
              <a:blip r:embed="rId10"/>
              <a:stretch/>
            </p:blipFill>
            <p:spPr>
              <a:xfrm>
                <a:off x="700920" y="1539720"/>
                <a:ext cx="3654360" cy="368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8" name="Group 57"/>
          <p:cNvGrpSpPr/>
          <p:nvPr/>
        </p:nvGrpSpPr>
        <p:grpSpPr>
          <a:xfrm>
            <a:off x="30240" y="3633840"/>
            <a:ext cx="3898800" cy="3251160"/>
            <a:chOff x="30240" y="3633840"/>
            <a:chExt cx="3898800" cy="3251160"/>
          </a:xfrm>
        </p:grpSpPr>
        <p:pic>
          <p:nvPicPr>
            <p:cNvPr id="119" name="Picture 54" descr="{87D9DFEB-F88B-4898-B119-2ED90B19FCFC}"/>
            <p:cNvPicPr/>
            <p:nvPr/>
          </p:nvPicPr>
          <p:blipFill>
            <a:blip r:embed="rId11"/>
            <a:stretch/>
          </p:blipFill>
          <p:spPr>
            <a:xfrm>
              <a:off x="30240" y="3633840"/>
              <a:ext cx="2813040" cy="28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5" descr="{87D9DFEB-F88B-4898-B119-2ED90B19FCFC}"/>
            <p:cNvPicPr/>
            <p:nvPr/>
          </p:nvPicPr>
          <p:blipFill>
            <a:blip r:embed="rId12"/>
            <a:stretch/>
          </p:blipFill>
          <p:spPr>
            <a:xfrm>
              <a:off x="534960" y="3849480"/>
              <a:ext cx="2813040" cy="281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56" descr="{87D9DFEB-F88B-4898-B119-2ED90B19FCFC}"/>
            <p:cNvPicPr/>
            <p:nvPr/>
          </p:nvPicPr>
          <p:blipFill>
            <a:blip r:embed="rId13"/>
            <a:stretch/>
          </p:blipFill>
          <p:spPr>
            <a:xfrm>
              <a:off x="1116000" y="4071960"/>
              <a:ext cx="2813040" cy="281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60"/>
          <p:cNvGrpSpPr/>
          <p:nvPr/>
        </p:nvGrpSpPr>
        <p:grpSpPr>
          <a:xfrm>
            <a:off x="4433760" y="1700280"/>
            <a:ext cx="3443400" cy="2225520"/>
            <a:chOff x="4433760" y="1700280"/>
            <a:chExt cx="3443400" cy="2225520"/>
          </a:xfrm>
        </p:grpSpPr>
        <p:pic>
          <p:nvPicPr>
            <p:cNvPr id="123" name="Picture 58" descr="{D9517617-82AE-4310-AAA1-4B3109AE8FA9}"/>
            <p:cNvPicPr/>
            <p:nvPr/>
          </p:nvPicPr>
          <p:blipFill>
            <a:blip r:embed="rId14"/>
            <a:stretch/>
          </p:blipFill>
          <p:spPr>
            <a:xfrm>
              <a:off x="4433760" y="1700280"/>
              <a:ext cx="2225880" cy="22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9" descr="{D9517617-82AE-4310-AAA1-4B3109AE8FA9}"/>
            <p:cNvPicPr/>
            <p:nvPr/>
          </p:nvPicPr>
          <p:blipFill>
            <a:blip r:embed="rId15"/>
            <a:stretch/>
          </p:blipFill>
          <p:spPr>
            <a:xfrm>
              <a:off x="5651640" y="1700280"/>
              <a:ext cx="2225520" cy="222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文本框 2"/>
          <p:cNvSpPr/>
          <p:nvPr/>
        </p:nvSpPr>
        <p:spPr>
          <a:xfrm>
            <a:off x="2843280" y="3468600"/>
            <a:ext cx="65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829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归纳口诀，感受口诀的优势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27" name="Group 49"/>
          <p:cNvGrpSpPr/>
          <p:nvPr/>
        </p:nvGrpSpPr>
        <p:grpSpPr>
          <a:xfrm>
            <a:off x="3116160" y="1996920"/>
            <a:ext cx="3600360" cy="4241160"/>
            <a:chOff x="3116160" y="1996920"/>
            <a:chExt cx="3600360" cy="4241160"/>
          </a:xfrm>
        </p:grpSpPr>
        <p:sp>
          <p:nvSpPr>
            <p:cNvPr id="128" name="矩形 5"/>
            <p:cNvSpPr/>
            <p:nvPr/>
          </p:nvSpPr>
          <p:spPr>
            <a:xfrm>
              <a:off x="3119400" y="1996920"/>
              <a:ext cx="201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9" name="矩形 5"/>
            <p:cNvSpPr/>
            <p:nvPr/>
          </p:nvSpPr>
          <p:spPr>
            <a:xfrm>
              <a:off x="3116160" y="3129120"/>
              <a:ext cx="24242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0" name="矩形 5"/>
            <p:cNvSpPr/>
            <p:nvPr/>
          </p:nvSpPr>
          <p:spPr>
            <a:xfrm>
              <a:off x="3116160" y="4437000"/>
              <a:ext cx="3014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1" name="矩形 5"/>
            <p:cNvSpPr/>
            <p:nvPr/>
          </p:nvSpPr>
          <p:spPr>
            <a:xfrm>
              <a:off x="3116160" y="5668920"/>
              <a:ext cx="36003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2" name="Group 50"/>
          <p:cNvGrpSpPr/>
          <p:nvPr/>
        </p:nvGrpSpPr>
        <p:grpSpPr>
          <a:xfrm>
            <a:off x="6605640" y="1996920"/>
            <a:ext cx="2143080" cy="4239720"/>
            <a:chOff x="6605640" y="1996920"/>
            <a:chExt cx="2143080" cy="4239720"/>
          </a:xfrm>
        </p:grpSpPr>
        <p:sp>
          <p:nvSpPr>
            <p:cNvPr id="133" name="矩形 5"/>
            <p:cNvSpPr/>
            <p:nvPr/>
          </p:nvSpPr>
          <p:spPr>
            <a:xfrm>
              <a:off x="6605640" y="1996920"/>
              <a:ext cx="21430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×2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" name="矩形 5"/>
            <p:cNvSpPr/>
            <p:nvPr/>
          </p:nvSpPr>
          <p:spPr>
            <a:xfrm>
              <a:off x="6605640" y="4437000"/>
              <a:ext cx="21430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×4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" name="矩形 5"/>
            <p:cNvSpPr/>
            <p:nvPr/>
          </p:nvSpPr>
          <p:spPr>
            <a:xfrm>
              <a:off x="6605640" y="3127320"/>
              <a:ext cx="21430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×3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6" name="矩形 5"/>
            <p:cNvSpPr/>
            <p:nvPr/>
          </p:nvSpPr>
          <p:spPr>
            <a:xfrm>
              <a:off x="6605640" y="5667480"/>
              <a:ext cx="21430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×5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7" name="Group 43"/>
          <p:cNvGrpSpPr/>
          <p:nvPr/>
        </p:nvGrpSpPr>
        <p:grpSpPr>
          <a:xfrm>
            <a:off x="684360" y="5410080"/>
            <a:ext cx="2121840" cy="1066680"/>
            <a:chOff x="684360" y="5410080"/>
            <a:chExt cx="2121840" cy="1066680"/>
          </a:xfrm>
        </p:grpSpPr>
        <p:pic>
          <p:nvPicPr>
            <p:cNvPr id="138" name="Picture 44" descr="52-2"/>
            <p:cNvPicPr/>
            <p:nvPr/>
          </p:nvPicPr>
          <p:blipFill>
            <a:blip r:embed="rId1"/>
            <a:stretch/>
          </p:blipFill>
          <p:spPr>
            <a:xfrm>
              <a:off x="1060200" y="5410080"/>
              <a:ext cx="1067040" cy="5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45" descr="52-2"/>
            <p:cNvPicPr/>
            <p:nvPr/>
          </p:nvPicPr>
          <p:blipFill>
            <a:blip r:embed="rId2"/>
            <a:stretch/>
          </p:blipFill>
          <p:spPr>
            <a:xfrm>
              <a:off x="1617840" y="5573880"/>
              <a:ext cx="1067040" cy="5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6" descr="52-2"/>
            <p:cNvPicPr/>
            <p:nvPr/>
          </p:nvPicPr>
          <p:blipFill>
            <a:blip r:embed="rId3"/>
            <a:stretch/>
          </p:blipFill>
          <p:spPr>
            <a:xfrm>
              <a:off x="684360" y="5742360"/>
              <a:ext cx="1067040" cy="5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47" descr="52-2"/>
            <p:cNvPicPr/>
            <p:nvPr/>
          </p:nvPicPr>
          <p:blipFill>
            <a:blip r:embed="rId4"/>
            <a:stretch/>
          </p:blipFill>
          <p:spPr>
            <a:xfrm>
              <a:off x="1238760" y="5834160"/>
              <a:ext cx="1067040" cy="5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48" descr="52-2"/>
            <p:cNvPicPr/>
            <p:nvPr/>
          </p:nvPicPr>
          <p:blipFill>
            <a:blip r:embed="rId5"/>
            <a:stretch/>
          </p:blipFill>
          <p:spPr>
            <a:xfrm>
              <a:off x="1739160" y="5934960"/>
              <a:ext cx="1067040" cy="54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53"/>
          <p:cNvGrpSpPr/>
          <p:nvPr/>
        </p:nvGrpSpPr>
        <p:grpSpPr>
          <a:xfrm>
            <a:off x="700200" y="3478320"/>
            <a:ext cx="2142360" cy="2542680"/>
            <a:chOff x="700200" y="3478320"/>
            <a:chExt cx="2142360" cy="2542680"/>
          </a:xfrm>
        </p:grpSpPr>
        <p:grpSp>
          <p:nvGrpSpPr>
            <p:cNvPr id="144" name="Group 54"/>
            <p:cNvGrpSpPr/>
            <p:nvPr/>
          </p:nvGrpSpPr>
          <p:grpSpPr>
            <a:xfrm>
              <a:off x="700200" y="3478320"/>
              <a:ext cx="1923480" cy="2269080"/>
              <a:chOff x="700200" y="3478320"/>
              <a:chExt cx="1923480" cy="2269080"/>
            </a:xfrm>
          </p:grpSpPr>
          <p:pic>
            <p:nvPicPr>
              <p:cNvPr id="145" name="Picture 55" descr="{DB3559EC-E873-4CBA-8432-81559F975100}"/>
              <p:cNvPicPr/>
              <p:nvPr/>
            </p:nvPicPr>
            <p:blipFill>
              <a:blip r:embed="rId6"/>
              <a:stretch/>
            </p:blipFill>
            <p:spPr>
              <a:xfrm>
                <a:off x="700200" y="3478320"/>
                <a:ext cx="1820520" cy="21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56" descr="{DB3559EC-E873-4CBA-8432-81559F975100}"/>
              <p:cNvPicPr/>
              <p:nvPr/>
            </p:nvPicPr>
            <p:blipFill>
              <a:blip r:embed="rId7"/>
              <a:stretch/>
            </p:blipFill>
            <p:spPr>
              <a:xfrm>
                <a:off x="803160" y="3600000"/>
                <a:ext cx="1820520" cy="21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Group 57"/>
            <p:cNvGrpSpPr/>
            <p:nvPr/>
          </p:nvGrpSpPr>
          <p:grpSpPr>
            <a:xfrm>
              <a:off x="919080" y="3751920"/>
              <a:ext cx="1923480" cy="2269080"/>
              <a:chOff x="919080" y="3751920"/>
              <a:chExt cx="1923480" cy="2269080"/>
            </a:xfrm>
          </p:grpSpPr>
          <p:pic>
            <p:nvPicPr>
              <p:cNvPr id="148" name="Picture 58" descr="{DB3559EC-E873-4CBA-8432-81559F975100}"/>
              <p:cNvPicPr/>
              <p:nvPr/>
            </p:nvPicPr>
            <p:blipFill>
              <a:blip r:embed="rId8"/>
              <a:stretch/>
            </p:blipFill>
            <p:spPr>
              <a:xfrm>
                <a:off x="919080" y="3751920"/>
                <a:ext cx="1820520" cy="21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59" descr="{DB3559EC-E873-4CBA-8432-81559F975100}"/>
              <p:cNvPicPr/>
              <p:nvPr/>
            </p:nvPicPr>
            <p:blipFill>
              <a:blip r:embed="rId9"/>
              <a:stretch/>
            </p:blipFill>
            <p:spPr>
              <a:xfrm>
                <a:off x="1022040" y="3873600"/>
                <a:ext cx="1820520" cy="214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" name="Group 60"/>
          <p:cNvGrpSpPr/>
          <p:nvPr/>
        </p:nvGrpSpPr>
        <p:grpSpPr>
          <a:xfrm>
            <a:off x="611280" y="1341360"/>
            <a:ext cx="2450520" cy="1648080"/>
            <a:chOff x="611280" y="1341360"/>
            <a:chExt cx="2450520" cy="1648080"/>
          </a:xfrm>
        </p:grpSpPr>
        <p:pic>
          <p:nvPicPr>
            <p:cNvPr id="151" name="Picture 61" descr="{D9517617-82AE-4310-AAA1-4B3109AE8FA9}"/>
            <p:cNvPicPr/>
            <p:nvPr/>
          </p:nvPicPr>
          <p:blipFill>
            <a:blip r:embed="rId10"/>
            <a:stretch/>
          </p:blipFill>
          <p:spPr>
            <a:xfrm>
              <a:off x="611280" y="1341360"/>
              <a:ext cx="1584360" cy="16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62" descr="{D9517617-82AE-4310-AAA1-4B3109AE8FA9}"/>
            <p:cNvPicPr/>
            <p:nvPr/>
          </p:nvPicPr>
          <p:blipFill>
            <a:blip r:embed="rId11"/>
            <a:stretch/>
          </p:blipFill>
          <p:spPr>
            <a:xfrm>
              <a:off x="1477800" y="1341360"/>
              <a:ext cx="1584000" cy="164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63"/>
          <p:cNvGrpSpPr/>
          <p:nvPr/>
        </p:nvGrpSpPr>
        <p:grpSpPr>
          <a:xfrm>
            <a:off x="468360" y="2276640"/>
            <a:ext cx="2727000" cy="2387160"/>
            <a:chOff x="468360" y="2276640"/>
            <a:chExt cx="2727000" cy="2387160"/>
          </a:xfrm>
        </p:grpSpPr>
        <p:pic>
          <p:nvPicPr>
            <p:cNvPr id="154" name="Picture 64" descr="{87D9DFEB-F88B-4898-B119-2ED90B19FCFC}"/>
            <p:cNvPicPr/>
            <p:nvPr/>
          </p:nvPicPr>
          <p:blipFill>
            <a:blip r:embed="rId12"/>
            <a:stretch/>
          </p:blipFill>
          <p:spPr>
            <a:xfrm>
              <a:off x="468360" y="2276640"/>
              <a:ext cx="1967760" cy="20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65" descr="{87D9DFEB-F88B-4898-B119-2ED90B19FCFC}"/>
            <p:cNvPicPr/>
            <p:nvPr/>
          </p:nvPicPr>
          <p:blipFill>
            <a:blip r:embed="rId13"/>
            <a:stretch/>
          </p:blipFill>
          <p:spPr>
            <a:xfrm>
              <a:off x="821160" y="2434680"/>
              <a:ext cx="1967760" cy="20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66" descr="{87D9DFEB-F88B-4898-B119-2ED90B19FCFC}"/>
            <p:cNvPicPr/>
            <p:nvPr/>
          </p:nvPicPr>
          <p:blipFill>
            <a:blip r:embed="rId14"/>
            <a:stretch/>
          </p:blipFill>
          <p:spPr>
            <a:xfrm>
              <a:off x="1227600" y="2598120"/>
              <a:ext cx="1967760" cy="206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829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归纳口诀，感受口诀的优势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2630520" y="20034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矩形 5"/>
          <p:cNvSpPr/>
          <p:nvPr/>
        </p:nvSpPr>
        <p:spPr>
          <a:xfrm>
            <a:off x="2627280" y="320832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2627280" y="4478400"/>
            <a:ext cx="30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2627280" y="56307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2" name="Group 67"/>
          <p:cNvGrpSpPr/>
          <p:nvPr/>
        </p:nvGrpSpPr>
        <p:grpSpPr>
          <a:xfrm>
            <a:off x="539640" y="5345280"/>
            <a:ext cx="1992240" cy="1001160"/>
            <a:chOff x="539640" y="5345280"/>
            <a:chExt cx="1992240" cy="1001160"/>
          </a:xfrm>
        </p:grpSpPr>
        <p:pic>
          <p:nvPicPr>
            <p:cNvPr id="163" name="Picture 68" descr="52-2"/>
            <p:cNvPicPr/>
            <p:nvPr/>
          </p:nvPicPr>
          <p:blipFill>
            <a:blip r:embed="rId1"/>
            <a:stretch/>
          </p:blipFill>
          <p:spPr>
            <a:xfrm>
              <a:off x="892440" y="5345280"/>
              <a:ext cx="1001880" cy="5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69" descr="52-2"/>
            <p:cNvPicPr/>
            <p:nvPr/>
          </p:nvPicPr>
          <p:blipFill>
            <a:blip r:embed="rId2"/>
            <a:stretch/>
          </p:blipFill>
          <p:spPr>
            <a:xfrm>
              <a:off x="1416240" y="5499000"/>
              <a:ext cx="1001880" cy="5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70" descr="52-2"/>
            <p:cNvPicPr/>
            <p:nvPr/>
          </p:nvPicPr>
          <p:blipFill>
            <a:blip r:embed="rId3"/>
            <a:stretch/>
          </p:blipFill>
          <p:spPr>
            <a:xfrm>
              <a:off x="539640" y="5657040"/>
              <a:ext cx="1001880" cy="5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71" descr="52-2"/>
            <p:cNvPicPr/>
            <p:nvPr/>
          </p:nvPicPr>
          <p:blipFill>
            <a:blip r:embed="rId4"/>
            <a:stretch/>
          </p:blipFill>
          <p:spPr>
            <a:xfrm>
              <a:off x="1060200" y="5743440"/>
              <a:ext cx="1001880" cy="5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72" descr="52-2"/>
            <p:cNvPicPr/>
            <p:nvPr/>
          </p:nvPicPr>
          <p:blipFill>
            <a:blip r:embed="rId5"/>
            <a:stretch/>
          </p:blipFill>
          <p:spPr>
            <a:xfrm>
              <a:off x="1530000" y="5837760"/>
              <a:ext cx="1001880" cy="50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矩形 5"/>
          <p:cNvSpPr/>
          <p:nvPr/>
        </p:nvSpPr>
        <p:spPr>
          <a:xfrm>
            <a:off x="5292720" y="20034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×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292720" y="44798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×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5292720" y="32083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×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矩形 5"/>
          <p:cNvSpPr/>
          <p:nvPr/>
        </p:nvSpPr>
        <p:spPr>
          <a:xfrm>
            <a:off x="5292720" y="5630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×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2" name="Group 92"/>
          <p:cNvGrpSpPr/>
          <p:nvPr/>
        </p:nvGrpSpPr>
        <p:grpSpPr>
          <a:xfrm>
            <a:off x="6929280" y="2003400"/>
            <a:ext cx="1687680" cy="4087080"/>
            <a:chOff x="6929280" y="2003400"/>
            <a:chExt cx="1687680" cy="4087080"/>
          </a:xfrm>
        </p:grpSpPr>
        <p:sp>
          <p:nvSpPr>
            <p:cNvPr id="173" name="TextBox 4"/>
            <p:cNvSpPr/>
            <p:nvPr/>
          </p:nvSpPr>
          <p:spPr>
            <a:xfrm>
              <a:off x="6929280" y="2003400"/>
              <a:ext cx="1687680" cy="459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二五一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4" name="TextBox 4"/>
            <p:cNvSpPr/>
            <p:nvPr/>
          </p:nvSpPr>
          <p:spPr>
            <a:xfrm>
              <a:off x="6929280" y="3208320"/>
              <a:ext cx="1687680" cy="459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三五十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5" name="TextBox 4"/>
            <p:cNvSpPr/>
            <p:nvPr/>
          </p:nvSpPr>
          <p:spPr>
            <a:xfrm>
              <a:off x="6929280" y="4479840"/>
              <a:ext cx="1687680" cy="459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四五二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6" name="TextBox 4"/>
            <p:cNvSpPr/>
            <p:nvPr/>
          </p:nvSpPr>
          <p:spPr>
            <a:xfrm>
              <a:off x="6929280" y="5630760"/>
              <a:ext cx="1687680" cy="459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五五二十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7" name="Group 91"/>
          <p:cNvGrpSpPr/>
          <p:nvPr/>
        </p:nvGrpSpPr>
        <p:grpSpPr>
          <a:xfrm>
            <a:off x="6948360" y="2435400"/>
            <a:ext cx="1108080" cy="4063320"/>
            <a:chOff x="6948360" y="2435400"/>
            <a:chExt cx="1108080" cy="4063320"/>
          </a:xfrm>
        </p:grpSpPr>
        <p:sp>
          <p:nvSpPr>
            <p:cNvPr id="178" name="TextBox 43"/>
            <p:cNvSpPr/>
            <p:nvPr/>
          </p:nvSpPr>
          <p:spPr>
            <a:xfrm>
              <a:off x="6948360" y="2435400"/>
              <a:ext cx="11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9" name="TextBox 43"/>
            <p:cNvSpPr/>
            <p:nvPr/>
          </p:nvSpPr>
          <p:spPr>
            <a:xfrm>
              <a:off x="6948360" y="3618000"/>
              <a:ext cx="11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0" name="TextBox 43"/>
            <p:cNvSpPr/>
            <p:nvPr/>
          </p:nvSpPr>
          <p:spPr>
            <a:xfrm>
              <a:off x="6948360" y="4886280"/>
              <a:ext cx="11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1" name="TextBox 43"/>
            <p:cNvSpPr/>
            <p:nvPr/>
          </p:nvSpPr>
          <p:spPr>
            <a:xfrm>
              <a:off x="6948360" y="6039000"/>
              <a:ext cx="11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2" name="Group 93"/>
          <p:cNvGrpSpPr/>
          <p:nvPr/>
        </p:nvGrpSpPr>
        <p:grpSpPr>
          <a:xfrm>
            <a:off x="320760" y="1341360"/>
            <a:ext cx="2450520" cy="1648080"/>
            <a:chOff x="320760" y="1341360"/>
            <a:chExt cx="2450520" cy="1648080"/>
          </a:xfrm>
        </p:grpSpPr>
        <p:pic>
          <p:nvPicPr>
            <p:cNvPr id="183" name="Picture 94" descr="{D9517617-82AE-4310-AAA1-4B3109AE8FA9}"/>
            <p:cNvPicPr/>
            <p:nvPr/>
          </p:nvPicPr>
          <p:blipFill>
            <a:blip r:embed="rId6"/>
            <a:stretch/>
          </p:blipFill>
          <p:spPr>
            <a:xfrm>
              <a:off x="320760" y="1341360"/>
              <a:ext cx="1584360" cy="16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95" descr="{D9517617-82AE-4310-AAA1-4B3109AE8FA9}"/>
            <p:cNvPicPr/>
            <p:nvPr/>
          </p:nvPicPr>
          <p:blipFill>
            <a:blip r:embed="rId7"/>
            <a:stretch/>
          </p:blipFill>
          <p:spPr>
            <a:xfrm>
              <a:off x="1187280" y="1341360"/>
              <a:ext cx="1584000" cy="164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96"/>
          <p:cNvGrpSpPr/>
          <p:nvPr/>
        </p:nvGrpSpPr>
        <p:grpSpPr>
          <a:xfrm>
            <a:off x="108000" y="2205000"/>
            <a:ext cx="2727000" cy="2387160"/>
            <a:chOff x="108000" y="2205000"/>
            <a:chExt cx="2727000" cy="2387160"/>
          </a:xfrm>
        </p:grpSpPr>
        <p:pic>
          <p:nvPicPr>
            <p:cNvPr id="186" name="Picture 97" descr="{87D9DFEB-F88B-4898-B119-2ED90B19FCFC}"/>
            <p:cNvPicPr/>
            <p:nvPr/>
          </p:nvPicPr>
          <p:blipFill>
            <a:blip r:embed="rId8"/>
            <a:stretch/>
          </p:blipFill>
          <p:spPr>
            <a:xfrm>
              <a:off x="108000" y="2205000"/>
              <a:ext cx="1967760" cy="20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8" descr="{87D9DFEB-F88B-4898-B119-2ED90B19FCFC}"/>
            <p:cNvPicPr/>
            <p:nvPr/>
          </p:nvPicPr>
          <p:blipFill>
            <a:blip r:embed="rId9"/>
            <a:stretch/>
          </p:blipFill>
          <p:spPr>
            <a:xfrm>
              <a:off x="460800" y="2363040"/>
              <a:ext cx="1967760" cy="20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99" descr="{87D9DFEB-F88B-4898-B119-2ED90B19FCFC}"/>
            <p:cNvPicPr/>
            <p:nvPr/>
          </p:nvPicPr>
          <p:blipFill>
            <a:blip r:embed="rId10"/>
            <a:stretch/>
          </p:blipFill>
          <p:spPr>
            <a:xfrm>
              <a:off x="867240" y="2526480"/>
              <a:ext cx="1967760" cy="206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100"/>
          <p:cNvGrpSpPr/>
          <p:nvPr/>
        </p:nvGrpSpPr>
        <p:grpSpPr>
          <a:xfrm>
            <a:off x="412920" y="3406680"/>
            <a:ext cx="2142360" cy="2543400"/>
            <a:chOff x="412920" y="3406680"/>
            <a:chExt cx="2142360" cy="2543400"/>
          </a:xfrm>
        </p:grpSpPr>
        <p:grpSp>
          <p:nvGrpSpPr>
            <p:cNvPr id="190" name="Group 101"/>
            <p:cNvGrpSpPr/>
            <p:nvPr/>
          </p:nvGrpSpPr>
          <p:grpSpPr>
            <a:xfrm>
              <a:off x="412920" y="3406680"/>
              <a:ext cx="1923480" cy="2269440"/>
              <a:chOff x="412920" y="3406680"/>
              <a:chExt cx="1923480" cy="2269440"/>
            </a:xfrm>
          </p:grpSpPr>
          <p:pic>
            <p:nvPicPr>
              <p:cNvPr id="191" name="Picture 102" descr="{DB3559EC-E873-4CBA-8432-81559F975100}"/>
              <p:cNvPicPr/>
              <p:nvPr/>
            </p:nvPicPr>
            <p:blipFill>
              <a:blip r:embed="rId11"/>
              <a:stretch/>
            </p:blipFill>
            <p:spPr>
              <a:xfrm>
                <a:off x="412920" y="3406680"/>
                <a:ext cx="1820520" cy="21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Picture 103" descr="{DB3559EC-E873-4CBA-8432-81559F975100}"/>
              <p:cNvPicPr/>
              <p:nvPr/>
            </p:nvPicPr>
            <p:blipFill>
              <a:blip r:embed="rId12"/>
              <a:stretch/>
            </p:blipFill>
            <p:spPr>
              <a:xfrm>
                <a:off x="515880" y="3528360"/>
                <a:ext cx="1820520" cy="214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3" name="Group 104"/>
            <p:cNvGrpSpPr/>
            <p:nvPr/>
          </p:nvGrpSpPr>
          <p:grpSpPr>
            <a:xfrm>
              <a:off x="631800" y="3680640"/>
              <a:ext cx="1923480" cy="2269440"/>
              <a:chOff x="631800" y="3680640"/>
              <a:chExt cx="1923480" cy="2269440"/>
            </a:xfrm>
          </p:grpSpPr>
          <p:pic>
            <p:nvPicPr>
              <p:cNvPr id="194" name="Picture 105" descr="{DB3559EC-E873-4CBA-8432-81559F975100}"/>
              <p:cNvPicPr/>
              <p:nvPr/>
            </p:nvPicPr>
            <p:blipFill>
              <a:blip r:embed="rId13"/>
              <a:stretch/>
            </p:blipFill>
            <p:spPr>
              <a:xfrm>
                <a:off x="631800" y="3680640"/>
                <a:ext cx="1820520" cy="21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Picture 106" descr="{DB3559EC-E873-4CBA-8432-81559F975100}"/>
              <p:cNvPicPr/>
              <p:nvPr/>
            </p:nvPicPr>
            <p:blipFill>
              <a:blip r:embed="rId14"/>
              <a:stretch/>
            </p:blipFill>
            <p:spPr>
              <a:xfrm>
                <a:off x="734760" y="3802320"/>
                <a:ext cx="1820520" cy="2147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829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归纳口诀，感受口诀的优势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97" name="Group 33"/>
          <p:cNvGrpSpPr/>
          <p:nvPr/>
        </p:nvGrpSpPr>
        <p:grpSpPr>
          <a:xfrm>
            <a:off x="3132000" y="2573280"/>
            <a:ext cx="2298960" cy="3664440"/>
            <a:chOff x="3132000" y="2573280"/>
            <a:chExt cx="2298960" cy="3664440"/>
          </a:xfrm>
        </p:grpSpPr>
        <p:sp>
          <p:nvSpPr>
            <p:cNvPr id="198" name="TextBox 4"/>
            <p:cNvSpPr/>
            <p:nvPr/>
          </p:nvSpPr>
          <p:spPr>
            <a:xfrm>
              <a:off x="3132000" y="3328920"/>
              <a:ext cx="2298960" cy="641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二五一十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9" name="TextBox 4"/>
            <p:cNvSpPr/>
            <p:nvPr/>
          </p:nvSpPr>
          <p:spPr>
            <a:xfrm>
              <a:off x="3132000" y="4084560"/>
              <a:ext cx="2298960" cy="641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三五十五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0" name="TextBox 4"/>
            <p:cNvSpPr/>
            <p:nvPr/>
          </p:nvSpPr>
          <p:spPr>
            <a:xfrm>
              <a:off x="3132000" y="4840200"/>
              <a:ext cx="2298960" cy="641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四五二十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1" name="TextBox 4"/>
            <p:cNvSpPr/>
            <p:nvPr/>
          </p:nvSpPr>
          <p:spPr>
            <a:xfrm>
              <a:off x="3132000" y="5595840"/>
              <a:ext cx="2297160" cy="641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五五二十五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2" name="TextBox 4"/>
            <p:cNvSpPr/>
            <p:nvPr/>
          </p:nvSpPr>
          <p:spPr>
            <a:xfrm>
              <a:off x="3132000" y="2573280"/>
              <a:ext cx="2298960" cy="641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一五得五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3" name="TextBox 49"/>
          <p:cNvSpPr/>
          <p:nvPr/>
        </p:nvSpPr>
        <p:spPr>
          <a:xfrm>
            <a:off x="2473200" y="1643040"/>
            <a:ext cx="347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的乘法口诀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4"/>
          <p:cNvSpPr/>
          <p:nvPr/>
        </p:nvSpPr>
        <p:spPr>
          <a:xfrm>
            <a:off x="1554120" y="2927520"/>
            <a:ext cx="668988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一五（      ）   三五（   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五五（      ）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四五（   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二五（   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116080" y="1619280"/>
            <a:ext cx="561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把口诀补充完整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765520" y="2928960"/>
            <a:ext cx="1238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得五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5884920" y="2928960"/>
            <a:ext cx="144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十五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2490840" y="4021200"/>
            <a:ext cx="178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二十五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5904000" y="4019400"/>
            <a:ext cx="1455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二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2647800" y="5111640"/>
            <a:ext cx="1449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一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4928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深化记忆，强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1163520" y="1619280"/>
            <a:ext cx="246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计算并说出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1641600" y="3213000"/>
            <a:ext cx="785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1641600" y="3922560"/>
            <a:ext cx="785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Box 14"/>
          <p:cNvSpPr/>
          <p:nvPr/>
        </p:nvSpPr>
        <p:spPr>
          <a:xfrm>
            <a:off x="3795840" y="3213000"/>
            <a:ext cx="785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3794040" y="3922560"/>
            <a:ext cx="785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5875200" y="3213000"/>
            <a:ext cx="785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Box 17"/>
          <p:cNvSpPr/>
          <p:nvPr/>
        </p:nvSpPr>
        <p:spPr>
          <a:xfrm>
            <a:off x="5873760" y="3922560"/>
            <a:ext cx="785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Box 18"/>
          <p:cNvSpPr/>
          <p:nvPr/>
        </p:nvSpPr>
        <p:spPr>
          <a:xfrm>
            <a:off x="8007480" y="3213000"/>
            <a:ext cx="785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0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Box 19"/>
          <p:cNvSpPr/>
          <p:nvPr/>
        </p:nvSpPr>
        <p:spPr>
          <a:xfrm>
            <a:off x="8008920" y="3922560"/>
            <a:ext cx="785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468360" y="3213000"/>
            <a:ext cx="1744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469800" y="3922560"/>
            <a:ext cx="174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611440" y="3213000"/>
            <a:ext cx="1744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2610000" y="3922560"/>
            <a:ext cx="1744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4727520" y="3213000"/>
            <a:ext cx="1744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4726080" y="3922560"/>
            <a:ext cx="1744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6859440" y="3213000"/>
            <a:ext cx="174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6859440" y="3922560"/>
            <a:ext cx="174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457200" y="44928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深化记忆，强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" descr="22"/>
          <p:cNvPicPr/>
          <p:nvPr/>
        </p:nvPicPr>
        <p:blipFill>
          <a:blip r:embed="rId1"/>
          <a:stretch/>
        </p:blipFill>
        <p:spPr>
          <a:xfrm>
            <a:off x="684360" y="3068640"/>
            <a:ext cx="8172360" cy="18464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392040" y="1619280"/>
            <a:ext cx="3495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填空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6013440" y="3090960"/>
            <a:ext cx="2045160" cy="657720"/>
            <a:chOff x="6013440" y="3090960"/>
            <a:chExt cx="2045160" cy="657720"/>
          </a:xfrm>
        </p:grpSpPr>
        <p:sp>
          <p:nvSpPr>
            <p:cNvPr id="233" name="TextBox 10"/>
            <p:cNvSpPr/>
            <p:nvPr/>
          </p:nvSpPr>
          <p:spPr>
            <a:xfrm>
              <a:off x="6013440" y="310680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4" name="TextBox 11"/>
            <p:cNvSpPr/>
            <p:nvPr/>
          </p:nvSpPr>
          <p:spPr>
            <a:xfrm>
              <a:off x="6716520" y="310032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5" name="TextBox 12"/>
            <p:cNvSpPr/>
            <p:nvPr/>
          </p:nvSpPr>
          <p:spPr>
            <a:xfrm>
              <a:off x="7454160" y="3090960"/>
              <a:ext cx="604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6" name="TextBox 13"/>
          <p:cNvSpPr/>
          <p:nvPr/>
        </p:nvSpPr>
        <p:spPr>
          <a:xfrm>
            <a:off x="6804000" y="4071960"/>
            <a:ext cx="207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三五十五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457200" y="44928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深化记忆，强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12Z</dcterms:modified>
  <cp:revision>40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