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C770-D601-406A-B64A-6FE844FC07B4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6EBE-0346-4573-A47F-3487ADEE579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65000" y="83304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数学广角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85" name="Picture 5" descr="\\192.168.1.3\临时中转站1_以本人姓名建目录\开发中心-多媒体部\02美术部\晨会文件\04宁煌\人教数学教参\08.png"/>
          <p:cNvPicPr/>
          <p:nvPr/>
        </p:nvPicPr>
        <p:blipFill>
          <a:blip r:embed="rId2"/>
          <a:stretch/>
        </p:blipFill>
        <p:spPr>
          <a:xfrm>
            <a:off x="682560" y="952560"/>
            <a:ext cx="784440" cy="7840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730080" y="1844640"/>
            <a:ext cx="4111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排列问题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矩形 7"/>
          <p:cNvSpPr/>
          <p:nvPr/>
        </p:nvSpPr>
        <p:spPr>
          <a:xfrm>
            <a:off x="43560" y="63975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3E25-E11A-418B-B65B-C93C362909F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审读题意，交流理解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8640" y="461520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追问：“组成两位数”是什么意思啊？能举个列子说说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8640" y="5077440"/>
            <a:ext cx="73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什么叫“十位数和个位数不能一样”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58640" y="554400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能组成几个”是什么意思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58640" y="414864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你都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468360" y="1730520"/>
            <a:ext cx="8064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用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组成两位数，每个两位数的十位数和个位数不能一样，能组成几个两位数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1"/>
          <p:cNvSpPr/>
          <p:nvPr/>
        </p:nvSpPr>
        <p:spPr>
          <a:xfrm>
            <a:off x="2494080" y="69228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468360" y="1730520"/>
            <a:ext cx="8064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用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组成两位数，每个两位数的十位数和个位数不能一样，能组成几个两位数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审读题意，交流理解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5760" y="41472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谁能完整地说一说这道题的意思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椭圆 10"/>
          <p:cNvSpPr/>
          <p:nvPr/>
        </p:nvSpPr>
        <p:spPr>
          <a:xfrm>
            <a:off x="3100320" y="1782720"/>
            <a:ext cx="1944720" cy="5763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椭圆 13"/>
          <p:cNvSpPr/>
          <p:nvPr/>
        </p:nvSpPr>
        <p:spPr>
          <a:xfrm>
            <a:off x="2494080" y="2359080"/>
            <a:ext cx="1549440" cy="576360"/>
          </a:xfrm>
          <a:prstGeom prst="ellipse">
            <a:avLst/>
          </a:pr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椭圆 15"/>
          <p:cNvSpPr/>
          <p:nvPr/>
        </p:nvSpPr>
        <p:spPr>
          <a:xfrm>
            <a:off x="4319640" y="2367000"/>
            <a:ext cx="1931760" cy="576360"/>
          </a:xfrm>
          <a:prstGeom prst="ellipse">
            <a:avLst/>
          </a:pr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文本框 1"/>
          <p:cNvSpPr/>
          <p:nvPr/>
        </p:nvSpPr>
        <p:spPr>
          <a:xfrm>
            <a:off x="604800" y="5843520"/>
            <a:ext cx="564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9009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尝试中体会，领悟方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392040" y="16192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独立尝试，初步体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5760" y="4329720"/>
            <a:ext cx="83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要想知道“能组成几个两位数”，你有什么办法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55760" y="486756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可以摆一摆，也可以写一写、画一画，请你自己动手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试一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341360" y="56790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教师巡视，选取典型案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468360" y="2492280"/>
            <a:ext cx="8064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用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组成两位数，每个两位数的十位数和个位数不能一样，能组成几个两位数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9009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尝试中体会，领悟方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55760" y="4124880"/>
            <a:ext cx="81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你是怎么想的？和小伙伴说一说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392040" y="16192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过程交流，感受有序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212840" y="46296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教师巡视倾听，选取典型案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468360" y="2492280"/>
            <a:ext cx="8064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用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组成两位数，每个两位数的十位数和个位数不能一样，能组成几个两位数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9009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尝试中体会，领悟方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455760" y="43279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能组成几个两位数？你是怎么知道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55760" y="481068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学生生成监控：无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比较乱，别人看不懂，还易重复遗漏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2239920" y="5216760"/>
            <a:ext cx="650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有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体会方法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如：交换位置、固定个（或十）位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55760" y="6034680"/>
            <a:ext cx="72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只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数，怎么能组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两位数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392040" y="16192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过程交流，感受有序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468360" y="2492280"/>
            <a:ext cx="8064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用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组成两位数，每个两位数的十位数和个位数不能一样，能组成几个两位数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9009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尝试中体会，领悟方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55760" y="4327560"/>
            <a:ext cx="758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解决这个问题，大家可以怎样想呢？我们一起来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回顾刚才同学们的好办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92040" y="16192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回顾过程，体会方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455760" y="5205600"/>
            <a:ext cx="80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看了同学们这么多好办法，你能说说我们怎样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就能不重不漏了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468360" y="2492280"/>
            <a:ext cx="8064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用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和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组成两位数，每个两位数的十位数和个位数不能一样，能组成几个两位数？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79009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运用方法，解决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5760" y="414864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读一读，说说你都知道了什么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5760" y="462636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想一想，怎样做才能不重不漏？自己试一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55760" y="54727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一共有多少种涂色方法？说说你是怎么想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55760" y="592020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：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种颜色，怎么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种涂色方法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352520" y="500256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教师巡视，指导帮助学生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6" name="Picture 14" descr="97-2"/>
          <p:cNvPicPr/>
          <p:nvPr/>
        </p:nvPicPr>
        <p:blipFill>
          <a:blip r:embed="rId1"/>
          <a:stretch/>
        </p:blipFill>
        <p:spPr>
          <a:xfrm>
            <a:off x="6012000" y="1635120"/>
            <a:ext cx="2222280" cy="2370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97-1"/>
          <p:cNvPicPr/>
          <p:nvPr/>
        </p:nvPicPr>
        <p:blipFill>
          <a:blip r:embed="rId2"/>
          <a:stretch/>
        </p:blipFill>
        <p:spPr>
          <a:xfrm>
            <a:off x="853920" y="1914480"/>
            <a:ext cx="43657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716040" y="2494080"/>
            <a:ext cx="810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二十四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0:26Z</dcterms:modified>
  <cp:revision>43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