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AFC-84C9-4C4F-AF99-48DC354F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66E-EE90-44D8-8C28-5AE0EAC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B86-B9AC-4880-B46A-58714D4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A0D-49B9-49EF-8CCB-68933276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DAF-207E-4F3B-A9D4-95966507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077-8002-41C3-A4E8-CBBF9B6A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E04-CF03-473E-869C-E385AEC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B9A-2C66-486F-A733-7EF246A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81C-971F-44E1-87C5-E889B58B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C7A-CB3A-4B5F-8DEC-E1AC214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527-8729-4482-BEAF-EE56A38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164-91B3-417F-8505-DEE0B50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3FC-E327-4AAE-88DB-20D63E40B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611280" y="981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pple Handwritten"/>
              </a:rPr>
              <a:t>Unit 1  Welcome back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03280" y="277488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art A  Let’s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348280" y="609300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68360" y="0"/>
            <a:ext cx="40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42920" y="1268280"/>
            <a:ext cx="7345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w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wo new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ve two new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 have two new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 have two new friend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339575349fvlUK9LM"/>
          <p:cNvPicPr/>
          <p:nvPr/>
        </p:nvPicPr>
        <p:blipFill>
          <a:blip r:embed="rId2"/>
          <a:stretch/>
        </p:blipFill>
        <p:spPr>
          <a:xfrm>
            <a:off x="2195640" y="549360"/>
            <a:ext cx="4041720" cy="2760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71640" y="371628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U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132000" y="429264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780000" y="429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U101"/>
          <p:cNvPicPr/>
          <p:nvPr/>
        </p:nvPicPr>
        <p:blipFill>
          <a:blip r:embed="rId2"/>
          <a:stretch/>
        </p:blipFill>
        <p:spPr>
          <a:xfrm>
            <a:off x="900000" y="1052640"/>
            <a:ext cx="3745080" cy="30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1339575349fvlUK9LM"/>
          <p:cNvPicPr/>
          <p:nvPr/>
        </p:nvPicPr>
        <p:blipFill>
          <a:blip r:embed="rId3"/>
          <a:stretch/>
        </p:blipFill>
        <p:spPr>
          <a:xfrm>
            <a:off x="5076720" y="189000"/>
            <a:ext cx="295272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258920" y="4292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, I’m Amy. I’m from the U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20110105_1da4c7532c4c6aa466ffwd5vjQBP6pmU"/>
          <p:cNvPicPr/>
          <p:nvPr/>
        </p:nvPicPr>
        <p:blipFill>
          <a:blip r:embed="rId2"/>
          <a:stretch/>
        </p:blipFill>
        <p:spPr>
          <a:xfrm>
            <a:off x="5148360" y="260280"/>
            <a:ext cx="3166920" cy="236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U102"/>
          <p:cNvPicPr/>
          <p:nvPr/>
        </p:nvPicPr>
        <p:blipFill>
          <a:blip r:embed="rId3"/>
          <a:stretch/>
        </p:blipFill>
        <p:spPr>
          <a:xfrm>
            <a:off x="684360" y="1773360"/>
            <a:ext cx="3960720" cy="2997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24000" y="5084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, I’m Zhang Peng. I’m from Shand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U104"/>
          <p:cNvPicPr/>
          <p:nvPr/>
        </p:nvPicPr>
        <p:blipFill>
          <a:blip r:embed="rId2"/>
          <a:stretch/>
        </p:blipFill>
        <p:spPr>
          <a:xfrm>
            <a:off x="971640" y="404640"/>
            <a:ext cx="2862000" cy="299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U105"/>
          <p:cNvPicPr/>
          <p:nvPr/>
        </p:nvPicPr>
        <p:blipFill>
          <a:blip r:embed="rId3"/>
          <a:stretch/>
        </p:blipFill>
        <p:spPr>
          <a:xfrm>
            <a:off x="5003640" y="549360"/>
            <a:ext cx="288144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476360" y="4221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, I’m … I’m fro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U103"/>
          <p:cNvPicPr/>
          <p:nvPr/>
        </p:nvPicPr>
        <p:blipFill>
          <a:blip r:embed="rId2"/>
          <a:stretch/>
        </p:blipFill>
        <p:spPr>
          <a:xfrm>
            <a:off x="826920" y="981000"/>
            <a:ext cx="7129800" cy="5718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2411280" y="260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547640" y="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新宋体"/>
              </a:rPr>
              <a:t>Let’s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11280" y="155736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:  Hi, I’m … I’m from…What about you, 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11280" y="23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B:  Hi, I’m … I’m from…What about you, 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9640" y="3429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C:  Hi, I’m … I’m from…What about you, 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9640" y="436572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D:  Hi, I’m … I’m fr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050920" y="47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迷你简秀英"/>
              </a:rPr>
              <a:t>Did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00000" y="2205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nada  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340000" y="378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A     US   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87D-5F43-49FE-B1FB-6FBA8D63A4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1636560" y="4005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6202790_144528311126_2"/>
          <p:cNvPicPr/>
          <p:nvPr/>
        </p:nvPicPr>
        <p:blipFill>
          <a:blip r:embed="rId2"/>
          <a:stretch/>
        </p:blipFill>
        <p:spPr>
          <a:xfrm>
            <a:off x="1403280" y="981000"/>
            <a:ext cx="268920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4932360" y="23493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6202790_144528311126_2"/>
          <p:cNvPicPr/>
          <p:nvPr/>
        </p:nvPicPr>
        <p:blipFill>
          <a:blip r:embed="rId2"/>
          <a:stretch/>
        </p:blipFill>
        <p:spPr>
          <a:xfrm>
            <a:off x="755640" y="907920"/>
            <a:ext cx="2689200" cy="396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6202790_144528311126_2"/>
          <p:cNvPicPr/>
          <p:nvPr/>
        </p:nvPicPr>
        <p:blipFill>
          <a:blip r:embed="rId3"/>
          <a:stretch/>
        </p:blipFill>
        <p:spPr>
          <a:xfrm>
            <a:off x="3419640" y="907920"/>
            <a:ext cx="2689200" cy="396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6202790_144528311126_2"/>
          <p:cNvPicPr/>
          <p:nvPr/>
        </p:nvPicPr>
        <p:blipFill>
          <a:blip r:embed="rId4"/>
          <a:stretch/>
        </p:blipFill>
        <p:spPr>
          <a:xfrm>
            <a:off x="6084720" y="907920"/>
            <a:ext cx="2689560" cy="396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843280" y="4869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bo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08723164345457_2"/>
          <p:cNvPicPr/>
          <p:nvPr/>
        </p:nvPicPr>
        <p:blipFill>
          <a:blip r:embed="rId2"/>
          <a:stretch/>
        </p:blipFill>
        <p:spPr>
          <a:xfrm>
            <a:off x="1332000" y="549360"/>
            <a:ext cx="3556080" cy="4886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219640" y="2492280"/>
            <a:ext cx="27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gir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461880" y="58802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4095195_105349057452_2"/>
          <p:cNvPicPr/>
          <p:nvPr/>
        </p:nvPicPr>
        <p:blipFill>
          <a:blip r:embed="rId2"/>
          <a:stretch/>
        </p:blipFill>
        <p:spPr>
          <a:xfrm>
            <a:off x="2484360" y="2133720"/>
            <a:ext cx="3816360" cy="3470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59280" y="54936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gir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300001301630131458737247861_950"/>
          <p:cNvPicPr/>
          <p:nvPr/>
        </p:nvPicPr>
        <p:blipFill>
          <a:blip r:embed="rId2"/>
          <a:stretch/>
        </p:blipFill>
        <p:spPr>
          <a:xfrm>
            <a:off x="1403280" y="549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1763640" y="4581360"/>
            <a:ext cx="561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66"/>
                </a:solidFill>
                <a:latin typeface="Arial"/>
              </a:rPr>
              <a:t>boys and gir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516720" y="2924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Arial"/>
              </a:rPr>
              <a:t>cl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u=1809924027,2623999376&amp;fm=0&amp;gp=0"/>
          <p:cNvPicPr/>
          <p:nvPr/>
        </p:nvPicPr>
        <p:blipFill>
          <a:blip r:embed="rId2"/>
          <a:stretch/>
        </p:blipFill>
        <p:spPr>
          <a:xfrm>
            <a:off x="2843280" y="620640"/>
            <a:ext cx="2952720" cy="2024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340000" y="335772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6890651_214721034394_2"/>
          <p:cNvPicPr/>
          <p:nvPr/>
        </p:nvPicPr>
        <p:blipFill>
          <a:blip r:embed="rId2"/>
          <a:stretch/>
        </p:blipFill>
        <p:spPr>
          <a:xfrm rot="20211000">
            <a:off x="178920" y="836640"/>
            <a:ext cx="3600720" cy="26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7835841_094727325319_2"/>
          <p:cNvPicPr/>
          <p:nvPr/>
        </p:nvPicPr>
        <p:blipFill>
          <a:blip r:embed="rId3"/>
          <a:stretch/>
        </p:blipFill>
        <p:spPr>
          <a:xfrm rot="2611200">
            <a:off x="5363640" y="765000"/>
            <a:ext cx="3542040" cy="361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187280" y="414972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0066"/>
                </a:solidFill>
                <a:latin typeface="Arial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OOOPIC_00cyl_20090913cf17e91aabfff46a"/>
          <p:cNvPicPr/>
          <p:nvPr/>
        </p:nvPicPr>
        <p:blipFill>
          <a:blip r:embed="rId4"/>
          <a:stretch/>
        </p:blipFill>
        <p:spPr>
          <a:xfrm>
            <a:off x="3708360" y="260280"/>
            <a:ext cx="187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020"/>
          <p:cNvPicPr/>
          <p:nvPr/>
        </p:nvPicPr>
        <p:blipFill>
          <a:blip r:embed="rId1"/>
          <a:srcRect l="0" t="0" r="0" b="153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EVQ25FS@{H2]Z$J8SOFFO4"/>
          <p:cNvPicPr/>
          <p:nvPr/>
        </p:nvPicPr>
        <p:blipFill>
          <a:blip r:embed="rId2"/>
          <a:stretch/>
        </p:blipFill>
        <p:spPr>
          <a:xfrm>
            <a:off x="2340000" y="1484280"/>
            <a:ext cx="3672000" cy="2049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971640" y="429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We have two new friends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7:48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59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