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803-3EF7-46E9-925E-910923EF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BDA-F480-4E3E-9F8F-5559169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52F-8595-4D05-AE34-47602AD2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A34-3897-41DF-A852-7B357CF6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1DC6-9B12-4862-AA96-908DAAF8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68F0-2F25-43E1-A2B0-3BB68EB6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F872-BD76-4F4C-B67B-AEB5159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C3DC-B423-42ED-B9A7-4DCBE07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20A-CE06-4200-A192-380523C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888-394C-4A2E-AB95-0255790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E3AC-2D6D-443E-94B6-CD8953B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56C-0F16-4F0C-8333-C006EA0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2CC6-261A-47D6-AA04-CC23FFF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C9C-A4EF-4D0F-A5C5-A6810A1C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E5FB-3928-41A7-99D6-1850055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22C2-D484-4664-B619-60CEF4DC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BCE8-656F-45E6-A544-DC3C698F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F91-748F-453B-9E76-AECFD49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573-4EE9-44FE-BE1C-78876489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977-408F-4B6A-8605-9B2A92F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75A-3B7C-4191-92CB-280FD2FF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1E2-A8BF-4EF9-BA2E-731CBAC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E67-B757-47EE-A4B6-C36C951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495-3E54-4685-BDA5-BFCC5B0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14C7-25DC-4DC6-A450-C35C4568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094-00F7-4E24-BA9B-5B697128BD6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734520" cy="4155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2411280" y="765000"/>
            <a:ext cx="4248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的意义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1656000" cy="3524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2470680" y="62164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8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25576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29"/>
          <p:cNvSpPr/>
          <p:nvPr/>
        </p:nvSpPr>
        <p:spPr>
          <a:xfrm>
            <a:off x="2700360" y="1052640"/>
            <a:ext cx="6119640" cy="3097080"/>
          </a:xfrm>
          <a:prstGeom prst="wedgeRoundRectCallout">
            <a:avLst>
              <a:gd name="adj1" fmla="val -48574"/>
              <a:gd name="adj2" fmla="val 70657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030"/>
          <p:cNvSpPr/>
          <p:nvPr/>
        </p:nvSpPr>
        <p:spPr>
          <a:xfrm>
            <a:off x="3059280" y="1052640"/>
            <a:ext cx="54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比的前项、后项和比值分别相当于除法算式和分数中的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比与除法、分数又有什么不同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031"/>
          <p:cNvSpPr/>
          <p:nvPr/>
        </p:nvSpPr>
        <p:spPr>
          <a:xfrm>
            <a:off x="1116000" y="549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比和除法、分数的联系和区别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25" name="Group 1068"/>
          <p:cNvGrpSpPr/>
          <p:nvPr/>
        </p:nvGrpSpPr>
        <p:grpSpPr>
          <a:xfrm>
            <a:off x="457200" y="1600200"/>
            <a:ext cx="8229600" cy="4568760"/>
            <a:chOff x="457200" y="1600200"/>
            <a:chExt cx="8229600" cy="4568760"/>
          </a:xfrm>
        </p:grpSpPr>
        <p:sp>
          <p:nvSpPr>
            <p:cNvPr id="126" name="Rectangle 1030"/>
            <p:cNvSpPr/>
            <p:nvPr/>
          </p:nvSpPr>
          <p:spPr>
            <a:xfrm>
              <a:off x="7754760" y="4971960"/>
              <a:ext cx="932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Rectangle 1031"/>
            <p:cNvSpPr/>
            <p:nvPr/>
          </p:nvSpPr>
          <p:spPr>
            <a:xfrm>
              <a:off x="6505560" y="4971960"/>
              <a:ext cx="1249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Rectangle 1032"/>
            <p:cNvSpPr/>
            <p:nvPr/>
          </p:nvSpPr>
          <p:spPr>
            <a:xfrm>
              <a:off x="4862520" y="4971960"/>
              <a:ext cx="1643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Rectangle 1033"/>
            <p:cNvSpPr/>
            <p:nvPr/>
          </p:nvSpPr>
          <p:spPr>
            <a:xfrm>
              <a:off x="3317760" y="4971960"/>
              <a:ext cx="15447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Rectangle 1034"/>
            <p:cNvSpPr/>
            <p:nvPr/>
          </p:nvSpPr>
          <p:spPr>
            <a:xfrm>
              <a:off x="1560600" y="4971960"/>
              <a:ext cx="17571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Rectangle 1035"/>
            <p:cNvSpPr/>
            <p:nvPr/>
          </p:nvSpPr>
          <p:spPr>
            <a:xfrm>
              <a:off x="457200" y="4971960"/>
              <a:ext cx="11034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分数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Rectangle 1036"/>
            <p:cNvSpPr/>
            <p:nvPr/>
          </p:nvSpPr>
          <p:spPr>
            <a:xfrm>
              <a:off x="7754760" y="3773520"/>
              <a:ext cx="932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Rectangle 1037"/>
            <p:cNvSpPr/>
            <p:nvPr/>
          </p:nvSpPr>
          <p:spPr>
            <a:xfrm>
              <a:off x="6505560" y="3773520"/>
              <a:ext cx="12492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Rectangle 1038"/>
            <p:cNvSpPr/>
            <p:nvPr/>
          </p:nvSpPr>
          <p:spPr>
            <a:xfrm>
              <a:off x="4862520" y="3773520"/>
              <a:ext cx="1643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Rectangle 1039"/>
            <p:cNvSpPr/>
            <p:nvPr/>
          </p:nvSpPr>
          <p:spPr>
            <a:xfrm>
              <a:off x="3317760" y="3773520"/>
              <a:ext cx="1544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Rectangle 1040"/>
            <p:cNvSpPr/>
            <p:nvPr/>
          </p:nvSpPr>
          <p:spPr>
            <a:xfrm>
              <a:off x="1560600" y="3773520"/>
              <a:ext cx="17571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Rectangle 1041"/>
            <p:cNvSpPr/>
            <p:nvPr/>
          </p:nvSpPr>
          <p:spPr>
            <a:xfrm>
              <a:off x="457200" y="3773520"/>
              <a:ext cx="11034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除法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Rectangle 1042"/>
            <p:cNvSpPr/>
            <p:nvPr/>
          </p:nvSpPr>
          <p:spPr>
            <a:xfrm>
              <a:off x="7754760" y="2604960"/>
              <a:ext cx="932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Rectangle 1043"/>
            <p:cNvSpPr/>
            <p:nvPr/>
          </p:nvSpPr>
          <p:spPr>
            <a:xfrm>
              <a:off x="6505560" y="2604960"/>
              <a:ext cx="12492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Rectangle 1044"/>
            <p:cNvSpPr/>
            <p:nvPr/>
          </p:nvSpPr>
          <p:spPr>
            <a:xfrm>
              <a:off x="4862520" y="2604960"/>
              <a:ext cx="1643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Rectangle 1045"/>
            <p:cNvSpPr/>
            <p:nvPr/>
          </p:nvSpPr>
          <p:spPr>
            <a:xfrm>
              <a:off x="3317760" y="2604960"/>
              <a:ext cx="154476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Rectangle 1046"/>
            <p:cNvSpPr/>
            <p:nvPr/>
          </p:nvSpPr>
          <p:spPr>
            <a:xfrm>
              <a:off x="1560600" y="2604960"/>
              <a:ext cx="175716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Rectangle 1047"/>
            <p:cNvSpPr/>
            <p:nvPr/>
          </p:nvSpPr>
          <p:spPr>
            <a:xfrm>
              <a:off x="457200" y="2604960"/>
              <a:ext cx="1103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比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Rectangle 1048"/>
            <p:cNvSpPr/>
            <p:nvPr/>
          </p:nvSpPr>
          <p:spPr>
            <a:xfrm>
              <a:off x="7754760" y="1600200"/>
              <a:ext cx="9320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33cc"/>
                  </a:solidFill>
                  <a:latin typeface="Arial"/>
                  <a:ea typeface="黑体"/>
                </a:rPr>
                <a:t>区别</a:t>
              </a:r>
              <a:endParaRPr b="0" lang="en-US" sz="3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Rectangle 1049"/>
            <p:cNvSpPr/>
            <p:nvPr/>
          </p:nvSpPr>
          <p:spPr>
            <a:xfrm>
              <a:off x="457200" y="1600200"/>
              <a:ext cx="7297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cc"/>
                  </a:solidFill>
                  <a:latin typeface="Arial"/>
                  <a:ea typeface="黑体"/>
                </a:rPr>
                <a:t>联      系（相    当    于）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Line 1050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Line 1051"/>
            <p:cNvSpPr/>
            <p:nvPr/>
          </p:nvSpPr>
          <p:spPr>
            <a:xfrm>
              <a:off x="457200" y="2604960"/>
              <a:ext cx="8229600" cy="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Line 1052"/>
            <p:cNvSpPr/>
            <p:nvPr/>
          </p:nvSpPr>
          <p:spPr>
            <a:xfrm>
              <a:off x="457200" y="3773520"/>
              <a:ext cx="8229600" cy="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Line 1053"/>
            <p:cNvSpPr/>
            <p:nvPr/>
          </p:nvSpPr>
          <p:spPr>
            <a:xfrm>
              <a:off x="457200" y="4971960"/>
              <a:ext cx="8229600" cy="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Line 1054"/>
            <p:cNvSpPr/>
            <p:nvPr/>
          </p:nvSpPr>
          <p:spPr>
            <a:xfrm>
              <a:off x="457200" y="6168960"/>
              <a:ext cx="8229600" cy="0"/>
            </a:xfrm>
            <a:prstGeom prst="line">
              <a:avLst/>
            </a:prstGeom>
            <a:ln cap="sq"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Line 1055"/>
            <p:cNvSpPr/>
            <p:nvPr/>
          </p:nvSpPr>
          <p:spPr>
            <a:xfrm>
              <a:off x="457200" y="1600200"/>
              <a:ext cx="0" cy="4568760"/>
            </a:xfrm>
            <a:prstGeom prst="line">
              <a:avLst/>
            </a:prstGeom>
            <a:ln cap="sq"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Line 1056"/>
            <p:cNvSpPr/>
            <p:nvPr/>
          </p:nvSpPr>
          <p:spPr>
            <a:xfrm>
              <a:off x="7754760" y="1600200"/>
              <a:ext cx="0" cy="456876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Line 1057"/>
            <p:cNvSpPr/>
            <p:nvPr/>
          </p:nvSpPr>
          <p:spPr>
            <a:xfrm>
              <a:off x="8686800" y="1600200"/>
              <a:ext cx="0" cy="4568760"/>
            </a:xfrm>
            <a:prstGeom prst="line">
              <a:avLst/>
            </a:prstGeom>
            <a:ln cap="sq"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Line 1058"/>
            <p:cNvSpPr/>
            <p:nvPr/>
          </p:nvSpPr>
          <p:spPr>
            <a:xfrm>
              <a:off x="1560600" y="2604960"/>
              <a:ext cx="0" cy="356400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Line 1059"/>
            <p:cNvSpPr/>
            <p:nvPr/>
          </p:nvSpPr>
          <p:spPr>
            <a:xfrm>
              <a:off x="3317760" y="2604960"/>
              <a:ext cx="0" cy="356400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Line 1060"/>
            <p:cNvSpPr/>
            <p:nvPr/>
          </p:nvSpPr>
          <p:spPr>
            <a:xfrm>
              <a:off x="4862520" y="2604960"/>
              <a:ext cx="0" cy="356400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Line 1061"/>
            <p:cNvSpPr/>
            <p:nvPr/>
          </p:nvSpPr>
          <p:spPr>
            <a:xfrm>
              <a:off x="6505560" y="2604960"/>
              <a:ext cx="0" cy="3564000"/>
            </a:xfrm>
            <a:prstGeom prst="line">
              <a:avLst/>
            </a:prstGeom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8" name="Text Box 1064"/>
          <p:cNvSpPr/>
          <p:nvPr/>
        </p:nvSpPr>
        <p:spPr>
          <a:xfrm>
            <a:off x="1403280" y="2852640"/>
            <a:ext cx="21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1065"/>
          <p:cNvSpPr/>
          <p:nvPr/>
        </p:nvSpPr>
        <p:spPr>
          <a:xfrm>
            <a:off x="3348000" y="28526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比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1066"/>
          <p:cNvSpPr/>
          <p:nvPr/>
        </p:nvSpPr>
        <p:spPr>
          <a:xfrm>
            <a:off x="4643280" y="2852640"/>
            <a:ext cx="20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后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1067"/>
          <p:cNvSpPr/>
          <p:nvPr/>
        </p:nvSpPr>
        <p:spPr>
          <a:xfrm>
            <a:off x="6443640" y="2852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1069"/>
          <p:cNvSpPr/>
          <p:nvPr/>
        </p:nvSpPr>
        <p:spPr>
          <a:xfrm>
            <a:off x="1692360" y="4076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被除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1070"/>
          <p:cNvSpPr/>
          <p:nvPr/>
        </p:nvSpPr>
        <p:spPr>
          <a:xfrm>
            <a:off x="3348000" y="4005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1071"/>
          <p:cNvSpPr/>
          <p:nvPr/>
        </p:nvSpPr>
        <p:spPr>
          <a:xfrm>
            <a:off x="4859280" y="4005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1105"/>
          <p:cNvSpPr/>
          <p:nvPr/>
        </p:nvSpPr>
        <p:spPr>
          <a:xfrm>
            <a:off x="6600960" y="4002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106"/>
          <p:cNvSpPr/>
          <p:nvPr/>
        </p:nvSpPr>
        <p:spPr>
          <a:xfrm>
            <a:off x="1692360" y="5300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分  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1107"/>
          <p:cNvSpPr/>
          <p:nvPr/>
        </p:nvSpPr>
        <p:spPr>
          <a:xfrm>
            <a:off x="3276720" y="5300640"/>
            <a:ext cx="17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分数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1108"/>
          <p:cNvSpPr/>
          <p:nvPr/>
        </p:nvSpPr>
        <p:spPr>
          <a:xfrm>
            <a:off x="5003640" y="5229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分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1109"/>
          <p:cNvSpPr/>
          <p:nvPr/>
        </p:nvSpPr>
        <p:spPr>
          <a:xfrm>
            <a:off x="6372360" y="5229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分数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1110"/>
          <p:cNvSpPr/>
          <p:nvPr/>
        </p:nvSpPr>
        <p:spPr>
          <a:xfrm>
            <a:off x="7812000" y="270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种关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1111"/>
          <p:cNvSpPr/>
          <p:nvPr/>
        </p:nvSpPr>
        <p:spPr>
          <a:xfrm>
            <a:off x="7812000" y="39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运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145"/>
          <p:cNvSpPr/>
          <p:nvPr/>
        </p:nvSpPr>
        <p:spPr>
          <a:xfrm>
            <a:off x="7812000" y="508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一种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28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519200" cy="2016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030"/>
          <p:cNvSpPr/>
          <p:nvPr/>
        </p:nvSpPr>
        <p:spPr>
          <a:xfrm>
            <a:off x="2556000" y="765000"/>
            <a:ext cx="4895640" cy="2951280"/>
          </a:xfrm>
          <a:prstGeom prst="cloudCallout">
            <a:avLst>
              <a:gd name="adj1" fmla="val -63717"/>
              <a:gd name="adj2" fmla="val 70226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1031"/>
          <p:cNvSpPr/>
          <p:nvPr/>
        </p:nvSpPr>
        <p:spPr>
          <a:xfrm>
            <a:off x="2987640" y="184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比的后项可以是</a:t>
            </a: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028"/>
          <p:cNvSpPr/>
          <p:nvPr/>
        </p:nvSpPr>
        <p:spPr>
          <a:xfrm>
            <a:off x="4427640" y="2708280"/>
            <a:ext cx="39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各类比赛中的比不是我们这节课学习的比，它只是一种计分形式，是比较大小的，是相差关系，不是相除关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" name="Picture 1033" descr="1219411449_NYf9EA_small_min"/>
          <p:cNvPicPr/>
          <p:nvPr/>
        </p:nvPicPr>
        <p:blipFill>
          <a:blip r:embed="rId1"/>
          <a:stretch/>
        </p:blipFill>
        <p:spPr>
          <a:xfrm>
            <a:off x="1187280" y="1197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34" descr="U2249P461T5D248137F154DT20080822215648_small_min"/>
          <p:cNvPicPr/>
          <p:nvPr/>
        </p:nvPicPr>
        <p:blipFill>
          <a:blip r:embed="rId2"/>
          <a:stretch/>
        </p:blipFill>
        <p:spPr>
          <a:xfrm>
            <a:off x="1187280" y="4869000"/>
            <a:ext cx="3024360" cy="1465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35"/>
          <p:cNvSpPr/>
          <p:nvPr/>
        </p:nvSpPr>
        <p:spPr>
          <a:xfrm>
            <a:off x="4788000" y="1197000"/>
            <a:ext cx="331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  ：日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1036"/>
          <p:cNvSpPr/>
          <p:nvPr/>
        </p:nvSpPr>
        <p:spPr>
          <a:xfrm>
            <a:off x="1476360" y="404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辨一辨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05440" cy="2292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 flipV="1" rot="10800000">
            <a:off x="1547640" y="177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你认为哪面红旗的形状最漂亮 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547640" y="69228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一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-34920" y="615636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2232360" cy="213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1727280" cy="43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1835280" y="3573360"/>
            <a:ext cx="3311280" cy="2417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flipV="1" rot="10800000">
            <a:off x="2841480" y="6093000"/>
            <a:ext cx="295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:b=0.618: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258920" y="333360"/>
            <a:ext cx="633744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数学中有一个比值叫黄金分割，它的值接近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0.618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。 当一个物体的两部分之间的比大致符合黄金比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-0.618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时，会给人以一种优美的视觉感受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059280" y="1628640"/>
            <a:ext cx="3276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说说生活中的比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5280" y="270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、人体中有趣的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9640" y="3357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将拳头滚一周，它的长度与脚底长度的比大约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9640" y="38606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身高与双臂平伸的比大约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39640" y="42926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腿长与头长的比大约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39640" y="47973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脚长和身高的比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539640" y="53006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血液和体重的比大约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39640" y="58053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成年男子肩宽和头长的比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79"/>
          <p:cNvSpPr/>
          <p:nvPr/>
        </p:nvSpPr>
        <p:spPr>
          <a:xfrm>
            <a:off x="826920" y="7034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说一说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95B9-F589-4AE6-B42D-C5BDB85D3D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1042920" y="676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4" descr="3166-1"/>
          <p:cNvPicPr/>
          <p:nvPr/>
        </p:nvPicPr>
        <p:blipFill>
          <a:blip r:embed="rId1"/>
          <a:stretch/>
        </p:blipFill>
        <p:spPr>
          <a:xfrm>
            <a:off x="250920" y="333360"/>
            <a:ext cx="84596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539640" y="330120"/>
            <a:ext cx="7561440" cy="303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91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920" y="2685960"/>
            <a:ext cx="777744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神舟五号”进入运行轨道后 ，平均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钟绕地球一周，大约运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225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千米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敏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本练习本，共花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1727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两个数相除又叫做两个数的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280" y="1557360"/>
            <a:ext cx="60498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自学提纲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比的读、写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比的各部分的名称分别叫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怎样求一个比的比值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值可以怎样表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和比值有什么联系与区别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497240" cy="1660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>
            <a:hlinkClick r:id="rId2" action="ppaction://hlinksldjump"/>
          </p:cNvPr>
          <p:cNvSpPr/>
          <p:nvPr/>
        </p:nvSpPr>
        <p:spPr>
          <a:xfrm>
            <a:off x="7020000" y="450864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53" h="21600">
                <a:moveTo>
                  <a:pt x="14582" y="14281"/>
                </a:moveTo>
                <a:lnTo>
                  <a:pt x="14582" y="12323"/>
                </a:lnTo>
                <a:cubicBezTo>
                  <a:pt x="14582" y="11496"/>
                  <a:pt x="14913" y="10800"/>
                  <a:pt x="15513" y="10800"/>
                </a:cubicBezTo>
                <a:cubicBezTo>
                  <a:pt x="16645" y="10800"/>
                  <a:pt x="17541" y="9434"/>
                  <a:pt x="17541" y="7849"/>
                </a:cubicBezTo>
                <a:cubicBezTo>
                  <a:pt x="17541" y="5534"/>
                  <a:pt x="15687" y="3794"/>
                  <a:pt x="13476" y="3794"/>
                </a:cubicBezTo>
                <a:cubicBezTo>
                  <a:pt x="11266" y="3794"/>
                  <a:pt x="9595" y="5534"/>
                  <a:pt x="9595" y="7849"/>
                </a:cubicBezTo>
                <a:lnTo>
                  <a:pt x="11449" y="7849"/>
                </a:lnTo>
                <a:cubicBezTo>
                  <a:pt x="11449" y="6709"/>
                  <a:pt x="12371" y="5821"/>
                  <a:pt x="13476" y="5821"/>
                </a:cubicBezTo>
                <a:cubicBezTo>
                  <a:pt x="14582" y="5821"/>
                  <a:pt x="15513" y="6709"/>
                  <a:pt x="15513" y="7849"/>
                </a:cubicBezTo>
                <a:cubicBezTo>
                  <a:pt x="15513" y="8589"/>
                  <a:pt x="15043" y="9320"/>
                  <a:pt x="14582" y="9320"/>
                </a:cubicBezTo>
                <a:cubicBezTo>
                  <a:pt x="13476" y="9320"/>
                  <a:pt x="12371" y="10800"/>
                  <a:pt x="12371" y="12323"/>
                </a:cubicBezTo>
                <a:lnTo>
                  <a:pt x="12371" y="14281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AutoShape 8">
            <a:hlinkClick r:id="rId3" action="ppaction://hlinksldjump"/>
          </p:cNvPr>
          <p:cNvSpPr/>
          <p:nvPr/>
        </p:nvSpPr>
        <p:spPr>
          <a:xfrm>
            <a:off x="341964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916360" y="126828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348000" y="12682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885080" y="119700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034"/>
          <p:cNvSpPr/>
          <p:nvPr/>
        </p:nvSpPr>
        <p:spPr>
          <a:xfrm>
            <a:off x="1619280" y="2708280"/>
            <a:ext cx="5977080" cy="3097080"/>
          </a:xfrm>
          <a:custGeom>
            <a:avLst/>
            <a:gdLst>
              <a:gd name="textAreaLeft" fmla="*/ 0 w 5977080"/>
              <a:gd name="textAreaRight" fmla="*/ 5977440 w 5977080"/>
              <a:gd name="textAreaTop" fmla="*/ 365040 h 3097080"/>
              <a:gd name="textAreaBottom" fmla="*/ 27320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1273"/>
                </a:moveTo>
                <a:cubicBezTo>
                  <a:pt x="3600" y="-3237"/>
                  <a:pt x="7200" y="5783"/>
                  <a:pt x="10800" y="1273"/>
                </a:cubicBezTo>
                <a:cubicBezTo>
                  <a:pt x="14400" y="-3237"/>
                  <a:pt x="18000" y="5783"/>
                  <a:pt x="21600" y="1273"/>
                </a:cubicBezTo>
                <a:lnTo>
                  <a:pt x="21600" y="20327"/>
                </a:lnTo>
                <a:cubicBezTo>
                  <a:pt x="18000" y="24837"/>
                  <a:pt x="14400" y="15817"/>
                  <a:pt x="10800" y="20327"/>
                </a:cubicBezTo>
                <a:cubicBezTo>
                  <a:pt x="7200" y="24837"/>
                  <a:pt x="3600" y="15817"/>
                  <a:pt x="0" y="20327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1035"/>
          <p:cNvSpPr/>
          <p:nvPr/>
        </p:nvSpPr>
        <p:spPr>
          <a:xfrm>
            <a:off x="2195640" y="321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值通常用分数表示，能除尽时也可以用小数表示，能整除时就用整数表示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1036" descr=""/>
          <p:cNvPicPr/>
          <p:nvPr/>
        </p:nvPicPr>
        <p:blipFill>
          <a:blip r:embed="rId1"/>
          <a:stretch/>
        </p:blipFill>
        <p:spPr>
          <a:xfrm>
            <a:off x="6443640" y="1197000"/>
            <a:ext cx="158436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818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比和比值有什么联系与区别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4" name="Picture 103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1656000" cy="1620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33"/>
          <p:cNvSpPr/>
          <p:nvPr/>
        </p:nvSpPr>
        <p:spPr>
          <a:xfrm>
            <a:off x="2124000" y="1557360"/>
            <a:ext cx="4392720" cy="1727280"/>
          </a:xfrm>
          <a:prstGeom prst="wedgeRoundRectCallout">
            <a:avLst>
              <a:gd name="adj1" fmla="val -49925"/>
              <a:gd name="adj2" fmla="val 70402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两者的联系在于：比值是比的前项除以后项所得的商，它通常用分数表示，而比也可以写成分数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1034" descr=""/>
          <p:cNvPicPr/>
          <p:nvPr/>
        </p:nvPicPr>
        <p:blipFill>
          <a:blip r:embed="rId2"/>
          <a:stretch/>
        </p:blipFill>
        <p:spPr>
          <a:xfrm>
            <a:off x="6889680" y="2565360"/>
            <a:ext cx="1544760" cy="1584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37"/>
          <p:cNvSpPr/>
          <p:nvPr/>
        </p:nvSpPr>
        <p:spPr>
          <a:xfrm rot="10800000">
            <a:off x="2195280" y="4005360"/>
            <a:ext cx="4824360" cy="1944720"/>
          </a:xfrm>
          <a:prstGeom prst="wedgeRoundRectCallout">
            <a:avLst>
              <a:gd name="adj1" fmla="val -48194"/>
              <a:gd name="adj2" fmla="val 82324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它们的区别主要是：比值是一个数，有时可以用小数甚至整数表示，而比表示两个数的关系，不能用一个小数或一个整数表示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32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1362240" cy="581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28"/>
          <p:cNvSpPr/>
          <p:nvPr/>
        </p:nvSpPr>
        <p:spPr>
          <a:xfrm>
            <a:off x="2050920" y="1737360"/>
            <a:ext cx="534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选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支钢笔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元，钢笔总价和数量的比是（         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∶12     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2∶4      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2/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298764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1037"/>
          <p:cNvSpPr/>
          <p:nvPr/>
        </p:nvSpPr>
        <p:spPr>
          <a:xfrm>
            <a:off x="341964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17160" y="2439720"/>
            <a:ext cx="801684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敏和小亮在文具店买练习本。小敏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本，共花了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8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元。小亮买了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本，共花了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.4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敏和小亮买的练习本数之比是（   ）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（   ）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比值是（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花的钱数之比是（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）：（      ），比值是（        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735280" cy="988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6084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23600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050920" y="3789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0.75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635280" y="4292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1.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364000" y="4292640"/>
            <a:ext cx="7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.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04292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0.7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3:16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31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