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38D5-1624-4454-811D-50393A2E5AA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DA0D-E6FA-4176-A1F7-E567BB300675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5EF-F365-4A71-BDCE-EE02767A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579-2FF7-492A-8256-356C04BE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3C1-B3BA-414D-A02B-1F4C164A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85C-7357-4F90-AFC2-222288B2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0748-D47C-447B-84B7-D8837085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DCB8-1781-4442-8FDE-99D79206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68C4-8BB4-4BD9-B48C-D2B99B5F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48C-926A-4162-8D33-0768C494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456F-2961-40AC-8C21-90611551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A51C-48FA-4AC0-833E-BB4B441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9C9E-983C-4DC1-9861-12FDE951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13F-A8ED-49D6-B973-ABEC1A18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7340-B4F4-43A1-92C5-BFF9197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959F-C0D2-42B9-9ABE-22D65EA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FAFD-0860-4E60-BA32-CA1EAD61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B857-27FA-4C2D-966A-88AD8451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4BE2-65F6-43AC-97F5-FED8E933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191-B95D-4A31-9741-BA9ACC42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33B-673B-4BD0-B1A5-FFB046C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F91-9825-4270-99D5-E8F88BB3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DB0-22B6-438A-A62C-7D555445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80A-9D77-4950-88C6-0E7544F5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A03-DB0F-4C29-9DEF-409CAED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22F-867B-4C6C-BDD7-A89B1D4F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B582-A905-48D0-8EEF-D96A967F4D4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ED29-7A14-4DB8-8B05-ABA727B1C06F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1557000"/>
            <a:ext cx="669636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37300"/>
                </a:solidFill>
                <a:latin typeface="华文彩云"/>
                <a:ea typeface="华文彩云"/>
              </a:rPr>
              <a:t>保护我们的听力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1794960" y="53658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思  考：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1337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37300"/>
                </a:solidFill>
                <a:latin typeface="Tahoma"/>
              </a:rPr>
              <a:t>              </a:t>
            </a:r>
            <a:r>
              <a:rPr b="1" lang="zh-CN" sz="3600" spc="-1" strike="noStrike">
                <a:solidFill>
                  <a:srgbClr val="737300"/>
                </a:solidFill>
                <a:latin typeface="Tahoma"/>
              </a:rPr>
              <a:t>生活中有哪些声音属于噪音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373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737300"/>
                </a:solidFill>
                <a:latin typeface="Tahoma"/>
              </a:rPr>
              <a:t>给你带来怎样的感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噪声性耳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a500"/>
                </a:solidFill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f8a500"/>
                </a:solidFill>
                <a:latin typeface="Tahoma"/>
              </a:rPr>
              <a:t>长时间戴耳机听音乐，或者处于巨大声响的环境中，可能会使人听力下降，出现噪声性耳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a500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f8a500"/>
                </a:solidFill>
                <a:latin typeface="Tahoma"/>
              </a:rPr>
              <a:t>噪声性耳聋早期的基本症状是耳鸣、耳聋，部分人伴有眩晕或特别怕听到大的声音，严重者听到强声会感觉耳内疼痛。早期的轻度噪声性耳聋在及时摆脱噪声环境之后，症状多会消失；如果听力在</a:t>
            </a:r>
            <a:r>
              <a:rPr b="1" lang="en-US" sz="3200" spc="-1" strike="noStrike">
                <a:solidFill>
                  <a:srgbClr val="f8a5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8a500"/>
                </a:solidFill>
                <a:latin typeface="Tahoma"/>
              </a:rPr>
              <a:t>至</a:t>
            </a:r>
            <a:r>
              <a:rPr b="1" lang="en-US" sz="3200" spc="-1" strike="noStrike">
                <a:solidFill>
                  <a:srgbClr val="f8a5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f8a500"/>
                </a:solidFill>
                <a:latin typeface="Tahoma"/>
              </a:rPr>
              <a:t>周内无明显好转，恢复的希望就较小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小组讨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916280"/>
            <a:ext cx="79912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65600"/>
                </a:solidFill>
                <a:latin typeface="Tahoma"/>
              </a:rPr>
              <a:t>          </a:t>
            </a:r>
            <a:r>
              <a:rPr b="1" lang="zh-CN" sz="4000" spc="-1" strike="noStrike">
                <a:solidFill>
                  <a:srgbClr val="565600"/>
                </a:solidFill>
                <a:latin typeface="Tahoma"/>
              </a:rPr>
              <a:t>我们的生活中有哪些减少噪音的方法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826920" y="37162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65600"/>
                </a:solidFill>
                <a:latin typeface="宋体"/>
              </a:rPr>
              <a:t>        </a:t>
            </a:r>
            <a:r>
              <a:rPr b="1" lang="zh-CN" sz="4000" spc="-1" strike="noStrike">
                <a:solidFill>
                  <a:srgbClr val="565600"/>
                </a:solidFill>
                <a:latin typeface="Times New Roman"/>
                <a:ea typeface="Times New Roman"/>
              </a:rPr>
              <a:t>我们的生活中，哪些场合需要我们控制音量？为什么</a:t>
            </a:r>
            <a:r>
              <a:rPr b="1" lang="zh-CN" sz="4000" spc="-1" strike="noStrike">
                <a:solidFill>
                  <a:srgbClr val="565600"/>
                </a:solidFill>
                <a:latin typeface="Arial"/>
                <a:ea typeface="宋体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8680" y="2133720"/>
            <a:ext cx="572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a1395"/>
                </a:solidFill>
                <a:latin typeface="Tahoma"/>
                <a:ea typeface="宋体"/>
              </a:rPr>
              <a:t>说说下面图片中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a1395"/>
                </a:solidFill>
                <a:latin typeface="Tahoma"/>
                <a:ea typeface="宋体"/>
              </a:rPr>
              <a:t>           </a:t>
            </a:r>
            <a:r>
              <a:rPr b="0" lang="zh-CN" sz="4800" spc="-1" strike="noStrike">
                <a:solidFill>
                  <a:srgbClr val="5a1395"/>
                </a:solidFill>
                <a:latin typeface="Tahoma"/>
                <a:ea typeface="宋体"/>
              </a:rPr>
              <a:t>人们是怎样控制噪音的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258920" y="957240"/>
            <a:ext cx="633744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101080" cy="46292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59640" cy="3942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下列现象说明可能有听力受损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、爱打岔是没听清楚的表现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    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、侧耳听人说话是为了听得更清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    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、爱观察口形说明听不清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    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、看电视的时候，音量调的很大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    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c00000"/>
                </a:solidFill>
                <a:latin typeface="Tahoma"/>
              </a:rPr>
              <a:t>、说话声音太大也是听力不好的表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91280" y="1228680"/>
            <a:ext cx="431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a1395"/>
                </a:solidFill>
                <a:latin typeface="Tahoma"/>
                <a:ea typeface="宋体"/>
              </a:rPr>
              <a:t>课外链接</a:t>
            </a:r>
            <a:r>
              <a:rPr b="0" lang="en-US" sz="4400" spc="-1" strike="noStrike">
                <a:solidFill>
                  <a:srgbClr val="5a1395"/>
                </a:solidFill>
                <a:latin typeface="Tahoma"/>
              </a:rPr>
              <a:t>——</a:t>
            </a:r>
            <a:r>
              <a:rPr b="0" lang="zh-CN" sz="4400" spc="-1" strike="noStrike">
                <a:solidFill>
                  <a:srgbClr val="5a1395"/>
                </a:solidFill>
                <a:latin typeface="Tahoma"/>
                <a:ea typeface="宋体"/>
              </a:rPr>
              <a:t>电子助听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45440" cy="43657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067480" y="1197000"/>
            <a:ext cx="4993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a1395"/>
                </a:solidFill>
                <a:latin typeface="Tahoma"/>
                <a:ea typeface="宋体"/>
              </a:rPr>
              <a:t>活动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宋体"/>
              </a:rPr>
              <a:t>、做一个发声罐，使发声罐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宋体"/>
              </a:rPr>
              <a:t>发出声音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宋体"/>
              </a:rPr>
              <a:t>、利用桌上的材料（报纸、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宋体"/>
              </a:rPr>
              <a:t>巾、棉花等）想办法使发声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宋体"/>
              </a:rPr>
              <a:t>的声音变轻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528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7300"/>
                </a:solidFill>
                <a:latin typeface="Tahoma"/>
              </a:rPr>
              <a:t>              </a:t>
            </a:r>
            <a:r>
              <a:rPr b="1" lang="zh-CN" sz="3200" spc="-1" strike="noStrike">
                <a:solidFill>
                  <a:srgbClr val="737300"/>
                </a:solidFill>
                <a:latin typeface="Tahoma"/>
              </a:rPr>
              <a:t>听觉对人类有何作用？你熟悉的人中有听力受损的吗？你知道他们听力受损的原因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02960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小组讨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2847960" y="7920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1065960" y="836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健康小行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68360" y="2492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宋体"/>
              </a:rPr>
              <a:t>向亲人和朋友讲一讲有关护耳的常识。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306-D9B8-40FD-982B-F6199FF287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78920" y="1197000"/>
            <a:ext cx="842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3a00"/>
                </a:solidFill>
                <a:latin typeface="Tahoma"/>
              </a:rPr>
              <a:t>           </a:t>
            </a:r>
            <a:r>
              <a:rPr b="1" lang="zh-CN" sz="4000" spc="-1" strike="noStrike">
                <a:solidFill>
                  <a:srgbClr val="3a3a00"/>
                </a:solidFill>
                <a:latin typeface="Tahoma"/>
              </a:rPr>
              <a:t>近几年，青少年听力下降的现象日益突出。</a:t>
            </a:r>
            <a:r>
              <a:rPr b="1" lang="en-US" sz="4000" spc="-1" strike="noStrike">
                <a:solidFill>
                  <a:srgbClr val="3a3a00"/>
                </a:solidFill>
                <a:latin typeface="Tahoma"/>
              </a:rPr>
              <a:t>2006</a:t>
            </a:r>
            <a:r>
              <a:rPr b="1" lang="zh-CN" sz="4000" spc="-1" strike="noStrike">
                <a:solidFill>
                  <a:srgbClr val="3a3a00"/>
                </a:solidFill>
                <a:latin typeface="Tahoma"/>
              </a:rPr>
              <a:t>年，第二次全国残疾人抽样调查显示，在</a:t>
            </a:r>
            <a:r>
              <a:rPr b="1" lang="en-US" sz="4000" spc="-1" strike="noStrike">
                <a:solidFill>
                  <a:srgbClr val="3a3a00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3a3a00"/>
                </a:solidFill>
                <a:latin typeface="Tahoma"/>
              </a:rPr>
              <a:t>至</a:t>
            </a:r>
            <a:r>
              <a:rPr b="1" lang="en-US" sz="4000" spc="-1" strike="noStrike">
                <a:solidFill>
                  <a:srgbClr val="3a3a00"/>
                </a:solidFill>
                <a:latin typeface="Tahoma"/>
              </a:rPr>
              <a:t>14</a:t>
            </a:r>
            <a:r>
              <a:rPr b="1" lang="zh-CN" sz="4000" spc="-1" strike="noStrike">
                <a:solidFill>
                  <a:srgbClr val="3a3a00"/>
                </a:solidFill>
                <a:latin typeface="Tahoma"/>
              </a:rPr>
              <a:t>岁学龄儿童中，听力残疾儿童已达</a:t>
            </a:r>
            <a:r>
              <a:rPr b="1" lang="en-US" sz="4000" spc="-1" strike="noStrike">
                <a:solidFill>
                  <a:srgbClr val="3a3a00"/>
                </a:solidFill>
                <a:latin typeface="Tahoma"/>
              </a:rPr>
              <a:t>11</a:t>
            </a:r>
            <a:r>
              <a:rPr b="1" lang="zh-CN" sz="4000" spc="-1" strike="noStrike">
                <a:solidFill>
                  <a:srgbClr val="3a3a00"/>
                </a:solidFill>
                <a:latin typeface="Tahoma"/>
              </a:rPr>
              <a:t>万人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79280" y="1268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3a00"/>
                </a:solidFill>
                <a:latin typeface="Tahoma"/>
              </a:rPr>
              <a:t>              </a:t>
            </a:r>
            <a:r>
              <a:rPr b="1" lang="zh-CN" sz="4000" spc="-1" strike="noStrike">
                <a:solidFill>
                  <a:srgbClr val="3a3a00"/>
                </a:solidFill>
                <a:latin typeface="Tahoma"/>
              </a:rPr>
              <a:t>耳是重要的听觉器官，耳的鼓膜、听小骨头、咽鼓管、耳蜗等结构与听觉的形成密切相关。这些结构一旦受到伤害，就会引起听力下降或丧失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3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图片 3" descr="20100319173323315.jpg"/>
          <p:cNvPicPr/>
          <p:nvPr/>
        </p:nvPicPr>
        <p:blipFill>
          <a:blip r:embed="rId1"/>
          <a:stretch/>
        </p:blipFill>
        <p:spPr>
          <a:xfrm>
            <a:off x="-1763640" y="-2717640"/>
            <a:ext cx="12096720" cy="95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187640" y="76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思考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55640" y="249228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7300"/>
                </a:solidFill>
                <a:latin typeface="Tahom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737300"/>
                </a:solidFill>
                <a:latin typeface="Tahoma"/>
                <a:ea typeface="宋体"/>
              </a:rPr>
              <a:t>生活中哪些情况会导致我们的听力下降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4"/>
          <p:cNvSpPr/>
          <p:nvPr/>
        </p:nvSpPr>
        <p:spPr>
          <a:xfrm>
            <a:off x="3618000" y="1125360"/>
            <a:ext cx="12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长时间使用耳机，会损伤耳蜗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826920" y="1989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咽部感染后，病菌易沿咽鼓管侵入鼓室，引起中耳炎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826920" y="3141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某些抗生素，如链霉素等，可能导致药物中毒性耳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900000" y="4437000"/>
            <a:ext cx="78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尖锐器物、巨大声音、化脓性中耳炎等可能导致鼓膜破损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</a:rPr>
              <a:t>小组讨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280" y="2276280"/>
            <a:ext cx="793116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37300"/>
                </a:solidFill>
                <a:latin typeface="Tahoma"/>
              </a:rPr>
              <a:t>          </a:t>
            </a:r>
            <a:r>
              <a:rPr b="1" lang="zh-CN" sz="4800" spc="-1" strike="noStrike">
                <a:solidFill>
                  <a:srgbClr val="737300"/>
                </a:solidFill>
                <a:latin typeface="Tahoma"/>
              </a:rPr>
              <a:t>保护听力，我们应该怎么做呢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131120" y="620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爱耳护耳小指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39640" y="1700280"/>
            <a:ext cx="748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、不用尖锐的器物挖耳、掏耳屎，以免戳伤鼓膜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、每天持续耳机的时间不要超过一小时，且音量不可过大，以免损伤耳蜗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c00000"/>
                </a:solidFill>
                <a:latin typeface="Tahoma"/>
                <a:ea typeface="宋体"/>
              </a:rPr>
              <a:t>、感冒时要及时治疗，以免病菌由咽鼓管进入中耳，引起化脓性中耳炎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3:19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09Z</dcterms:modified>
  <cp:revision>1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