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drumroll.wav" ContentType="audio/x-wav"/>
  <Override PartName="/ppt/media/image30.jpeg" ContentType="image/jpeg"/>
  <Override PartName="/ppt/media/image6.wmf" ContentType="image/x-wmf"/>
  <Override PartName="/ppt/media/image7.png" ContentType="image/png"/>
  <Override PartName="/ppt/media/cashreg.wav" ContentType="audio/x-wav"/>
  <Override PartName="/ppt/media/image9.png" ContentType="image/png"/>
  <Override PartName="/ppt/media/image26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28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31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14.png" ContentType="image/png"/>
  <Override PartName="/ppt/media/image15.jpeg" ContentType="image/jpeg"/>
  <Override PartName="/ppt/media/laser.wav" ContentType="audio/x-wav"/>
  <Override PartName="/ppt/media/image16.jpeg" ContentType="image/jpeg"/>
  <Override PartName="/ppt/media/image18.jpeg" ContentType="image/jpeg"/>
  <Override PartName="/ppt/media/image19.png" ContentType="image/png"/>
  <Override PartName="/ppt/media/clap.wav" ContentType="audio/x-wav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BEDF-1FCC-4579-8DD3-809A0C2E241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37ED-B859-4424-9588-CA03B7E292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6C1B-B570-4422-908B-6426B25F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C08-C509-4EDA-8EC9-0491A142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43DB-D90B-4354-B149-724183D1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6368-9510-40FF-BA98-51CB45AF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928-E313-4BE5-B56A-F509A092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8CA4-8AE7-4DD2-99CA-6EE2940D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806B-1686-4E39-AB59-EAD27AE2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C14-F623-4C06-8AE9-D39B26E9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CC4-E215-4F0F-B58E-7B6FE123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FCD-AA3A-4211-ACF2-FAC24776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B202-1BEC-4763-9EEF-EF08EEFB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67F8-2517-430F-9229-47A2C71F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CF0D-63B5-47F0-A8CC-BF8DC37D0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audio" Target="../media/clap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4.xml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ics.skyhits.com/tubby040501/0501/0506/pages/qqbz-12-12_jpg.htm" TargetMode="External"/><Relationship Id="rId2" Type="http://schemas.openxmlformats.org/officeDocument/2006/relationships/hyperlink" Target="http://kids.yam.com/why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341360" y="1268280"/>
            <a:ext cx="6624720" cy="13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微软雅黑"/>
              </a:rPr>
              <a:t>比较水的多少</a:t>
            </a:r>
            <a:endParaRPr b="1" lang="en-US" sz="1800" spc="-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209320" y="59500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cc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7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4303D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4305D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7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4304D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 rot="5400000">
            <a:off x="-1654560" y="3462480"/>
            <a:ext cx="487692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99"/>
                </a:solidFill>
                <a:latin typeface="幼圆"/>
              </a:rPr>
              <a:t>水的单位知多少？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99"/>
              </a:solidFill>
              <a:latin typeface="幼圆"/>
              <a:ea typeface="幼圆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1676520" y="533520"/>
            <a:ext cx="2552760" cy="3178080"/>
            <a:chOff x="1676520" y="533520"/>
            <a:chExt cx="2552760" cy="3178080"/>
          </a:xfrm>
        </p:grpSpPr>
        <p:grpSp>
          <p:nvGrpSpPr>
            <p:cNvPr id="123" name="Group 4"/>
            <p:cNvGrpSpPr/>
            <p:nvPr/>
          </p:nvGrpSpPr>
          <p:grpSpPr>
            <a:xfrm>
              <a:off x="1676520" y="533520"/>
              <a:ext cx="1676160" cy="3178080"/>
              <a:chOff x="1676520" y="533520"/>
              <a:chExt cx="1676160" cy="3178080"/>
            </a:xfrm>
          </p:grpSpPr>
          <p:pic>
            <p:nvPicPr>
              <p:cNvPr id="124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533520"/>
                <a:ext cx="1414440" cy="317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Line 6"/>
              <p:cNvSpPr/>
              <p:nvPr/>
            </p:nvSpPr>
            <p:spPr>
              <a:xfrm>
                <a:off x="2671920" y="1218960"/>
                <a:ext cx="68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WordArt 7"/>
            <p:cNvSpPr txBox="1"/>
            <p:nvPr/>
          </p:nvSpPr>
          <p:spPr>
            <a:xfrm>
              <a:off x="3429360" y="1066680"/>
              <a:ext cx="799920" cy="383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毫升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27" name="Group 8"/>
          <p:cNvGrpSpPr/>
          <p:nvPr/>
        </p:nvGrpSpPr>
        <p:grpSpPr>
          <a:xfrm>
            <a:off x="4952880" y="304920"/>
            <a:ext cx="2819520" cy="1211040"/>
            <a:chOff x="4952880" y="304920"/>
            <a:chExt cx="2819520" cy="1211040"/>
          </a:xfrm>
        </p:grpSpPr>
        <p:sp>
          <p:nvSpPr>
            <p:cNvPr id="128" name="WordArt 9"/>
            <p:cNvSpPr txBox="1"/>
            <p:nvPr/>
          </p:nvSpPr>
          <p:spPr>
            <a:xfrm>
              <a:off x="6781680" y="761760"/>
              <a:ext cx="99072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60</a:t>
              </a: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毫升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grpSp>
          <p:nvGrpSpPr>
            <p:cNvPr id="129" name="Group 10"/>
            <p:cNvGrpSpPr/>
            <p:nvPr/>
          </p:nvGrpSpPr>
          <p:grpSpPr>
            <a:xfrm>
              <a:off x="4952880" y="304920"/>
              <a:ext cx="2819520" cy="1211040"/>
              <a:chOff x="4952880" y="304920"/>
              <a:chExt cx="2819520" cy="1211040"/>
            </a:xfrm>
          </p:grpSpPr>
          <p:sp>
            <p:nvSpPr>
              <p:cNvPr id="130" name="AutoShape 11"/>
              <p:cNvSpPr/>
              <p:nvPr/>
            </p:nvSpPr>
            <p:spPr>
              <a:xfrm>
                <a:off x="6476760" y="533160"/>
                <a:ext cx="152640" cy="914040"/>
              </a:xfrm>
              <a:prstGeom prst="upDownArrow">
                <a:avLst>
                  <a:gd name="adj1" fmla="val 50000"/>
                  <a:gd name="adj2" fmla="val 119764"/>
                </a:avLst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Group 12"/>
              <p:cNvGrpSpPr/>
              <p:nvPr/>
            </p:nvGrpSpPr>
            <p:grpSpPr>
              <a:xfrm>
                <a:off x="4952880" y="304920"/>
                <a:ext cx="2819520" cy="1211040"/>
                <a:chOff x="4952880" y="304920"/>
                <a:chExt cx="2819520" cy="1211040"/>
              </a:xfrm>
            </p:grpSpPr>
            <p:grpSp>
              <p:nvGrpSpPr>
                <p:cNvPr id="132" name="Group 13"/>
                <p:cNvGrpSpPr/>
                <p:nvPr/>
              </p:nvGrpSpPr>
              <p:grpSpPr>
                <a:xfrm>
                  <a:off x="4952880" y="304920"/>
                  <a:ext cx="2743200" cy="1211040"/>
                  <a:chOff x="4952880" y="304920"/>
                  <a:chExt cx="2743200" cy="1211040"/>
                </a:xfrm>
              </p:grpSpPr>
              <p:pic>
                <p:nvPicPr>
                  <p:cNvPr id="133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04920"/>
                    <a:ext cx="1494000" cy="12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4" name="Line 15"/>
                  <p:cNvSpPr/>
                  <p:nvPr/>
                </p:nvSpPr>
                <p:spPr>
                  <a:xfrm>
                    <a:off x="6324480" y="533160"/>
                    <a:ext cx="1371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" name="Line 16"/>
                <p:cNvSpPr/>
                <p:nvPr/>
              </p:nvSpPr>
              <p:spPr>
                <a:xfrm>
                  <a:off x="5790960" y="1447560"/>
                  <a:ext cx="1981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6" name="Group 17"/>
          <p:cNvGrpSpPr/>
          <p:nvPr/>
        </p:nvGrpSpPr>
        <p:grpSpPr>
          <a:xfrm>
            <a:off x="6324480" y="1905120"/>
            <a:ext cx="2286000" cy="2666880"/>
            <a:chOff x="6324480" y="1905120"/>
            <a:chExt cx="2286000" cy="2666880"/>
          </a:xfrm>
        </p:grpSpPr>
        <p:pic>
          <p:nvPicPr>
            <p:cNvPr id="137" name="Object 18" descr=""/>
            <p:cNvPicPr/>
            <p:nvPr/>
          </p:nvPicPr>
          <p:blipFill>
            <a:blip r:embed="rId3"/>
            <a:stretch/>
          </p:blipFill>
          <p:spPr>
            <a:xfrm>
              <a:off x="6324480" y="1905120"/>
              <a:ext cx="228600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WordArt 19"/>
            <p:cNvSpPr txBox="1"/>
            <p:nvPr/>
          </p:nvSpPr>
          <p:spPr>
            <a:xfrm>
              <a:off x="6629040" y="4114800"/>
              <a:ext cx="19814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水表（吨）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39" name="Group 20"/>
          <p:cNvGrpSpPr/>
          <p:nvPr/>
        </p:nvGrpSpPr>
        <p:grpSpPr>
          <a:xfrm>
            <a:off x="1828440" y="4495680"/>
            <a:ext cx="4496040" cy="1962000"/>
            <a:chOff x="1828440" y="4495680"/>
            <a:chExt cx="4496040" cy="1962000"/>
          </a:xfrm>
        </p:grpSpPr>
        <p:grpSp>
          <p:nvGrpSpPr>
            <p:cNvPr id="140" name="Group 21"/>
            <p:cNvGrpSpPr/>
            <p:nvPr/>
          </p:nvGrpSpPr>
          <p:grpSpPr>
            <a:xfrm>
              <a:off x="1828440" y="4495680"/>
              <a:ext cx="2895840" cy="1962000"/>
              <a:chOff x="1828440" y="4495680"/>
              <a:chExt cx="2895840" cy="1962000"/>
            </a:xfrm>
          </p:grpSpPr>
          <p:sp>
            <p:nvSpPr>
              <p:cNvPr id="141" name="Line 22"/>
              <p:cNvSpPr/>
              <p:nvPr/>
            </p:nvSpPr>
            <p:spPr>
              <a:xfrm>
                <a:off x="3733560" y="44956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23"/>
              <p:cNvSpPr/>
              <p:nvPr/>
            </p:nvSpPr>
            <p:spPr>
              <a:xfrm>
                <a:off x="3962160" y="4495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Group 24"/>
              <p:cNvGrpSpPr/>
              <p:nvPr/>
            </p:nvGrpSpPr>
            <p:grpSpPr>
              <a:xfrm>
                <a:off x="1828440" y="4495680"/>
                <a:ext cx="2895840" cy="1962000"/>
                <a:chOff x="1828440" y="4495680"/>
                <a:chExt cx="2895840" cy="1962000"/>
              </a:xfrm>
            </p:grpSpPr>
            <p:sp>
              <p:nvSpPr>
                <p:cNvPr id="144" name="WordArt 25"/>
                <p:cNvSpPr txBox="1"/>
                <p:nvPr/>
              </p:nvSpPr>
              <p:spPr>
                <a:xfrm>
                  <a:off x="3809880" y="4876920"/>
                  <a:ext cx="419040" cy="301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99cc00"/>
                      </a:solidFill>
                      <a:latin typeface="宋体"/>
                    </a:rPr>
                    <a:t>1</a:t>
                  </a: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99cc00"/>
                      </a:solidFill>
                      <a:latin typeface="宋体"/>
                    </a:rPr>
                    <a:t>米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99cc00"/>
                    </a:solidFill>
                    <a:latin typeface="宋体"/>
                    <a:ea typeface="宋体"/>
                  </a:endParaRPr>
                </a:p>
              </p:txBody>
            </p:sp>
            <p:grpSp>
              <p:nvGrpSpPr>
                <p:cNvPr id="145" name="Group 26"/>
                <p:cNvGrpSpPr/>
                <p:nvPr/>
              </p:nvGrpSpPr>
              <p:grpSpPr>
                <a:xfrm>
                  <a:off x="1828440" y="4495680"/>
                  <a:ext cx="2895840" cy="1962000"/>
                  <a:chOff x="1828440" y="4495680"/>
                  <a:chExt cx="2895840" cy="1962000"/>
                </a:xfrm>
              </p:grpSpPr>
              <p:sp>
                <p:nvSpPr>
                  <p:cNvPr id="146" name="Line 27"/>
                  <p:cNvSpPr/>
                  <p:nvPr/>
                </p:nvSpPr>
                <p:spPr>
                  <a:xfrm>
                    <a:off x="3962160" y="53341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7" name="Group 28"/>
                  <p:cNvGrpSpPr/>
                  <p:nvPr/>
                </p:nvGrpSpPr>
                <p:grpSpPr>
                  <a:xfrm>
                    <a:off x="1828440" y="4495680"/>
                    <a:ext cx="2895840" cy="1962000"/>
                    <a:chOff x="1828440" y="4495680"/>
                    <a:chExt cx="2895840" cy="1962000"/>
                  </a:xfrm>
                </p:grpSpPr>
                <p:sp>
                  <p:nvSpPr>
                    <p:cNvPr id="148" name="Line 29"/>
                    <p:cNvSpPr/>
                    <p:nvPr/>
                  </p:nvSpPr>
                  <p:spPr>
                    <a:xfrm>
                      <a:off x="3733560" y="5562720"/>
                      <a:ext cx="381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9" name="Group 30"/>
                    <p:cNvGrpSpPr/>
                    <p:nvPr/>
                  </p:nvGrpSpPr>
                  <p:grpSpPr>
                    <a:xfrm>
                      <a:off x="1828440" y="4495680"/>
                      <a:ext cx="2895840" cy="1962000"/>
                      <a:chOff x="1828440" y="4495680"/>
                      <a:chExt cx="2895840" cy="1962000"/>
                    </a:xfrm>
                  </p:grpSpPr>
                  <p:sp>
                    <p:nvSpPr>
                      <p:cNvPr id="150" name="Line 31"/>
                      <p:cNvSpPr/>
                      <p:nvPr/>
                    </p:nvSpPr>
                    <p:spPr>
                      <a:xfrm>
                        <a:off x="3733560" y="5638680"/>
                        <a:ext cx="0" cy="3812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1" name="Group 32"/>
                      <p:cNvGrpSpPr/>
                      <p:nvPr/>
                    </p:nvGrpSpPr>
                    <p:grpSpPr>
                      <a:xfrm>
                        <a:off x="1828440" y="4495680"/>
                        <a:ext cx="2895840" cy="1962000"/>
                        <a:chOff x="1828440" y="4495680"/>
                        <a:chExt cx="2895840" cy="1962000"/>
                      </a:xfrm>
                    </p:grpSpPr>
                    <p:sp>
                      <p:nvSpPr>
                        <p:cNvPr id="152" name="Line 33"/>
                        <p:cNvSpPr/>
                        <p:nvPr/>
                      </p:nvSpPr>
                      <p:spPr>
                        <a:xfrm flipV="1">
                          <a:off x="3657600" y="5867280"/>
                          <a:ext cx="75960" cy="76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53" name="Group 34"/>
                        <p:cNvGrpSpPr/>
                        <p:nvPr/>
                      </p:nvGrpSpPr>
                      <p:grpSpPr>
                        <a:xfrm>
                          <a:off x="1828440" y="4495680"/>
                          <a:ext cx="2102040" cy="1962000"/>
                          <a:chOff x="1828440" y="4495680"/>
                          <a:chExt cx="2102040" cy="1962000"/>
                        </a:xfrm>
                      </p:grpSpPr>
                      <p:grpSp>
                        <p:nvGrpSpPr>
                          <p:cNvPr id="154" name="Group 35"/>
                          <p:cNvGrpSpPr/>
                          <p:nvPr/>
                        </p:nvGrpSpPr>
                        <p:grpSpPr>
                          <a:xfrm>
                            <a:off x="1828440" y="4495680"/>
                            <a:ext cx="1905120" cy="1828800"/>
                            <a:chOff x="1828440" y="4495680"/>
                            <a:chExt cx="1905120" cy="1828800"/>
                          </a:xfrm>
                        </p:grpSpPr>
                        <p:sp>
                          <p:nvSpPr>
                            <p:cNvPr id="155" name="Line 36"/>
                            <p:cNvSpPr/>
                            <p:nvPr/>
                          </p:nvSpPr>
                          <p:spPr>
                            <a:xfrm flipV="1">
                              <a:off x="3352680" y="6019560"/>
                              <a:ext cx="152280" cy="15228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round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56" name="Group 37"/>
                            <p:cNvGrpSpPr/>
                            <p:nvPr/>
                          </p:nvGrpSpPr>
                          <p:grpSpPr>
                            <a:xfrm>
                              <a:off x="1828440" y="4495680"/>
                              <a:ext cx="1905120" cy="1828800"/>
                              <a:chOff x="1828440" y="4495680"/>
                              <a:chExt cx="1905120" cy="1828800"/>
                            </a:xfrm>
                          </p:grpSpPr>
                          <p:sp>
                            <p:nvSpPr>
                              <p:cNvPr id="157" name="Line 38"/>
                              <p:cNvSpPr/>
                              <p:nvPr/>
                            </p:nvSpPr>
                            <p:spPr>
                              <a:xfrm>
                                <a:off x="3352680" y="5943600"/>
                                <a:ext cx="0" cy="3808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58" name="Group 39"/>
                              <p:cNvGrpSpPr/>
                              <p:nvPr/>
                            </p:nvGrpSpPr>
                            <p:grpSpPr>
                              <a:xfrm>
                                <a:off x="1828440" y="4495680"/>
                                <a:ext cx="1905120" cy="1828800"/>
                                <a:chOff x="1828440" y="4495680"/>
                                <a:chExt cx="1905120" cy="1828800"/>
                              </a:xfrm>
                            </p:grpSpPr>
                            <p:sp>
                              <p:nvSpPr>
                                <p:cNvPr id="159" name="Line 40"/>
                                <p:cNvSpPr/>
                                <p:nvPr/>
                              </p:nvSpPr>
                              <p:spPr>
                                <a:xfrm>
                                  <a:off x="2895480" y="6172200"/>
                                  <a:ext cx="45720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60" name="Group 41"/>
                                <p:cNvGrpSpPr/>
                                <p:nvPr/>
                              </p:nvGrpSpPr>
                              <p:grpSpPr>
                                <a:xfrm>
                                  <a:off x="1828440" y="4495680"/>
                                  <a:ext cx="1905120" cy="1828800"/>
                                  <a:chOff x="1828440" y="4495680"/>
                                  <a:chExt cx="1905120" cy="1828800"/>
                                </a:xfrm>
                              </p:grpSpPr>
                              <p:grpSp>
                                <p:nvGrpSpPr>
                                  <p:cNvPr id="161" name="Group 42"/>
                                  <p:cNvGrpSpPr/>
                                  <p:nvPr/>
                                </p:nvGrpSpPr>
                                <p:grpSpPr>
                                  <a:xfrm>
                                    <a:off x="1828440" y="4495680"/>
                                    <a:ext cx="1905120" cy="1828800"/>
                                    <a:chOff x="1828440" y="4495680"/>
                                    <a:chExt cx="1905120" cy="1828800"/>
                                  </a:xfrm>
                                </p:grpSpPr>
                                <p:grpSp>
                                  <p:nvGrpSpPr>
                                    <p:cNvPr id="162" name="Group 43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828800" y="4495680"/>
                                      <a:ext cx="1904760" cy="1828800"/>
                                      <a:chOff x="1828800" y="4495680"/>
                                      <a:chExt cx="1904760" cy="1828800"/>
                                    </a:xfrm>
                                  </p:grpSpPr>
                                  <p:sp>
                                    <p:nvSpPr>
                                      <p:cNvPr id="163" name="AutoShape 44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828800" y="4495680"/>
                                        <a:ext cx="1904760" cy="1447920"/>
                                      </a:xfrm>
                                      <a:prstGeom prst="cube">
                                        <a:avLst>
                                          <a:gd name="adj" fmla="val 25000"/>
                                        </a:avLst>
                                      </a:prstGeom>
                                      <a:solidFill>
                                        <a:srgbClr val="99cc00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lIns="90000" rIns="90000" tIns="46800" bIns="46800" anchor="ctr">
                                        <a:noAutofit/>
                                      </a:bodyPr>
                                      <a:p>
                                        <a:pPr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164" name="Line 45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828800" y="5943600"/>
                                        <a:ext cx="0" cy="38088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165" name="Line 46"/>
                                    <p:cNvSpPr/>
                                    <p:nvPr/>
                                  </p:nvSpPr>
                                  <p:spPr>
                                    <a:xfrm flipH="1">
                                      <a:off x="1828440" y="6172200"/>
                                      <a:ext cx="533160" cy="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round/>
                                      <a:tailEnd len="med" type="triangle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166" name="WordArt 47"/>
                                  <p:cNvSpPr txBox="1"/>
                                  <p:nvPr/>
                                </p:nvSpPr>
                                <p:spPr>
                                  <a:xfrm>
                                    <a:off x="2361960" y="6019920"/>
                                    <a:ext cx="419400" cy="301680"/>
                                  </a:xfrm>
                                  <a:prstGeom prst="rect">
                                    <a:avLst/>
                                  </a:prstGeom>
                                </p:spPr>
                                <p:txBody>
                                  <a:bodyPr wrap="none" lIns="90000" rIns="90000" tIns="46800" bIns="46800" anchor="t" anchorCtr="1">
                                    <a:prstTxWarp prst="textPlain">
                                      <a:avLst>
                                        <a:gd name="adj" fmla="val 50000"/>
                                      </a:avLst>
                                    </a:prstTxWarp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n-US" sz="1800" spc="1" strike="noStrike"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round/>
                                        </a:ln>
                                        <a:solidFill>
                                          <a:srgbClr val="99cc00"/>
                                        </a:solidFill>
                                        <a:latin typeface="宋体"/>
                                      </a:rPr>
                                      <a:t>1</a:t>
                                    </a:r>
                                    <a:r>
                                      <a:rPr b="0" lang="zh-CN" sz="1800" spc="1" strike="noStrike"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round/>
                                        </a:ln>
                                        <a:solidFill>
                                          <a:srgbClr val="99cc00"/>
                                        </a:solidFill>
                                        <a:latin typeface="宋体"/>
                                      </a:rPr>
                                      <a:t>米</a:t>
                                    </a:r>
                                    <a:endParaRPr b="0" lang="en-US" sz="1800" spc="1" strike="noStrike">
                                      <a:ln w="9360">
                                        <a:solidFill>
                                          <a:srgbClr val="000000"/>
                                        </a:solidFill>
                                        <a:round/>
                                      </a:ln>
                                      <a:solidFill>
                                        <a:srgbClr val="99cc00"/>
                                      </a:solidFill>
                                      <a:latin typeface="宋体"/>
                                      <a:ea typeface="宋体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</p:grpSp>
                      <p:sp>
                        <p:nvSpPr>
                          <p:cNvPr id="167" name="WordArt 48"/>
                          <p:cNvSpPr txBox="1"/>
                          <p:nvPr/>
                        </p:nvSpPr>
                        <p:spPr>
                          <a:xfrm rot="19639800">
                            <a:off x="3352680" y="6095520"/>
                            <a:ext cx="560520" cy="228600"/>
                          </a:xfrm>
                          <a:prstGeom prst="rect">
                            <a:avLst/>
                          </a:prstGeom>
                        </p:spPr>
                        <p:txBody>
                          <a:bodyPr wrap="none" lIns="90000" rIns="90000" tIns="46800" bIns="46800" anchor="t" anchorCtr="1">
                            <a:prstTxWarp prst="textPlain">
                              <a:avLst>
                                <a:gd name="adj" fmla="val 50000"/>
                              </a:avLst>
                            </a:prstTxWarp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800" spc="1" strike="noStrike"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  <a:solidFill>
                                  <a:srgbClr val="99cc00"/>
                                </a:solidFill>
                                <a:latin typeface="宋体"/>
                              </a:rPr>
                              <a:t>1</a:t>
                            </a:r>
                            <a:r>
                              <a:rPr b="0" lang="zh-CN" sz="1800" spc="1" strike="noStrike"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  <a:solidFill>
                                  <a:srgbClr val="99cc00"/>
                                </a:solidFill>
                                <a:latin typeface="宋体"/>
                              </a:rPr>
                              <a:t>米</a:t>
                            </a:r>
                            <a:endParaRPr b="0" lang="en-US" sz="1800" spc="1" strike="noStrike"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  <a:solidFill>
                                <a:srgbClr val="99cc00"/>
                              </a:solidFill>
                              <a:latin typeface="宋体"/>
                              <a:ea typeface="宋体"/>
                            </a:endParaRPr>
                          </a:p>
                        </p:txBody>
                      </p:sp>
                    </p:grpSp>
                    <p:sp>
                      <p:nvSpPr>
                        <p:cNvPr id="168" name="AutoShape 49"/>
                        <p:cNvSpPr/>
                        <p:nvPr/>
                      </p:nvSpPr>
                      <p:spPr>
                        <a:xfrm>
                          <a:off x="4267080" y="4495680"/>
                          <a:ext cx="457200" cy="1752840"/>
                        </a:xfrm>
                        <a:custGeom>
                          <a:avLst/>
                          <a:gdLst>
                            <a:gd name="textAreaLeft" fmla="*/ 0 w 457200"/>
                            <a:gd name="textAreaRight" fmla="*/ 164880 w 457200"/>
                            <a:gd name="textAreaTop" fmla="*/ 45360 h 1752840"/>
                            <a:gd name="textAreaBottom" fmla="*/ 1707480 h 17528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799"/>
                              </a:cubicBezTo>
                              <a:lnTo>
                                <a:pt x="10800" y="9001"/>
                              </a:lnTo>
                              <a:cubicBezTo>
                                <a:pt x="10800" y="9901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599"/>
                              </a:cubicBezTo>
                              <a:lnTo>
                                <a:pt x="10800" y="19801"/>
                              </a:lnTo>
                              <a:cubicBezTo>
                                <a:pt x="10800" y="20701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solidFill>
                          <a:srgbClr val="99cc0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sp>
          <p:nvSpPr>
            <p:cNvPr id="169" name="WordArt 50"/>
            <p:cNvSpPr txBox="1"/>
            <p:nvPr/>
          </p:nvSpPr>
          <p:spPr>
            <a:xfrm>
              <a:off x="4724280" y="5181480"/>
              <a:ext cx="1600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99cc00"/>
                  </a:solidFill>
                  <a:latin typeface="宋体"/>
                </a:rPr>
                <a:t>1</a:t>
              </a: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99cc00"/>
                  </a:solidFill>
                  <a:latin typeface="宋体"/>
                </a:rPr>
                <a:t>立方米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70" name="AutoShape 51"/>
          <p:cNvSpPr/>
          <p:nvPr/>
        </p:nvSpPr>
        <p:spPr>
          <a:xfrm>
            <a:off x="755640" y="765000"/>
            <a:ext cx="838080" cy="762120"/>
          </a:xfrm>
          <a:prstGeom prst="smileyFace">
            <a:avLst>
              <a:gd name="adj" fmla="val 4653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560" y="1915920"/>
            <a:ext cx="792360" cy="2881080"/>
          </a:xfrm>
          <a:prstGeom prst="rect">
            <a:avLst/>
          </a:prstGeom>
          <a:solidFill>
            <a:srgbClr val="99cc00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温馨提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484360" y="1413000"/>
            <a:ext cx="46087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杯里的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水不要洒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使用量筒要十分小心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不要摔破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量筒要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平放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眼睛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平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，与水的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凹液面的最低处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保持水平再读数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记录员不要忘记及时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记录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你们的实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结果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2" descr="028-2-1"/>
          <p:cNvPicPr/>
          <p:nvPr/>
        </p:nvPicPr>
        <p:blipFill>
          <a:blip r:embed="rId1"/>
          <a:stretch/>
        </p:blipFill>
        <p:spPr>
          <a:xfrm>
            <a:off x="900000" y="2050920"/>
            <a:ext cx="6840720" cy="48340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>
            <a:off x="466560" y="10994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应把量筒放在平整的桌面上，观察刻度时，视线与量筒内液体的凹液面的最低处保持水平，再读出液体的体积数。否则，读数会偏高或偏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290240" y="5076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经典综艺体简"/>
              </a:rPr>
              <a:t>怎样读出所取液体的体积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1086120" y="376920"/>
            <a:ext cx="4669920" cy="6145200"/>
            <a:chOff x="1086120" y="376920"/>
            <a:chExt cx="4669920" cy="6145200"/>
          </a:xfrm>
        </p:grpSpPr>
        <p:grpSp>
          <p:nvGrpSpPr>
            <p:cNvPr id="177" name="Group 3"/>
            <p:cNvGrpSpPr/>
            <p:nvPr/>
          </p:nvGrpSpPr>
          <p:grpSpPr>
            <a:xfrm>
              <a:off x="1086120" y="376920"/>
              <a:ext cx="4669920" cy="6145200"/>
              <a:chOff x="1086120" y="376920"/>
              <a:chExt cx="4669920" cy="6145200"/>
            </a:xfrm>
          </p:grpSpPr>
          <p:grpSp>
            <p:nvGrpSpPr>
              <p:cNvPr id="178" name="Group 4"/>
              <p:cNvGrpSpPr/>
              <p:nvPr/>
            </p:nvGrpSpPr>
            <p:grpSpPr>
              <a:xfrm>
                <a:off x="1086120" y="376920"/>
                <a:ext cx="4669920" cy="6145200"/>
                <a:chOff x="1086120" y="376920"/>
                <a:chExt cx="4669920" cy="6145200"/>
              </a:xfrm>
            </p:grpSpPr>
            <p:grpSp>
              <p:nvGrpSpPr>
                <p:cNvPr id="179" name="Group 5"/>
                <p:cNvGrpSpPr/>
                <p:nvPr/>
              </p:nvGrpSpPr>
              <p:grpSpPr>
                <a:xfrm>
                  <a:off x="1086120" y="376920"/>
                  <a:ext cx="4669920" cy="6145200"/>
                  <a:chOff x="1086120" y="376920"/>
                  <a:chExt cx="4669920" cy="6145200"/>
                </a:xfrm>
              </p:grpSpPr>
              <p:sp>
                <p:nvSpPr>
                  <p:cNvPr id="180" name="AutoShape 6"/>
                  <p:cNvSpPr/>
                  <p:nvPr/>
                </p:nvSpPr>
                <p:spPr>
                  <a:xfrm rot="502800">
                    <a:off x="1476000" y="630000"/>
                    <a:ext cx="3889440" cy="5638680"/>
                  </a:xfrm>
                  <a:prstGeom prst="foldedCorner">
                    <a:avLst>
                      <a:gd name="adj" fmla="val 125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WordArt 7"/>
                  <p:cNvSpPr txBox="1"/>
                  <p:nvPr/>
                </p:nvSpPr>
                <p:spPr>
                  <a:xfrm rot="502800">
                    <a:off x="2883960" y="1027800"/>
                    <a:ext cx="1627200" cy="4568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1" strike="noStrike">
                        <a:ln w="9360">
                          <a:solidFill>
                            <a:srgbClr val="bbe0e3"/>
                          </a:solidFill>
                          <a:round/>
                        </a:ln>
                        <a:solidFill>
                          <a:srgbClr val="bbe0e3"/>
                        </a:solidFill>
                        <a:latin typeface="隶书"/>
                      </a:rPr>
                      <a:t>实验记录</a:t>
                    </a:r>
                    <a:endParaRPr b="0" lang="en-US" sz="1800" spc="1" strike="noStrike">
                      <a:ln w="9360">
                        <a:solidFill>
                          <a:srgbClr val="bbe0e3"/>
                        </a:solidFill>
                        <a:round/>
                      </a:ln>
                      <a:solidFill>
                        <a:srgbClr val="bbe0e3"/>
                      </a:solidFill>
                      <a:latin typeface="隶书"/>
                      <a:ea typeface="隶书"/>
                    </a:endParaRPr>
                  </a:p>
                </p:txBody>
              </p:sp>
            </p:grpSp>
            <p:sp>
              <p:nvSpPr>
                <p:cNvPr id="182" name="WordArt 8"/>
                <p:cNvSpPr txBox="1"/>
                <p:nvPr/>
              </p:nvSpPr>
              <p:spPr>
                <a:xfrm rot="502800">
                  <a:off x="1824480" y="1705680"/>
                  <a:ext cx="1446840" cy="4345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宋体"/>
                    </a:rPr>
                    <a:t>、材料：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  <a:ea typeface="宋体"/>
                  </a:endParaRPr>
                </a:p>
              </p:txBody>
            </p:sp>
          </p:grpSp>
          <p:sp>
            <p:nvSpPr>
              <p:cNvPr id="183" name="WordArt 9"/>
              <p:cNvSpPr txBox="1"/>
              <p:nvPr/>
            </p:nvSpPr>
            <p:spPr>
              <a:xfrm rot="502800">
                <a:off x="1594080" y="2778840"/>
                <a:ext cx="1834920" cy="520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</a:rPr>
                  <a:t>2</a:t>
                </a: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</a:rPr>
                  <a:t>、采用的方法：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184" name="WordArt 10"/>
            <p:cNvSpPr txBox="1"/>
            <p:nvPr/>
          </p:nvSpPr>
          <p:spPr>
            <a:xfrm rot="502800">
              <a:off x="1455480" y="4284360"/>
              <a:ext cx="372960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、结论：（ ）号瓶水多。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85" name="Group 11"/>
          <p:cNvGrpSpPr/>
          <p:nvPr/>
        </p:nvGrpSpPr>
        <p:grpSpPr>
          <a:xfrm>
            <a:off x="5651640" y="3657600"/>
            <a:ext cx="2057040" cy="2133360"/>
            <a:chOff x="5651640" y="3657600"/>
            <a:chExt cx="2057040" cy="2133360"/>
          </a:xfrm>
        </p:grpSpPr>
        <p:pic>
          <p:nvPicPr>
            <p:cNvPr id="186" name="Picture 12" descr="index_47"/>
            <p:cNvPicPr/>
            <p:nvPr/>
          </p:nvPicPr>
          <p:blipFill>
            <a:blip r:embed="rId1"/>
            <a:stretch/>
          </p:blipFill>
          <p:spPr>
            <a:xfrm>
              <a:off x="5651640" y="5244840"/>
              <a:ext cx="205704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" name="Group 13"/>
            <p:cNvGrpSpPr/>
            <p:nvPr/>
          </p:nvGrpSpPr>
          <p:grpSpPr>
            <a:xfrm>
              <a:off x="5651640" y="3657600"/>
              <a:ext cx="2056680" cy="1636560"/>
              <a:chOff x="5651640" y="3657600"/>
              <a:chExt cx="2056680" cy="1636560"/>
            </a:xfrm>
          </p:grpSpPr>
          <p:pic>
            <p:nvPicPr>
              <p:cNvPr id="188" name="Picture 14" descr="index_25"/>
              <p:cNvPicPr/>
              <p:nvPr/>
            </p:nvPicPr>
            <p:blipFill>
              <a:blip r:embed="rId2"/>
              <a:stretch/>
            </p:blipFill>
            <p:spPr>
              <a:xfrm>
                <a:off x="5651640" y="3657600"/>
                <a:ext cx="2056680" cy="109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Picture 15" descr="index_36"/>
              <p:cNvPicPr/>
              <p:nvPr/>
            </p:nvPicPr>
            <p:blipFill>
              <a:blip r:embed="rId3"/>
              <a:stretch/>
            </p:blipFill>
            <p:spPr>
              <a:xfrm>
                <a:off x="5651640" y="4748760"/>
                <a:ext cx="2026800" cy="54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0" name="WordArt 16"/>
          <p:cNvSpPr txBox="1"/>
          <p:nvPr/>
        </p:nvSpPr>
        <p:spPr>
          <a:xfrm>
            <a:off x="5651640" y="2421000"/>
            <a:ext cx="29527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bbe0e3"/>
                  </a:solidFill>
                  <a:round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成功啦！</a:t>
            </a:r>
            <a:endParaRPr b="0" lang="en-US" sz="1800" spc="1" strike="noStrike">
              <a:ln w="9360">
                <a:solidFill>
                  <a:srgbClr val="bbe0e3"/>
                </a:solidFill>
                <a:round/>
              </a:ln>
              <a:solidFill>
                <a:srgbClr val="ff99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3043080" y="549360"/>
            <a:ext cx="28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比较水的多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记录表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025680" y="1700280"/>
            <a:ext cx="144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（         ） 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430360" y="2708280"/>
            <a:ext cx="4084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组的猜测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号瓶的水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实验知道了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号瓶的水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2723040" y="549360"/>
            <a:ext cx="34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比较水的多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记录表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42920" y="2708280"/>
          <a:ext cx="6994440" cy="1449360"/>
        </p:xfrm>
        <a:graphic>
          <a:graphicData uri="http://schemas.openxmlformats.org/drawingml/2006/table">
            <a:tbl>
              <a:tblPr/>
              <a:tblGrid>
                <a:gridCol w="2332080"/>
                <a:gridCol w="2330280"/>
                <a:gridCol w="2332080"/>
              </a:tblGrid>
              <a:tr h="72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瓶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水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Text Box 22"/>
          <p:cNvSpPr/>
          <p:nvPr/>
        </p:nvSpPr>
        <p:spPr>
          <a:xfrm>
            <a:off x="3255840" y="1360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用量筒测量的结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997560" y="4724280"/>
            <a:ext cx="717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小组得出的结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瓶的水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瓶的水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95280" y="1557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医生告诉我们：人每天喝水的量不能少于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0ml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老师昨天用自己的水杯喝了两杯，这认为够不够？怎样才能知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米老鼠7"/>
          <p:cNvPicPr/>
          <p:nvPr/>
        </p:nvPicPr>
        <p:blipFill>
          <a:blip r:embed="rId1"/>
          <a:stretch/>
        </p:blipFill>
        <p:spPr>
          <a:xfrm>
            <a:off x="0" y="3933720"/>
            <a:ext cx="21956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台"/>
          <p:cNvPicPr/>
          <p:nvPr/>
        </p:nvPicPr>
        <p:blipFill>
          <a:blip r:embed="rId1"/>
          <a:stretch/>
        </p:blipFill>
        <p:spPr>
          <a:xfrm>
            <a:off x="1258920" y="4778280"/>
            <a:ext cx="6912000" cy="1387440"/>
          </a:xfrm>
          <a:prstGeom prst="rect">
            <a:avLst/>
          </a:prstGeom>
          <a:ln w="0">
            <a:noFill/>
          </a:ln>
        </p:spPr>
      </p:pic>
      <p:sp>
        <p:nvSpPr>
          <p:cNvPr id="52" name="WordArt 3"/>
          <p:cNvSpPr txBox="1"/>
          <p:nvPr/>
        </p:nvSpPr>
        <p:spPr>
          <a:xfrm>
            <a:off x="1332000" y="907920"/>
            <a:ext cx="6705360" cy="4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latin typeface="华文彩云"/>
              </a:rPr>
              <a:t>比一比，哪个瓶子的水多？</a:t>
            </a:r>
            <a:endParaRPr b="0" lang="en-US" sz="1800" spc="1" strike="noStrike">
              <a:ln w="9360">
                <a:solidFill>
                  <a:srgbClr val="333399"/>
                </a:solidFill>
                <a:round/>
              </a:ln>
              <a:solidFill>
                <a:srgbClr val="333399"/>
              </a:solidFill>
              <a:latin typeface="华文彩云"/>
              <a:ea typeface="华文彩云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1839960" y="2500200"/>
            <a:ext cx="1219320" cy="4168800"/>
            <a:chOff x="1839960" y="2500200"/>
            <a:chExt cx="1219320" cy="4168800"/>
          </a:xfrm>
        </p:grpSpPr>
        <p:pic>
          <p:nvPicPr>
            <p:cNvPr id="54" name="Object 5" descr=""/>
            <p:cNvPicPr/>
            <p:nvPr/>
          </p:nvPicPr>
          <p:blipFill>
            <a:blip r:embed="rId2"/>
            <a:stretch/>
          </p:blipFill>
          <p:spPr>
            <a:xfrm>
              <a:off x="2055960" y="2500200"/>
              <a:ext cx="731520" cy="27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WordArt 6"/>
            <p:cNvSpPr txBox="1"/>
            <p:nvPr/>
          </p:nvSpPr>
          <p:spPr>
            <a:xfrm>
              <a:off x="1839960" y="6211800"/>
              <a:ext cx="12193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中宋"/>
                </a:rPr>
                <a:t>（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中宋"/>
                </a:rPr>
                <a:t>1</a:t>
              </a: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中宋"/>
                </a:rPr>
                <a:t>）号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3708360" y="2552760"/>
            <a:ext cx="1219320" cy="4070160"/>
            <a:chOff x="3708360" y="2552760"/>
            <a:chExt cx="1219320" cy="4070160"/>
          </a:xfrm>
        </p:grpSpPr>
        <p:pic>
          <p:nvPicPr>
            <p:cNvPr id="57" name="Picture 9" descr="瓶"/>
            <p:cNvPicPr/>
            <p:nvPr/>
          </p:nvPicPr>
          <p:blipFill>
            <a:blip r:embed="rId3"/>
            <a:stretch/>
          </p:blipFill>
          <p:spPr>
            <a:xfrm>
              <a:off x="3851280" y="2552760"/>
              <a:ext cx="7192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WordArt 10"/>
            <p:cNvSpPr txBox="1"/>
            <p:nvPr/>
          </p:nvSpPr>
          <p:spPr>
            <a:xfrm>
              <a:off x="3708360" y="6165720"/>
              <a:ext cx="12193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中宋"/>
                </a:rPr>
                <a:t>（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中宋"/>
                </a:rPr>
                <a:t>2</a:t>
              </a: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中宋"/>
                </a:rPr>
                <a:t>）号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5724360" y="2492280"/>
            <a:ext cx="1219320" cy="4130640"/>
            <a:chOff x="5724360" y="2492280"/>
            <a:chExt cx="1219320" cy="4130640"/>
          </a:xfrm>
        </p:grpSpPr>
        <p:pic>
          <p:nvPicPr>
            <p:cNvPr id="60" name="Picture 12" descr="瓶"/>
            <p:cNvPicPr/>
            <p:nvPr/>
          </p:nvPicPr>
          <p:blipFill>
            <a:blip r:embed="rId4"/>
            <a:stretch/>
          </p:blipFill>
          <p:spPr>
            <a:xfrm>
              <a:off x="5724360" y="2492280"/>
              <a:ext cx="117972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WordArt 13"/>
            <p:cNvSpPr txBox="1"/>
            <p:nvPr/>
          </p:nvSpPr>
          <p:spPr>
            <a:xfrm>
              <a:off x="5724360" y="6165720"/>
              <a:ext cx="12193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中宋"/>
                </a:rPr>
                <a:t>（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中宋"/>
                </a:rPr>
                <a:t>3</a:t>
              </a: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中宋"/>
                </a:rPr>
                <a:t>）号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</p:grpSp>
      <p:sp>
        <p:nvSpPr>
          <p:cNvPr id="62" name="AutoShape 14">
            <a:hlinkClick r:id="rId5" action="ppaction://hlinksldjump"/>
          </p:cNvPr>
          <p:cNvSpPr/>
          <p:nvPr/>
        </p:nvSpPr>
        <p:spPr>
          <a:xfrm>
            <a:off x="831708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  <p:sndAc>
      <p:stSnd>
        <p:snd r:embed="rId6" name="drumroll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1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611280" y="1268280"/>
            <a:ext cx="78501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家量一量你爸爸、妈妈喝水的杯能装多少水，了解他们每天喝水的量够不够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0ml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0ad956b43b3f4cd837d3caab"/>
          <p:cNvPicPr/>
          <p:nvPr/>
        </p:nvPicPr>
        <p:blipFill>
          <a:blip r:embed="rId1"/>
          <a:stretch/>
        </p:blipFill>
        <p:spPr>
          <a:xfrm>
            <a:off x="900000" y="-243000"/>
            <a:ext cx="6815160" cy="7344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goods008100419"/>
          <p:cNvPicPr/>
          <p:nvPr/>
        </p:nvPicPr>
        <p:blipFill>
          <a:blip r:embed="rId2"/>
          <a:stretch/>
        </p:blipFill>
        <p:spPr>
          <a:xfrm>
            <a:off x="641520" y="158760"/>
            <a:ext cx="8178480" cy="6804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f4e9e41e7acccf06413417ff"/>
          <p:cNvPicPr/>
          <p:nvPr/>
        </p:nvPicPr>
        <p:blipFill>
          <a:blip r:embed="rId3"/>
          <a:stretch/>
        </p:blipFill>
        <p:spPr>
          <a:xfrm>
            <a:off x="2484360" y="0"/>
            <a:ext cx="4537080" cy="7416720"/>
          </a:xfrm>
          <a:prstGeom prst="rect">
            <a:avLst/>
          </a:prstGeom>
          <a:ln w="0">
            <a:noFill/>
          </a:ln>
        </p:spPr>
      </p:pic>
      <p:sp>
        <p:nvSpPr>
          <p:cNvPr id="205" name="文本框 1"/>
          <p:cNvSpPr/>
          <p:nvPr/>
        </p:nvSpPr>
        <p:spPr>
          <a:xfrm>
            <a:off x="900000" y="892080"/>
            <a:ext cx="59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WordArt 5"/>
          <p:cNvSpPr txBox="1"/>
          <p:nvPr/>
        </p:nvSpPr>
        <p:spPr>
          <a:xfrm>
            <a:off x="2843280" y="1341360"/>
            <a:ext cx="39384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8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谢谢观赏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ED51-3921-459B-993A-EDA1218C4B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560" y="1915920"/>
            <a:ext cx="792360" cy="2881080"/>
          </a:xfrm>
          <a:prstGeom prst="rect">
            <a:avLst/>
          </a:prstGeom>
          <a:solidFill>
            <a:srgbClr val="99cc00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温馨提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484360" y="1413000"/>
            <a:ext cx="46087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瓶里的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水不要洒了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比较时要将两个杯子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平放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靠近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在杯子上作上记号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不要调换了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眼睛要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平视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杯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记录员不要忘记及时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记录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你们的实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结果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>
            <a:hlinkClick r:id="" action="ppaction://hlinkshowjump?jump=previousslide"/>
          </p:cNvPr>
          <p:cNvSpPr/>
          <p:nvPr/>
        </p:nvSpPr>
        <p:spPr>
          <a:xfrm>
            <a:off x="7740720" y="595008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1628640"/>
            <a:ext cx="7704360" cy="388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be0e3"/>
                </a:solidFill>
                <a:latin typeface="Arial"/>
              </a:rPr>
              <a:t>瓶子相同，水位高的（    ）。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bbe0e3"/>
                </a:solidFill>
                <a:latin typeface="Arial"/>
              </a:rPr>
              <a:t>水位相同，瓶子大的（    ）。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Object 3" descr=""/>
          <p:cNvPicPr/>
          <p:nvPr/>
        </p:nvPicPr>
        <p:blipFill>
          <a:blip r:embed="rId1"/>
          <a:stretch/>
        </p:blipFill>
        <p:spPr>
          <a:xfrm>
            <a:off x="1065240" y="2874960"/>
            <a:ext cx="2819520" cy="197640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4"/>
          <p:cNvGrpSpPr/>
          <p:nvPr/>
        </p:nvGrpSpPr>
        <p:grpSpPr>
          <a:xfrm>
            <a:off x="6372360" y="1628640"/>
            <a:ext cx="838080" cy="609480"/>
            <a:chOff x="6372360" y="1628640"/>
            <a:chExt cx="838080" cy="609480"/>
          </a:xfrm>
        </p:grpSpPr>
        <p:sp>
          <p:nvSpPr>
            <p:cNvPr id="69" name="AutoShape 5"/>
            <p:cNvSpPr/>
            <p:nvPr/>
          </p:nvSpPr>
          <p:spPr>
            <a:xfrm>
              <a:off x="6372360" y="1628640"/>
              <a:ext cx="838080" cy="609480"/>
            </a:xfrm>
            <a:custGeom>
              <a:avLst/>
              <a:gdLst>
                <a:gd name="textAreaLeft" fmla="*/ 39240 w 838080"/>
                <a:gd name="textAreaRight" fmla="*/ 798840 w 83808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9697" h="21600">
                  <a:moveTo>
                    <a:pt x="0" y="0"/>
                  </a:moveTo>
                  <a:lnTo>
                    <a:pt x="29697" y="0"/>
                  </a:lnTo>
                  <a:lnTo>
                    <a:pt x="29697" y="21600"/>
                  </a:lnTo>
                  <a:lnTo>
                    <a:pt x="0" y="21600"/>
                  </a:lnTo>
                  <a:close/>
                </a:path>
                <a:path fill="lightenLess" w="29697" h="21600">
                  <a:moveTo>
                    <a:pt x="0" y="0"/>
                  </a:moveTo>
                  <a:lnTo>
                    <a:pt x="29697" y="0"/>
                  </a:lnTo>
                  <a:lnTo>
                    <a:pt x="28297" y="1400"/>
                  </a:lnTo>
                  <a:lnTo>
                    <a:pt x="1400" y="1400"/>
                  </a:lnTo>
                  <a:close/>
                </a:path>
                <a:path fill="darken" w="29697" h="21600">
                  <a:moveTo>
                    <a:pt x="29697" y="0"/>
                  </a:moveTo>
                  <a:lnTo>
                    <a:pt x="29697" y="21600"/>
                  </a:lnTo>
                  <a:lnTo>
                    <a:pt x="28297" y="20200"/>
                  </a:lnTo>
                  <a:lnTo>
                    <a:pt x="28297" y="1400"/>
                  </a:lnTo>
                  <a:close/>
                </a:path>
                <a:path fill="darkenLess" w="29697" h="21600">
                  <a:moveTo>
                    <a:pt x="2969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97" y="20200"/>
                  </a:lnTo>
                  <a:close/>
                </a:path>
                <a:path fill="lighten" w="2969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WordArt 6"/>
            <p:cNvSpPr txBox="1"/>
            <p:nvPr/>
          </p:nvSpPr>
          <p:spPr>
            <a:xfrm>
              <a:off x="6532560" y="169344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9900"/>
                    </a:solidFill>
                    <a:round/>
                  </a:ln>
                  <a:solidFill>
                    <a:srgbClr val="ff0000"/>
                  </a:solidFill>
                  <a:latin typeface="宋体"/>
                </a:rPr>
                <a:t>多</a:t>
              </a:r>
              <a:endParaRPr b="0" lang="en-US" sz="1800" spc="1" strike="noStrike">
                <a:ln w="9360">
                  <a:solidFill>
                    <a:srgbClr val="ff9900"/>
                  </a:solidFill>
                  <a:round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71" name="Group 7"/>
          <p:cNvGrpSpPr/>
          <p:nvPr/>
        </p:nvGrpSpPr>
        <p:grpSpPr>
          <a:xfrm>
            <a:off x="1403280" y="260280"/>
            <a:ext cx="5398560" cy="720360"/>
            <a:chOff x="1403280" y="260280"/>
            <a:chExt cx="5398560" cy="720360"/>
          </a:xfrm>
        </p:grpSpPr>
        <p:sp>
          <p:nvSpPr>
            <p:cNvPr id="72" name="AutoShape 8"/>
            <p:cNvSpPr/>
            <p:nvPr/>
          </p:nvSpPr>
          <p:spPr>
            <a:xfrm>
              <a:off x="1403280" y="260280"/>
              <a:ext cx="5398560" cy="720360"/>
            </a:xfrm>
            <a:custGeom>
              <a:avLst/>
              <a:gdLst>
                <a:gd name="textAreaLeft" fmla="*/ 46440 w 5398560"/>
                <a:gd name="textAreaRight" fmla="*/ 5352120 w 5398560"/>
                <a:gd name="textAreaTop" fmla="*/ 46440 h 720360"/>
                <a:gd name="textAreaBottom" fmla="*/ 673920 h 720360"/>
              </a:gdLst>
              <a:ahLst/>
              <a:rect l="textAreaLeft" t="textAreaTop" r="textAreaRight" b="textAreaBottom"/>
              <a:pathLst>
                <a:path w="161806" h="21600">
                  <a:moveTo>
                    <a:pt x="0" y="0"/>
                  </a:moveTo>
                  <a:lnTo>
                    <a:pt x="161806" y="0"/>
                  </a:lnTo>
                  <a:lnTo>
                    <a:pt x="161806" y="21600"/>
                  </a:lnTo>
                  <a:lnTo>
                    <a:pt x="0" y="21600"/>
                  </a:lnTo>
                  <a:close/>
                </a:path>
                <a:path fill="lightenLess" w="161806" h="21600">
                  <a:moveTo>
                    <a:pt x="0" y="0"/>
                  </a:moveTo>
                  <a:lnTo>
                    <a:pt x="161806" y="0"/>
                  </a:lnTo>
                  <a:lnTo>
                    <a:pt x="160406" y="1400"/>
                  </a:lnTo>
                  <a:lnTo>
                    <a:pt x="1400" y="1400"/>
                  </a:lnTo>
                  <a:close/>
                </a:path>
                <a:path fill="darken" w="161806" h="21600">
                  <a:moveTo>
                    <a:pt x="161806" y="0"/>
                  </a:moveTo>
                  <a:lnTo>
                    <a:pt x="161806" y="21600"/>
                  </a:lnTo>
                  <a:lnTo>
                    <a:pt x="160406" y="20200"/>
                  </a:lnTo>
                  <a:lnTo>
                    <a:pt x="160406" y="1400"/>
                  </a:lnTo>
                  <a:close/>
                </a:path>
                <a:path fill="darkenLess" w="161806" h="21600">
                  <a:moveTo>
                    <a:pt x="16180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60406" y="20200"/>
                  </a:lnTo>
                  <a:close/>
                </a:path>
                <a:path fill="lighten" w="16180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WordArt 9"/>
            <p:cNvSpPr txBox="1"/>
            <p:nvPr/>
          </p:nvSpPr>
          <p:spPr>
            <a:xfrm>
              <a:off x="2742840" y="336600"/>
              <a:ext cx="2943720" cy="54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9900"/>
                    </a:solidFill>
                    <a:round/>
                  </a:ln>
                  <a:solidFill>
                    <a:srgbClr val="ff0000"/>
                  </a:solidFill>
                  <a:latin typeface="隶书"/>
                </a:rPr>
                <a:t>是多还是少？</a:t>
              </a:r>
              <a:endParaRPr b="1" lang="en-US" sz="1800" spc="1" strike="noStrike">
                <a:ln w="9360">
                  <a:solidFill>
                    <a:srgbClr val="ff9900"/>
                  </a:solidFill>
                  <a:round/>
                </a:ln>
                <a:solidFill>
                  <a:srgbClr val="ff0000"/>
                </a:solidFill>
                <a:latin typeface="隶书"/>
                <a:ea typeface="隶书"/>
              </a:endParaRPr>
            </a:p>
          </p:txBody>
        </p:sp>
      </p:grpSp>
      <p:grpSp>
        <p:nvGrpSpPr>
          <p:cNvPr id="74" name="Group 11"/>
          <p:cNvGrpSpPr/>
          <p:nvPr/>
        </p:nvGrpSpPr>
        <p:grpSpPr>
          <a:xfrm>
            <a:off x="6372360" y="3645000"/>
            <a:ext cx="838080" cy="609480"/>
            <a:chOff x="6372360" y="3645000"/>
            <a:chExt cx="838080" cy="609480"/>
          </a:xfrm>
        </p:grpSpPr>
        <p:sp>
          <p:nvSpPr>
            <p:cNvPr id="75" name="AutoShape 12"/>
            <p:cNvSpPr/>
            <p:nvPr/>
          </p:nvSpPr>
          <p:spPr>
            <a:xfrm>
              <a:off x="6372360" y="3645000"/>
              <a:ext cx="838080" cy="609480"/>
            </a:xfrm>
            <a:custGeom>
              <a:avLst/>
              <a:gdLst>
                <a:gd name="textAreaLeft" fmla="*/ 39240 w 838080"/>
                <a:gd name="textAreaRight" fmla="*/ 798840 w 83808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9697" h="21600">
                  <a:moveTo>
                    <a:pt x="0" y="0"/>
                  </a:moveTo>
                  <a:lnTo>
                    <a:pt x="29697" y="0"/>
                  </a:lnTo>
                  <a:lnTo>
                    <a:pt x="29697" y="21600"/>
                  </a:lnTo>
                  <a:lnTo>
                    <a:pt x="0" y="21600"/>
                  </a:lnTo>
                  <a:close/>
                </a:path>
                <a:path fill="lightenLess" w="29697" h="21600">
                  <a:moveTo>
                    <a:pt x="0" y="0"/>
                  </a:moveTo>
                  <a:lnTo>
                    <a:pt x="29697" y="0"/>
                  </a:lnTo>
                  <a:lnTo>
                    <a:pt x="28297" y="1400"/>
                  </a:lnTo>
                  <a:lnTo>
                    <a:pt x="1400" y="1400"/>
                  </a:lnTo>
                  <a:close/>
                </a:path>
                <a:path fill="darken" w="29697" h="21600">
                  <a:moveTo>
                    <a:pt x="29697" y="0"/>
                  </a:moveTo>
                  <a:lnTo>
                    <a:pt x="29697" y="21600"/>
                  </a:lnTo>
                  <a:lnTo>
                    <a:pt x="28297" y="20200"/>
                  </a:lnTo>
                  <a:lnTo>
                    <a:pt x="28297" y="1400"/>
                  </a:lnTo>
                  <a:close/>
                </a:path>
                <a:path fill="darkenLess" w="29697" h="21600">
                  <a:moveTo>
                    <a:pt x="2969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97" y="20200"/>
                  </a:lnTo>
                  <a:close/>
                </a:path>
                <a:path fill="lighten" w="2969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WordArt 13"/>
            <p:cNvSpPr txBox="1"/>
            <p:nvPr/>
          </p:nvSpPr>
          <p:spPr>
            <a:xfrm>
              <a:off x="6532560" y="370980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9900"/>
                    </a:solidFill>
                    <a:round/>
                  </a:ln>
                  <a:solidFill>
                    <a:srgbClr val="ff0000"/>
                  </a:solidFill>
                  <a:latin typeface="宋体"/>
                </a:rPr>
                <a:t>多</a:t>
              </a:r>
              <a:endParaRPr b="0" lang="en-US" sz="1800" spc="1" strike="noStrike">
                <a:ln w="9360">
                  <a:solidFill>
                    <a:srgbClr val="ff9900"/>
                  </a:solidFill>
                  <a:round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77" name="Group 14"/>
          <p:cNvGrpSpPr/>
          <p:nvPr/>
        </p:nvGrpSpPr>
        <p:grpSpPr>
          <a:xfrm>
            <a:off x="5796000" y="3716280"/>
            <a:ext cx="2959200" cy="2797200"/>
            <a:chOff x="5796000" y="3716280"/>
            <a:chExt cx="2959200" cy="2797200"/>
          </a:xfrm>
        </p:grpSpPr>
        <p:sp>
          <p:nvSpPr>
            <p:cNvPr id="78" name="AutoShape 15">
              <a:hlinkClick r:id="rId2"/>
            </p:cNvPr>
            <p:cNvSpPr/>
            <p:nvPr/>
          </p:nvSpPr>
          <p:spPr>
            <a:xfrm>
              <a:off x="5796000" y="4781520"/>
              <a:ext cx="2063880" cy="808200"/>
            </a:xfrm>
            <a:prstGeom prst="wedgeRoundRectCallout">
              <a:avLst>
                <a:gd name="adj1" fmla="val 49078"/>
                <a:gd name="adj2" fmla="val -92435"/>
                <a:gd name="adj3" fmla="val 16667"/>
              </a:avLst>
            </a:prstGeom>
            <a:solidFill>
              <a:srgbClr val="ff9900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太棒了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16" descr="女孩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956720" y="3716280"/>
              <a:ext cx="798480" cy="279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lus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 rot="5400000">
            <a:off x="-722520" y="2386080"/>
            <a:ext cx="3657600" cy="99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latin typeface="华文新魏"/>
              </a:rPr>
              <a:t>谁的多？</a:t>
            </a:r>
            <a:endParaRPr b="0" lang="en-US" sz="1800" spc="1" strike="noStrike">
              <a:ln w="9360">
                <a:solidFill>
                  <a:srgbClr val="333399"/>
                </a:solidFill>
                <a:round/>
              </a:ln>
              <a:solidFill>
                <a:srgbClr val="333399"/>
              </a:solidFill>
              <a:latin typeface="华文新魏"/>
              <a:ea typeface="华文新魏"/>
            </a:endParaRPr>
          </a:p>
        </p:txBody>
      </p:sp>
      <p:pic>
        <p:nvPicPr>
          <p:cNvPr id="81" name="Picture 4" descr="台"/>
          <p:cNvPicPr/>
          <p:nvPr/>
        </p:nvPicPr>
        <p:blipFill>
          <a:blip r:embed="rId1"/>
          <a:stretch/>
        </p:blipFill>
        <p:spPr>
          <a:xfrm>
            <a:off x="1763640" y="5010120"/>
            <a:ext cx="68407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5364000" y="3284640"/>
            <a:ext cx="1944720" cy="3477960"/>
            <a:chOff x="5364000" y="3284640"/>
            <a:chExt cx="1944720" cy="3477960"/>
          </a:xfrm>
        </p:grpSpPr>
        <p:sp>
          <p:nvSpPr>
            <p:cNvPr id="83" name="WordArt 6"/>
            <p:cNvSpPr txBox="1"/>
            <p:nvPr/>
          </p:nvSpPr>
          <p:spPr>
            <a:xfrm>
              <a:off x="5715000" y="6237360"/>
              <a:ext cx="1449360" cy="52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中宋"/>
                </a:rPr>
                <a:t>（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中宋"/>
                </a:rPr>
                <a:t>4</a:t>
              </a: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中宋"/>
                </a:rPr>
                <a:t>）号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pic>
          <p:nvPicPr>
            <p:cNvPr id="84" name="Picture 7" descr="瓶"/>
            <p:cNvPicPr/>
            <p:nvPr/>
          </p:nvPicPr>
          <p:blipFill>
            <a:blip r:embed="rId2"/>
            <a:stretch/>
          </p:blipFill>
          <p:spPr>
            <a:xfrm>
              <a:off x="5364000" y="3284640"/>
              <a:ext cx="1944720" cy="225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Group 8"/>
          <p:cNvGrpSpPr/>
          <p:nvPr/>
        </p:nvGrpSpPr>
        <p:grpSpPr>
          <a:xfrm>
            <a:off x="2762280" y="2421000"/>
            <a:ext cx="1449360" cy="4341600"/>
            <a:chOff x="2762280" y="2421000"/>
            <a:chExt cx="1449360" cy="4341600"/>
          </a:xfrm>
        </p:grpSpPr>
        <p:pic>
          <p:nvPicPr>
            <p:cNvPr id="86" name="Picture 9" descr="瓶"/>
            <p:cNvPicPr/>
            <p:nvPr/>
          </p:nvPicPr>
          <p:blipFill>
            <a:blip r:embed="rId3"/>
            <a:stretch/>
          </p:blipFill>
          <p:spPr>
            <a:xfrm>
              <a:off x="2843280" y="2421000"/>
              <a:ext cx="1036440" cy="30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WordArt 10"/>
            <p:cNvSpPr txBox="1"/>
            <p:nvPr/>
          </p:nvSpPr>
          <p:spPr>
            <a:xfrm>
              <a:off x="2762280" y="6237360"/>
              <a:ext cx="1449360" cy="52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中宋"/>
                </a:rPr>
                <a:t>（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中宋"/>
                </a:rPr>
                <a:t>2</a:t>
              </a: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华文中宋"/>
                </a:rPr>
                <a:t>）号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</p:grpSp>
    </p:spTree>
  </p:cSld>
  <p:transition>
    <p:wheel spokes="2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1835280" y="1905120"/>
            <a:ext cx="6781680" cy="2895480"/>
          </a:xfrm>
          <a:prstGeom prst="flowChartPreparation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8920" y="2362320"/>
            <a:ext cx="67057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、准备采用哪种方法？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、都需要什么材料？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、小组内怎样分工？ </a:t>
            </a:r>
            <a:br>
              <a:rPr sz="36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1852560" y="2971800"/>
            <a:ext cx="5438880" cy="914400"/>
            <a:chOff x="1852560" y="2971800"/>
            <a:chExt cx="5438880" cy="914400"/>
          </a:xfrm>
        </p:grpSpPr>
        <p:sp>
          <p:nvSpPr>
            <p:cNvPr id="91" name="Rectangle 5"/>
            <p:cNvSpPr/>
            <p:nvPr/>
          </p:nvSpPr>
          <p:spPr>
            <a:xfrm>
              <a:off x="1852560" y="2971800"/>
              <a:ext cx="5438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1852560" y="2971800"/>
              <a:ext cx="5438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7"/>
          <p:cNvGrpSpPr/>
          <p:nvPr/>
        </p:nvGrpSpPr>
        <p:grpSpPr>
          <a:xfrm>
            <a:off x="1852560" y="2971800"/>
            <a:ext cx="5438880" cy="914400"/>
            <a:chOff x="1852560" y="2971800"/>
            <a:chExt cx="5438880" cy="914400"/>
          </a:xfrm>
        </p:grpSpPr>
        <p:sp>
          <p:nvSpPr>
            <p:cNvPr id="94" name="Rectangle 8"/>
            <p:cNvSpPr/>
            <p:nvPr/>
          </p:nvSpPr>
          <p:spPr>
            <a:xfrm>
              <a:off x="1852560" y="2971800"/>
              <a:ext cx="5438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1852560" y="2971800"/>
              <a:ext cx="5438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10" descr="logo_wh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533520"/>
            <a:ext cx="457200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2004122314422899"/>
          <p:cNvPicPr/>
          <p:nvPr/>
        </p:nvPicPr>
        <p:blipFill>
          <a:blip r:embed="rId1"/>
          <a:stretch/>
        </p:blipFill>
        <p:spPr>
          <a:xfrm>
            <a:off x="-111240" y="71280"/>
            <a:ext cx="4683240" cy="6597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5076720" y="2535480"/>
            <a:ext cx="3598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创艺简标宋"/>
                <a:ea typeface="创艺简标宋"/>
              </a:rPr>
              <a:t>        </a:t>
            </a:r>
            <a:r>
              <a:rPr b="1" lang="zh-CN" sz="3600" spc="-1" strike="noStrike">
                <a:solidFill>
                  <a:srgbClr val="660033"/>
                </a:solidFill>
                <a:latin typeface="创艺简标宋"/>
                <a:ea typeface="创艺简标宋"/>
              </a:rPr>
              <a:t>量筒</a:t>
            </a:r>
            <a:r>
              <a:rPr b="1" lang="zh-CN" sz="3600" spc="-1" strike="noStrike">
                <a:solidFill>
                  <a:srgbClr val="000000"/>
                </a:solidFill>
                <a:latin typeface="创艺简标宋"/>
                <a:ea typeface="创艺简标宋"/>
              </a:rPr>
              <a:t>是用来量取液体体积的一种玻璃仪器，一般有</a:t>
            </a:r>
            <a:r>
              <a:rPr b="1" lang="en-US" sz="3600" spc="-1" strike="noStrike">
                <a:solidFill>
                  <a:srgbClr val="000000"/>
                </a:solidFill>
                <a:latin typeface="创艺简标宋"/>
                <a:ea typeface="创艺简标宋"/>
              </a:rPr>
              <a:t>10ml</a:t>
            </a:r>
            <a:r>
              <a:rPr b="1" lang="zh-CN" sz="3600" spc="-1" strike="noStrike">
                <a:solidFill>
                  <a:srgbClr val="000000"/>
                </a:solidFill>
                <a:latin typeface="创艺简标宋"/>
                <a:ea typeface="创艺简标宋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创艺简标宋"/>
                <a:ea typeface="创艺简标宋"/>
              </a:rPr>
              <a:t>25ml</a:t>
            </a:r>
            <a:r>
              <a:rPr b="1" lang="zh-CN" sz="3600" spc="-1" strike="noStrike">
                <a:solidFill>
                  <a:srgbClr val="000000"/>
                </a:solidFill>
                <a:latin typeface="创艺简标宋"/>
                <a:ea typeface="创艺简标宋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创艺简标宋"/>
                <a:ea typeface="创艺简标宋"/>
              </a:rPr>
              <a:t>50ml</a:t>
            </a:r>
            <a:r>
              <a:rPr b="1" lang="zh-CN" sz="3600" spc="-1" strike="noStrike">
                <a:solidFill>
                  <a:srgbClr val="000000"/>
                </a:solidFill>
                <a:latin typeface="创艺简标宋"/>
                <a:ea typeface="创艺简标宋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创艺简标宋"/>
                <a:ea typeface="创艺简标宋"/>
              </a:rPr>
              <a:t>100ml</a:t>
            </a:r>
            <a:r>
              <a:rPr b="1" lang="zh-CN" sz="3600" spc="-1" strike="noStrike">
                <a:solidFill>
                  <a:srgbClr val="000000"/>
                </a:solidFill>
                <a:latin typeface="创艺简标宋"/>
                <a:ea typeface="创艺简标宋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创艺简标宋"/>
                <a:ea typeface="创艺简标宋"/>
              </a:rPr>
              <a:t>1000ml</a:t>
            </a:r>
            <a:r>
              <a:rPr b="1" lang="zh-CN" sz="3600" spc="-1" strike="noStrike">
                <a:solidFill>
                  <a:srgbClr val="000000"/>
                </a:solidFill>
                <a:latin typeface="创艺简标宋"/>
                <a:ea typeface="创艺简标宋"/>
              </a:rPr>
              <a:t>等规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5580000" y="549360"/>
            <a:ext cx="2724120" cy="703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29"/>
                </a:solidFill>
                <a:latin typeface="Arial"/>
                <a:ea typeface="经典综艺体简"/>
              </a:rPr>
              <a:t>量筒小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6300720" y="333360"/>
            <a:ext cx="2592360" cy="865080"/>
          </a:xfrm>
          <a:prstGeom prst="wedgeRoundRectCallout">
            <a:avLst>
              <a:gd name="adj1" fmla="val -46569"/>
              <a:gd name="adj2" fmla="val 61560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量   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7885080" y="4653000"/>
            <a:ext cx="5745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P1040786"/>
          <p:cNvPicPr/>
          <p:nvPr/>
        </p:nvPicPr>
        <p:blipFill>
          <a:blip r:embed="rId1"/>
          <a:stretch/>
        </p:blipFill>
        <p:spPr>
          <a:xfrm>
            <a:off x="214200" y="0"/>
            <a:ext cx="290052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P1040787"/>
          <p:cNvPicPr/>
          <p:nvPr/>
        </p:nvPicPr>
        <p:blipFill>
          <a:blip r:embed="rId2"/>
          <a:stretch/>
        </p:blipFill>
        <p:spPr>
          <a:xfrm>
            <a:off x="3311640" y="0"/>
            <a:ext cx="2663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6"/>
          <p:cNvGrpSpPr/>
          <p:nvPr/>
        </p:nvGrpSpPr>
        <p:grpSpPr>
          <a:xfrm>
            <a:off x="5580000" y="2273400"/>
            <a:ext cx="2520720" cy="642600"/>
            <a:chOff x="5580000" y="2273400"/>
            <a:chExt cx="2520720" cy="642600"/>
          </a:xfrm>
        </p:grpSpPr>
        <p:sp>
          <p:nvSpPr>
            <p:cNvPr id="105" name="Text Box 7"/>
            <p:cNvSpPr/>
            <p:nvPr/>
          </p:nvSpPr>
          <p:spPr>
            <a:xfrm>
              <a:off x="6913440" y="2273400"/>
              <a:ext cx="1187280" cy="642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毫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5580000" y="2489040"/>
              <a:ext cx="1296720" cy="28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Oval 9"/>
          <p:cNvSpPr/>
          <p:nvPr/>
        </p:nvSpPr>
        <p:spPr>
          <a:xfrm>
            <a:off x="4932360" y="2349360"/>
            <a:ext cx="504720" cy="503280"/>
          </a:xfrm>
          <a:prstGeom prst="ellipse">
            <a:avLst/>
          </a:prstGeom>
          <a:noFill/>
          <a:ln w="57240">
            <a:solidFill>
              <a:srgbClr val="e2086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ML.mp3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7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4302D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03:18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0:27Z</dcterms:modified>
  <cp:revision>2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