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326F-3BF2-4BF8-A1C4-AB68B9D37E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D5A4-D271-4426-9C79-2105110A27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C9A-1298-411A-B89A-4EED9BD5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CE6-CDDF-4A88-9929-01015E16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ED3-5DAA-4A62-94B7-81EFAEFC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BB0-6FB1-475A-B60B-C7EBD6F9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215-9DF5-4088-8FB6-6E311B8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57F-B73A-4B26-8F50-955F851D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7AC-2206-4D28-83D6-26586BAC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B4E-63F5-4AD7-B9F3-7E92221C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4AB-3C92-4AED-8BD5-205CCB19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FB0-305A-4589-A9EA-C6BD230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016-E30E-47FF-A596-38B7331A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974-CE69-4E52-9839-52B84E3E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06E4-6127-41EE-8D1E-82B922342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image" Target="../media/image4.jpeg"/><Relationship Id="rId8" Type="http://schemas.openxmlformats.org/officeDocument/2006/relationships/slide" Target="slide7.xml"/><Relationship Id="rId9" Type="http://schemas.openxmlformats.org/officeDocument/2006/relationships/image" Target="../media/image4.jpeg"/><Relationship Id="rId10" Type="http://schemas.openxmlformats.org/officeDocument/2006/relationships/slide" Target="slide6.xml"/><Relationship Id="rId11" Type="http://schemas.openxmlformats.org/officeDocument/2006/relationships/image" Target="../media/image4.jpeg"/><Relationship Id="rId12" Type="http://schemas.openxmlformats.org/officeDocument/2006/relationships/slide" Target="slide5.xml"/><Relationship Id="rId13" Type="http://schemas.openxmlformats.org/officeDocument/2006/relationships/image" Target="../media/image4.jpeg"/><Relationship Id="rId14" Type="http://schemas.openxmlformats.org/officeDocument/2006/relationships/slide" Target="slide3.xm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0" t="91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762120" y="2286000"/>
            <a:ext cx="7772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微软雅黑"/>
              </a:rPr>
              <a:t>测量力的大小</a:t>
            </a:r>
            <a:endParaRPr b="1" lang="en-US" sz="1800" spc="1" strike="noStrike">
              <a:ln w="1836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14400" y="1219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五上科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矩形 9" descr=""/>
          <p:cNvPicPr/>
          <p:nvPr/>
        </p:nvPicPr>
        <p:blipFill>
          <a:blip r:embed="rId2"/>
          <a:stretch/>
        </p:blipFill>
        <p:spPr>
          <a:xfrm>
            <a:off x="2214720" y="6019920"/>
            <a:ext cx="477036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8061-BA7B-45AD-8A72-5B62A2E413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-134640" y="1371600"/>
            <a:ext cx="1277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弹 簧 测 力 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295280" y="85680"/>
            <a:ext cx="1500480" cy="6772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1600200" y="16002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>
            <a:hlinkClick r:id="rId2" action="ppaction://hlinksldjump"/>
          </p:cNvPr>
          <p:cNvSpPr/>
          <p:nvPr/>
        </p:nvSpPr>
        <p:spPr>
          <a:xfrm>
            <a:off x="1600200" y="2666880"/>
            <a:ext cx="914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>
            <a:hlinkClick r:id="rId3" action="ppaction://hlinksldjump"/>
          </p:cNvPr>
          <p:cNvSpPr/>
          <p:nvPr/>
        </p:nvSpPr>
        <p:spPr>
          <a:xfrm>
            <a:off x="1371600" y="22860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>
            <a:hlinkClick r:id="rId4" action="ppaction://hlinksldjump"/>
          </p:cNvPr>
          <p:cNvSpPr/>
          <p:nvPr/>
        </p:nvSpPr>
        <p:spPr>
          <a:xfrm>
            <a:off x="1752480" y="24382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>
            <a:hlinkClick r:id="rId5" action="ppaction://hlinksldjump"/>
          </p:cNvPr>
          <p:cNvSpPr/>
          <p:nvPr/>
        </p:nvSpPr>
        <p:spPr>
          <a:xfrm>
            <a:off x="1447920" y="5943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24080" y="211608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弹簧测力计是由哪些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组成的？各部分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990720" y="380880"/>
            <a:ext cx="30168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819520" y="4191120"/>
            <a:ext cx="30168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1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819520" y="6248520"/>
            <a:ext cx="30168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1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819520" y="2362320"/>
            <a:ext cx="30168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1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819520" y="1295280"/>
            <a:ext cx="30168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"/>
          <p:cNvSpPr/>
          <p:nvPr/>
        </p:nvSpPr>
        <p:spPr>
          <a:xfrm>
            <a:off x="3427560" y="4952880"/>
            <a:ext cx="56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旋转 DSC0157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533520"/>
            <a:ext cx="4149720" cy="4190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-134640" y="1371600"/>
            <a:ext cx="1277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弹 簧 测 力 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1295280" y="85680"/>
            <a:ext cx="1500480" cy="677232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 flipV="1">
            <a:off x="2590920" y="1980720"/>
            <a:ext cx="2971800" cy="228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562720" y="4876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弹     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0400" y="2362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里 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UTurnArrow">
            <a:hlinkClick r:id="rId4" action="ppaction://hlinksldjump"/>
          </p:cNvPr>
          <p:cNvSpPr/>
          <p:nvPr/>
        </p:nvSpPr>
        <p:spPr>
          <a:xfrm>
            <a:off x="7696080" y="5715000"/>
            <a:ext cx="6858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-134640" y="1371600"/>
            <a:ext cx="1277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弹 簧 测 力 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1">
            <a:hlinkClick r:id="rId1" action="ppaction://hlinksldjump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295280" y="85680"/>
            <a:ext cx="1500480" cy="6772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旋转 DSC01578">
            <a:hlinkClick r:id="rId3" action="ppaction://hlinksldjump"/>
          </p:cNvPr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4267080" y="762120"/>
            <a:ext cx="4191120" cy="365112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>
            <a:off x="2286000" y="304920"/>
            <a:ext cx="2666880" cy="1371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562720" y="4876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    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UTurnArrow">
            <a:hlinkClick r:id="rId5" action="ppaction://hlinksldjump"/>
          </p:cNvPr>
          <p:cNvSpPr/>
          <p:nvPr/>
        </p:nvSpPr>
        <p:spPr>
          <a:xfrm>
            <a:off x="7696080" y="5715000"/>
            <a:ext cx="6858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-134640" y="1371600"/>
            <a:ext cx="1277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弹 簧 测 力 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1">
            <a:hlinkClick r:id="rId1" action="ppaction://hlinksldjump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295280" y="85680"/>
            <a:ext cx="1500480" cy="6772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5943600" y="5105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指   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旋转 DSC01575">
            <a:hlinkClick r:id="rId3" action="ppaction://hlinksldjump"/>
          </p:cNvPr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4038480" y="2286000"/>
            <a:ext cx="4953240" cy="203040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>
            <a:off x="2057400" y="2590920"/>
            <a:ext cx="3200400" cy="304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UTurnArrow">
            <a:hlinkClick r:id="rId5" action="ppaction://hlinksldjump"/>
          </p:cNvPr>
          <p:cNvSpPr/>
          <p:nvPr/>
        </p:nvSpPr>
        <p:spPr>
          <a:xfrm>
            <a:off x="7696080" y="5715000"/>
            <a:ext cx="6858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134640" y="1371600"/>
            <a:ext cx="1277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弹 簧 测 力 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1">
            <a:hlinkClick r:id="rId1" action="ppaction://hlinksldjump"/>
          </p:cNvPr>
          <p:cNvPicPr/>
          <p:nvPr/>
        </p:nvPicPr>
        <p:blipFill>
          <a:blip r:embed="rId2">
            <a:lum bright="32000"/>
          </a:blip>
          <a:stretch/>
        </p:blipFill>
        <p:spPr>
          <a:xfrm>
            <a:off x="1295280" y="85680"/>
            <a:ext cx="1500480" cy="6772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019920" y="56386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挂  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1">
            <a:hlinkClick r:id="rId3" action="ppaction://hlinksldjump"/>
          </p:cNvPr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5105520" y="1219320"/>
            <a:ext cx="3517920" cy="4190760"/>
          </a:xfrm>
          <a:prstGeom prst="rect">
            <a:avLst/>
          </a:prstGeom>
          <a:ln w="0">
            <a:noFill/>
          </a:ln>
        </p:spPr>
      </p:pic>
      <p:sp>
        <p:nvSpPr>
          <p:cNvPr id="91" name="Line 6"/>
          <p:cNvSpPr/>
          <p:nvPr/>
        </p:nvSpPr>
        <p:spPr>
          <a:xfrm flipV="1">
            <a:off x="2133720" y="3580920"/>
            <a:ext cx="4190760" cy="26672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TurnArrow">
            <a:hlinkClick r:id="rId5" action="ppaction://hlinksldjump"/>
          </p:cNvPr>
          <p:cNvSpPr/>
          <p:nvPr/>
        </p:nvSpPr>
        <p:spPr>
          <a:xfrm>
            <a:off x="7696080" y="5715000"/>
            <a:ext cx="6858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-134640" y="1371600"/>
            <a:ext cx="1277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弹 簧 测 力 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1">
            <a:hlinkClick r:id="rId1" action="ppaction://hlinksldjump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295280" y="85680"/>
            <a:ext cx="1500480" cy="6772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5486400" y="5867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刻度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旋转 DSC01575">
            <a:hlinkClick r:id="rId3" action="ppaction://hlinksldjump"/>
          </p:cNvPr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3200400" y="343080"/>
            <a:ext cx="1974960" cy="65149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>
            <a:off x="1600200" y="3429000"/>
            <a:ext cx="1676520" cy="228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5562720" y="457200"/>
            <a:ext cx="3346200" cy="3581280"/>
          </a:xfrm>
          <a:prstGeom prst="rect">
            <a:avLst/>
          </a:prstGeom>
          <a:ln w="0">
            <a:noFill/>
          </a:ln>
        </p:spPr>
      </p:pic>
      <p:sp>
        <p:nvSpPr>
          <p:cNvPr id="99" name="Line 8"/>
          <p:cNvSpPr/>
          <p:nvPr/>
        </p:nvSpPr>
        <p:spPr>
          <a:xfrm>
            <a:off x="3733920" y="1600200"/>
            <a:ext cx="243828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UTurnArrow">
            <a:hlinkClick r:id="rId6" action="ppaction://hlinksldjump"/>
          </p:cNvPr>
          <p:cNvSpPr/>
          <p:nvPr/>
        </p:nvSpPr>
        <p:spPr>
          <a:xfrm>
            <a:off x="7696080" y="5715000"/>
            <a:ext cx="6858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-134640" y="1371600"/>
            <a:ext cx="1277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弹 簧 测 力 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295280" y="85680"/>
            <a:ext cx="1500480" cy="6772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2860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133720" y="3048120"/>
            <a:ext cx="914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905120" y="152280"/>
            <a:ext cx="1295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>
            <a:hlinkClick r:id="rId2" action="ppaction://hlinksldjump"/>
          </p:cNvPr>
          <p:cNvSpPr/>
          <p:nvPr/>
        </p:nvSpPr>
        <p:spPr>
          <a:xfrm>
            <a:off x="2286000" y="24382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981080" y="5943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图片1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5257800" y="219240"/>
            <a:ext cx="1654200" cy="6791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图片2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7391520" y="247680"/>
            <a:ext cx="1449360" cy="6762600"/>
          </a:xfrm>
          <a:prstGeom prst="rect">
            <a:avLst/>
          </a:prstGeom>
          <a:ln w="0">
            <a:noFill/>
          </a:ln>
        </p:spPr>
      </p:pic>
      <p:sp>
        <p:nvSpPr>
          <p:cNvPr id="110" name="Line 14"/>
          <p:cNvSpPr/>
          <p:nvPr/>
        </p:nvSpPr>
        <p:spPr>
          <a:xfrm>
            <a:off x="2590920" y="6858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200400" y="533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  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2133720" y="2209680"/>
            <a:ext cx="990360" cy="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31240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弹簧（里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2133720" y="2590920"/>
            <a:ext cx="990360" cy="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971800" y="245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指  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209680" y="373392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2971800" y="3519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刻度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2133720" y="6248520"/>
            <a:ext cx="990360" cy="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895480" y="6033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挂  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6"/>
          <p:cNvSpPr/>
          <p:nvPr/>
        </p:nvSpPr>
        <p:spPr>
          <a:xfrm>
            <a:off x="1219320" y="914400"/>
            <a:ext cx="7391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拿起测力计，先检查指针是不是指在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读数时，视线与指针相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测量的力不能超过测力计的测量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304920" y="380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弹簧测力计测重力时应注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3520" y="3112920"/>
          <a:ext cx="7696080" cy="3751200"/>
        </p:xfrm>
        <a:graphic>
          <a:graphicData uri="http://schemas.openxmlformats.org/drawingml/2006/table">
            <a:tbl>
              <a:tblPr/>
              <a:tblGrid>
                <a:gridCol w="1373040"/>
                <a:gridCol w="2059200"/>
                <a:gridCol w="2003400"/>
                <a:gridCol w="2260440"/>
              </a:tblGrid>
              <a:tr h="62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物体的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估计重力的大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实测重力的大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估计和实测的差距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405"/>
          <p:cNvSpPr/>
          <p:nvPr/>
        </p:nvSpPr>
        <p:spPr>
          <a:xfrm>
            <a:off x="1981080" y="2514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用弹簧测力计测量物体重力大小的记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6"/>
          <p:cNvSpPr/>
          <p:nvPr/>
        </p:nvSpPr>
        <p:spPr>
          <a:xfrm>
            <a:off x="898560" y="238428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07"/>
          <p:cNvSpPr/>
          <p:nvPr/>
        </p:nvSpPr>
        <p:spPr>
          <a:xfrm>
            <a:off x="762120" y="3733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08"/>
          <p:cNvSpPr/>
          <p:nvPr/>
        </p:nvSpPr>
        <p:spPr>
          <a:xfrm>
            <a:off x="762120" y="42512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28:4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1:06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