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D7A-C462-48FB-A2A6-5D0FCD21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C91-C967-467D-96B7-8E94FBE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395-A022-4DD3-8710-888B8F9E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C4E-D389-46E6-B7E6-B72F7757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B4E-EDD9-4C80-9827-6741859B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AF7-FE0A-43E7-82F5-54AF6368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E38-E747-4D6C-967C-1515B88A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6A0-86E2-4D76-A4D6-3553B314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F85-6127-475B-A20D-1480CD10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A4C-B2E1-47DF-B614-469528D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660-4A93-4C4D-BDBC-BD3F6E8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648-2D10-45D5-A5A6-81DE75F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3B68-9296-46DF-90F8-A800FBF562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A97-13A2-418B-88A1-1B998120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975280" y="457200"/>
          <a:ext cx="2771640" cy="638280"/>
        </p:xfrm>
        <a:graphic>
          <a:graphicData uri="http://schemas.openxmlformats.org/drawingml/2006/table">
            <a:tbl>
              <a:tblPr/>
              <a:tblGrid>
                <a:gridCol w="277164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800600" y="1692360"/>
            <a:ext cx="40053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四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715640" y="6269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5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533520" y="26938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Listen to and repeat “Let’ s talk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Make a dialogue using we’ve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ed toda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1371600" y="990720"/>
            <a:ext cx="6248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</a:t>
            </a:r>
            <a:endParaRPr b="0" lang="en-US" sz="4000" spc="1" strike="noStrike">
              <a:ln w="12600">
                <a:solidFill>
                  <a:srgbClr val="b2b2b2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B51-DDE0-4A61-A2AD-17001BA400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888840" y="153972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295280" y="2514600"/>
            <a:ext cx="815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 is Mr Jon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 is Miss Green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Jones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 Green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19320" y="8380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et’s ch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Talk about the pi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99072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in the morning?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10" descr="english_2_章节1_17"/>
          <p:cNvPicPr/>
          <p:nvPr/>
        </p:nvPicPr>
        <p:blipFill>
          <a:blip r:embed="rId2"/>
          <a:srcRect l="14749" t="7667" r="10151" b="39149"/>
          <a:stretch/>
        </p:blipFill>
        <p:spPr>
          <a:xfrm>
            <a:off x="2057400" y="251460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200400" y="1752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afterno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Picture 8" descr="u=3887551941,1444734007&amp;fm=51&amp;gp=0"/>
          <p:cNvPicPr/>
          <p:nvPr/>
        </p:nvPicPr>
        <p:blipFill>
          <a:blip r:embed="rId2"/>
          <a:srcRect l="32948" t="6024" r="0" b="15800"/>
          <a:stretch/>
        </p:blipFill>
        <p:spPr>
          <a:xfrm>
            <a:off x="533520" y="533520"/>
            <a:ext cx="2286000" cy="2085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971800" y="36576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4343400" y="1295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ning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419720" y="26668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fterno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495680" y="41148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10" descr="25962"/>
          <p:cNvPicPr/>
          <p:nvPr/>
        </p:nvPicPr>
        <p:blipFill>
          <a:blip r:embed="rId2"/>
          <a:srcRect l="9528" t="14282" r="14286" b="2862"/>
          <a:stretch/>
        </p:blipFill>
        <p:spPr>
          <a:xfrm>
            <a:off x="1600200" y="1219320"/>
            <a:ext cx="1143000" cy="1036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u=3887551941,1444734007&amp;fm=51&amp;gp=0"/>
          <p:cNvPicPr/>
          <p:nvPr/>
        </p:nvPicPr>
        <p:blipFill>
          <a:blip r:embed="rId3"/>
          <a:srcRect l="32948" t="6024" r="0" b="15800"/>
          <a:stretch/>
        </p:blipFill>
        <p:spPr>
          <a:xfrm>
            <a:off x="1752480" y="2590920"/>
            <a:ext cx="1143000" cy="104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u=2281411388,1102142978&amp;fm=52&amp;gp=0"/>
          <p:cNvPicPr/>
          <p:nvPr/>
        </p:nvPicPr>
        <p:blipFill>
          <a:blip r:embed="rId4"/>
          <a:srcRect l="0" t="29102" r="1372" b="38189"/>
          <a:stretch/>
        </p:blipFill>
        <p:spPr>
          <a:xfrm>
            <a:off x="1752480" y="426708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 Black"/>
              </a:rPr>
              <a:t>Describ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 the pi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4120" y="2286000"/>
            <a:ext cx="3581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a bo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Wu Yifa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 is mu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9" descr="english_2_章节1_17"/>
          <p:cNvPicPr/>
          <p:nvPr/>
        </p:nvPicPr>
        <p:blipFill>
          <a:blip r:embed="rId2"/>
          <a:srcRect l="14749" t="7667" r="10151" b="39149"/>
          <a:stretch/>
        </p:blipFill>
        <p:spPr>
          <a:xfrm>
            <a:off x="304920" y="1295280"/>
            <a:ext cx="441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12" descr="图片1"/>
          <p:cNvPicPr/>
          <p:nvPr/>
        </p:nvPicPr>
        <p:blipFill>
          <a:blip r:embed="rId1"/>
          <a:stretch/>
        </p:blipFill>
        <p:spPr>
          <a:xfrm>
            <a:off x="53352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114800" y="13716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m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477120" y="15238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 Black"/>
              </a:rPr>
              <a:t>美式英语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zh-CN" sz="3200" spc="-1" strike="noStrike">
                <a:solidFill>
                  <a:srgbClr val="333399"/>
                </a:solidFill>
                <a:latin typeface="Arial Black"/>
              </a:rPr>
              <a:t>口语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91120" y="2971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477120" y="3048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 Black"/>
              </a:rPr>
              <a:t>英式英语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zh-CN" sz="3200" spc="-1" strike="noStrike">
                <a:solidFill>
                  <a:srgbClr val="333399"/>
                </a:solidFill>
                <a:latin typeface="Arial Black"/>
              </a:rPr>
              <a:t>口语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114800" y="4572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553080" y="4648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 Black"/>
              </a:rPr>
              <a:t>正式用语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33520" y="228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Learn the wor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15" descr="english_2_章节1_17"/>
          <p:cNvPicPr/>
          <p:nvPr/>
        </p:nvPicPr>
        <p:blipFill>
          <a:blip r:embed="rId2"/>
          <a:srcRect l="8805" t="20723" r="67540" b="59185"/>
          <a:stretch/>
        </p:blipFill>
        <p:spPr>
          <a:xfrm>
            <a:off x="380880" y="1828800"/>
            <a:ext cx="25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114800" y="22096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38480" y="4724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th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248520" y="2209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 Black"/>
              </a:rPr>
              <a:t>口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553080" y="4648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 Black"/>
              </a:rPr>
              <a:t>正式用语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33520" y="228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Learn the wor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13" descr="34"/>
          <p:cNvPicPr/>
          <p:nvPr/>
        </p:nvPicPr>
        <p:blipFill>
          <a:blip r:embed="rId2"/>
          <a:srcRect l="37288" t="85775" r="53391" b="0"/>
          <a:stretch/>
        </p:blipFill>
        <p:spPr>
          <a:xfrm>
            <a:off x="1295280" y="2057400"/>
            <a:ext cx="1447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9072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卡通动物见面会：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9" descr="137"/>
          <p:cNvPicPr/>
          <p:nvPr/>
        </p:nvPicPr>
        <p:blipFill>
          <a:blip r:embed="rId1"/>
          <a:srcRect l="65261" t="65780" r="5742" b="12888"/>
          <a:stretch/>
        </p:blipFill>
        <p:spPr>
          <a:xfrm>
            <a:off x="990720" y="20574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292480666XpKprVct_s"/>
          <p:cNvPicPr/>
          <p:nvPr/>
        </p:nvPicPr>
        <p:blipFill>
          <a:blip r:embed="rId2"/>
          <a:stretch/>
        </p:blipFill>
        <p:spPr>
          <a:xfrm>
            <a:off x="3505320" y="2057400"/>
            <a:ext cx="1552320" cy="147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lanmao_1"/>
          <p:cNvPicPr/>
          <p:nvPr/>
        </p:nvPicPr>
        <p:blipFill>
          <a:blip r:embed="rId3"/>
          <a:srcRect l="0" t="0" r="18291" b="5941"/>
          <a:stretch/>
        </p:blipFill>
        <p:spPr>
          <a:xfrm>
            <a:off x="6019920" y="2133720"/>
            <a:ext cx="1447560" cy="12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20091210203711524"/>
          <p:cNvPicPr/>
          <p:nvPr/>
        </p:nvPicPr>
        <p:blipFill>
          <a:blip r:embed="rId4"/>
          <a:srcRect l="9215" t="28379" r="12350" b="-443"/>
          <a:stretch/>
        </p:blipFill>
        <p:spPr>
          <a:xfrm>
            <a:off x="914400" y="4267080"/>
            <a:ext cx="13971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12354WD6-11"/>
          <p:cNvPicPr/>
          <p:nvPr/>
        </p:nvPicPr>
        <p:blipFill>
          <a:blip r:embed="rId5"/>
          <a:stretch/>
        </p:blipFill>
        <p:spPr>
          <a:xfrm>
            <a:off x="3505320" y="43434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u=3477879646,2867861069&amp;fm=51&amp;gp=0"/>
          <p:cNvPicPr/>
          <p:nvPr/>
        </p:nvPicPr>
        <p:blipFill>
          <a:blip r:embed="rId6"/>
          <a:stretch/>
        </p:blipFill>
        <p:spPr>
          <a:xfrm>
            <a:off x="6172200" y="4191120"/>
            <a:ext cx="1276200" cy="16192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"/>
          <p:cNvSpPr/>
          <p:nvPr/>
        </p:nvSpPr>
        <p:spPr>
          <a:xfrm>
            <a:off x="382680" y="611820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 Black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