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0DAD-6DF3-428B-A988-820CC15B6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FD2E-363A-4DAD-BB9E-B63D7192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8E9E-9A80-4C09-BCF4-F6DC5BACC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C21B-0C73-44A0-8F32-A6216C7D7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3BDC-C836-4533-99A9-4C6D11A4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833C-8A4C-4916-85D4-D2280626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5246-670D-46A3-8691-C9686067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E9F5-FD77-4F75-A5DC-9E07EBDF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893D-EC4D-4835-8D14-603C6673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3329-7654-4C63-9AD9-F781A223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074B-7E10-4E95-8A81-B976467A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C454-07D0-4958-A1E2-D7BD8567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B2B5-C358-4129-BA4A-0916C54B15D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CB73-F45B-4BA1-B986-FBAD4D6D3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image.jike.com/detail?did=6894411035921849806&amp;pos=42&amp;num=36&amp;q=&#30007;&#32769;&#24072;&amp;fm=QH360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image.jike.com/detail?did=6894411035921849806&amp;pos=42&amp;num=36&amp;q=&#30007;&#32769;&#24072;&amp;fm=QH360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-30240" y="0"/>
            <a:ext cx="91742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6324480" y="152280"/>
          <a:ext cx="2514600" cy="76212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762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Unit 2  Colou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Rectangle 6"/>
          <p:cNvSpPr/>
          <p:nvPr/>
        </p:nvSpPr>
        <p:spPr>
          <a:xfrm>
            <a:off x="4378320" y="1371600"/>
            <a:ext cx="469116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第一课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9"/>
          <p:cNvSpPr/>
          <p:nvPr/>
        </p:nvSpPr>
        <p:spPr>
          <a:xfrm>
            <a:off x="4637880" y="614664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zaoshang"/>
          <p:cNvPicPr/>
          <p:nvPr/>
        </p:nvPicPr>
        <p:blipFill>
          <a:blip r:embed="rId1"/>
          <a:stretch/>
        </p:blipFill>
        <p:spPr>
          <a:xfrm>
            <a:off x="228600" y="990720"/>
            <a:ext cx="8610480" cy="54673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7"/>
          <p:cNvSpPr/>
          <p:nvPr/>
        </p:nvSpPr>
        <p:spPr>
          <a:xfrm>
            <a:off x="533520" y="380880"/>
            <a:ext cx="632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457200" y="152280"/>
            <a:ext cx="441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Sing a s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WindowsMediaPlayer1" descr=""/>
          <p:cNvPicPr/>
          <p:nvPr/>
        </p:nvPicPr>
        <p:blipFill>
          <a:blip r:embed="rId2"/>
          <a:stretch/>
        </p:blipFill>
        <p:spPr>
          <a:xfrm>
            <a:off x="3048120" y="4800600"/>
            <a:ext cx="36576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838080" y="68580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</a:rPr>
              <a:t>改编歌曲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85800" y="1828800"/>
            <a:ext cx="8001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morning to you.Good morning to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mornin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 Jones. This is Mr Jon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morning to you.Good morning to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mornin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s Green. This is Miss Gre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1"/>
          <p:cNvSpPr/>
          <p:nvPr/>
        </p:nvSpPr>
        <p:spPr>
          <a:xfrm>
            <a:off x="685800" y="5880240"/>
            <a:ext cx="58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"/>
          <p:cNvSpPr/>
          <p:nvPr/>
        </p:nvSpPr>
        <p:spPr>
          <a:xfrm>
            <a:off x="1219320" y="8380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Let’s ch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1295280" y="2514600"/>
            <a:ext cx="81536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 is Mr Jon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 is Miss Gre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d morning, Mr Jon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d morning, Miss Gre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2" descr="bj1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1219320" y="2831040"/>
            <a:ext cx="7696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Listen to and repeat “Let’ s talk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Draw and say your classmates to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r par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WordArt 7"/>
          <p:cNvSpPr txBox="1"/>
          <p:nvPr/>
        </p:nvSpPr>
        <p:spPr>
          <a:xfrm>
            <a:off x="2133720" y="990720"/>
            <a:ext cx="6400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round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Homework </a:t>
            </a:r>
            <a:endParaRPr b="0" lang="en-US" sz="1800" spc="1" strike="noStrike">
              <a:ln w="12600">
                <a:solidFill>
                  <a:srgbClr val="b2b2b2"/>
                </a:solidFill>
                <a:round/>
              </a:ln>
              <a:solidFill>
                <a:srgbClr val="00ff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08EC-B4AA-4F84-8C3D-EE59D9D1C32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1"/>
          <p:cNvSpPr/>
          <p:nvPr/>
        </p:nvSpPr>
        <p:spPr>
          <a:xfrm>
            <a:off x="1109520" y="19051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7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get?name=T1xTZbB_dg1RCvBVdK">
            <a:hlinkClick r:id="rId2"/>
          </p:cNvPr>
          <p:cNvPicPr/>
          <p:nvPr/>
        </p:nvPicPr>
        <p:blipFill>
          <a:blip r:embed="rId3"/>
          <a:srcRect l="0" t="0" r="26156" b="536"/>
          <a:stretch/>
        </p:blipFill>
        <p:spPr>
          <a:xfrm>
            <a:off x="838080" y="1676520"/>
            <a:ext cx="3429000" cy="29811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7"/>
          <p:cNvSpPr/>
          <p:nvPr/>
        </p:nvSpPr>
        <p:spPr>
          <a:xfrm>
            <a:off x="1600200" y="5715000"/>
            <a:ext cx="152388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Mr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Li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2011072518441039345"/>
          <p:cNvPicPr/>
          <p:nvPr/>
        </p:nvPicPr>
        <p:blipFill>
          <a:blip r:embed="rId4"/>
          <a:srcRect l="0" t="0" r="44449" b="33333"/>
          <a:stretch/>
        </p:blipFill>
        <p:spPr>
          <a:xfrm>
            <a:off x="5105520" y="1600200"/>
            <a:ext cx="2895480" cy="28954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1"/>
          <p:cNvSpPr/>
          <p:nvPr/>
        </p:nvSpPr>
        <p:spPr>
          <a:xfrm>
            <a:off x="5715000" y="5715000"/>
            <a:ext cx="30481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Miss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a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533520" y="3808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o are the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1143000" y="10666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可换成本班学生的老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5867280" y="10666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可换成本班学生的老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get?name=T1xTZbB_dg1RCvBVdK">
            <a:hlinkClick r:id="rId2"/>
          </p:cNvPr>
          <p:cNvPicPr/>
          <p:nvPr/>
        </p:nvPicPr>
        <p:blipFill>
          <a:blip r:embed="rId3"/>
          <a:srcRect l="0" t="0" r="26156" b="536"/>
          <a:stretch/>
        </p:blipFill>
        <p:spPr>
          <a:xfrm>
            <a:off x="2743200" y="1523880"/>
            <a:ext cx="3429000" cy="29815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304920" y="228600"/>
            <a:ext cx="32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s is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…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2514600" y="2819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可换成本班学生的老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2819520" y="5257800"/>
            <a:ext cx="35812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s is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Mr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L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2011072518441039345"/>
          <p:cNvPicPr/>
          <p:nvPr/>
        </p:nvPicPr>
        <p:blipFill>
          <a:blip r:embed="rId2"/>
          <a:srcRect l="0" t="0" r="44449" b="33333"/>
          <a:stretch/>
        </p:blipFill>
        <p:spPr>
          <a:xfrm>
            <a:off x="2819520" y="1600200"/>
            <a:ext cx="2895480" cy="28954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380880" y="60948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s is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…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2362320" y="2971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可换成本班学生的老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057400" y="5562720"/>
            <a:ext cx="50292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s is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Miss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a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english_2_章节1_14"/>
          <p:cNvPicPr/>
          <p:nvPr/>
        </p:nvPicPr>
        <p:blipFill>
          <a:blip r:embed="rId2"/>
          <a:srcRect l="32184" t="29308" r="50959" b="52241"/>
          <a:stretch/>
        </p:blipFill>
        <p:spPr>
          <a:xfrm>
            <a:off x="2662200" y="1905120"/>
            <a:ext cx="2268720" cy="33526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2"/>
          <p:cNvSpPr/>
          <p:nvPr/>
        </p:nvSpPr>
        <p:spPr>
          <a:xfrm>
            <a:off x="304920" y="22860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Gues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838080" y="16765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2666880" y="563868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r J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1752480" y="106668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2133720" y="2286000"/>
            <a:ext cx="373356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3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304920" y="22860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Gues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838080" y="16765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2819520" y="586728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ss Gr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1752480" y="106668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5" descr="english_2_章节1_14"/>
          <p:cNvPicPr/>
          <p:nvPr/>
        </p:nvPicPr>
        <p:blipFill>
          <a:blip r:embed="rId2"/>
          <a:srcRect l="61371" t="34738" r="22641" b="50072"/>
          <a:stretch/>
        </p:blipFill>
        <p:spPr>
          <a:xfrm>
            <a:off x="2819520" y="1828800"/>
            <a:ext cx="2840040" cy="38098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9"/>
          <p:cNvSpPr/>
          <p:nvPr/>
        </p:nvSpPr>
        <p:spPr>
          <a:xfrm>
            <a:off x="2057400" y="2362320"/>
            <a:ext cx="4191120" cy="2590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DSC02925"/>
          <p:cNvPicPr/>
          <p:nvPr/>
        </p:nvPicPr>
        <p:blipFill>
          <a:blip r:embed="rId2"/>
          <a:srcRect l="19513" t="7844" r="36588" b="5596"/>
          <a:stretch/>
        </p:blipFill>
        <p:spPr>
          <a:xfrm>
            <a:off x="2819520" y="1981080"/>
            <a:ext cx="2879640" cy="3200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2"/>
          <p:cNvSpPr/>
          <p:nvPr/>
        </p:nvSpPr>
        <p:spPr>
          <a:xfrm>
            <a:off x="304920" y="22860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Gues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838080" y="16765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3048120" y="571500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ss Zha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1752480" y="106668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2286000" y="2971800"/>
            <a:ext cx="38862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1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2"/>
          <p:cNvSpPr/>
          <p:nvPr/>
        </p:nvSpPr>
        <p:spPr>
          <a:xfrm>
            <a:off x="228600" y="152280"/>
            <a:ext cx="929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ay good morning to your teach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3"/>
          <p:cNvSpPr/>
          <p:nvPr/>
        </p:nvSpPr>
        <p:spPr>
          <a:xfrm>
            <a:off x="533520" y="2133720"/>
            <a:ext cx="2819160" cy="19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4"/>
          <p:cNvSpPr/>
          <p:nvPr/>
        </p:nvSpPr>
        <p:spPr>
          <a:xfrm>
            <a:off x="3429000" y="2057400"/>
            <a:ext cx="312408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5"/>
          <p:cNvSpPr/>
          <p:nvPr/>
        </p:nvSpPr>
        <p:spPr>
          <a:xfrm>
            <a:off x="0" y="4114800"/>
            <a:ext cx="2743200" cy="1752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6"/>
          <p:cNvSpPr/>
          <p:nvPr/>
        </p:nvSpPr>
        <p:spPr>
          <a:xfrm>
            <a:off x="2971800" y="4114800"/>
            <a:ext cx="3048120" cy="1905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7"/>
          <p:cNvSpPr/>
          <p:nvPr/>
        </p:nvSpPr>
        <p:spPr>
          <a:xfrm>
            <a:off x="6095880" y="3276720"/>
            <a:ext cx="3048120" cy="21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5334120" y="621648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用自己班学生的老师的照片，让孩子练习用本课句型描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0" y="1143000"/>
            <a:ext cx="95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, this is Mr/Miss…. Good morning, Mr/Miss…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990720" y="2514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班教师照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4038480" y="26668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班教师照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533520" y="4800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班教师照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3352680" y="48006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班教师照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6400800" y="4114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本班教师照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1.mp3" descr=""/>
          <p:cNvPicPr/>
          <p:nvPr/>
        </p:nvPicPr>
        <p:blipFill>
          <a:blip r:embed="rId2"/>
          <a:stretch/>
        </p:blipFill>
        <p:spPr>
          <a:xfrm>
            <a:off x="762120" y="6172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7" name="4.mp3" descr=""/>
          <p:cNvPicPr/>
          <p:nvPr/>
        </p:nvPicPr>
        <p:blipFill>
          <a:blip r:embed="rId3"/>
          <a:stretch/>
        </p:blipFill>
        <p:spPr>
          <a:xfrm>
            <a:off x="14479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542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1515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685800" y="38088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Let’s re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english_2_章节1_14"/>
          <p:cNvPicPr/>
          <p:nvPr/>
        </p:nvPicPr>
        <p:blipFill>
          <a:blip r:embed="rId2"/>
          <a:srcRect l="6133" t="11221" r="12642" b="38128"/>
          <a:stretch/>
        </p:blipFill>
        <p:spPr>
          <a:xfrm>
            <a:off x="1219320" y="1523880"/>
            <a:ext cx="624816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9T09:21:1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01:09Z</dcterms:modified>
  <cp:revision>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