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1799-A0E0-47DA-9954-6B59C61C72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AEA2-D592-4AC2-A6F0-1C1E5F081C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1AA-1FD8-4EB9-B076-B2F0C294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186-0C5B-483B-8E79-370212FE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D41-EBC0-404F-8157-F433BCF0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E6E-3D6F-4668-8183-17FD643F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40DF-F897-418B-A3D2-6853A58B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0DBF-C113-42AE-9156-46C956A3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1ABF-543C-40C0-8BCB-489D6D25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EBD6-797D-40B6-BB9B-6F06A94E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D2C8-F351-4C63-8259-4EBCF2B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CCF1-7D73-479A-9FB0-24F12B4E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74E-AC79-4AD6-80AE-6246F66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E74-B837-4A50-96A4-BE17D735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B224-5FAB-4349-9A1A-0F68CA2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2EE-2355-40E6-A947-C13D39E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2FF8-C1AF-4E3A-A36B-1D95885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06EA-36D4-48D7-BA22-27C94D7E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F4B9-26B9-47B5-BB85-8C2EB596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F39-8B41-49C8-AD76-9877CB8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EA2-7867-40E5-9EA1-D91F873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730-BE0F-4FCA-8602-559D5022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006-1E15-4977-B5DB-82D6FF8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229-3AF4-43D9-9E1B-4A02865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54D-B3A3-4499-8948-394C3141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73C-D037-4A69-A001-13F0FA4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4931-2C53-46C4-BD2F-68136E1E6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620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91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56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430-B121-4820-A35E-4DB489AF7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ordArt 4"/>
          <p:cNvSpPr txBox="1"/>
          <p:nvPr/>
        </p:nvSpPr>
        <p:spPr>
          <a:xfrm>
            <a:off x="1571760" y="1268280"/>
            <a:ext cx="5040000" cy="227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传热比赛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11" name="Picture 5" descr="000212"/>
          <p:cNvPicPr/>
          <p:nvPr/>
        </p:nvPicPr>
        <p:blipFill>
          <a:blip r:embed="rId1"/>
          <a:stretch/>
        </p:blipFill>
        <p:spPr>
          <a:xfrm>
            <a:off x="7093080" y="620640"/>
            <a:ext cx="1584360" cy="941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0527"/>
          <p:cNvPicPr/>
          <p:nvPr/>
        </p:nvPicPr>
        <p:blipFill>
          <a:blip r:embed="rId2"/>
          <a:stretch/>
        </p:blipFill>
        <p:spPr>
          <a:xfrm>
            <a:off x="6588000" y="4653000"/>
            <a:ext cx="2303640" cy="1989000"/>
          </a:xfrm>
          <a:prstGeom prst="rect">
            <a:avLst/>
          </a:prstGeom>
          <a:ln w="0">
            <a:noFill/>
          </a:ln>
        </p:spPr>
      </p:pic>
      <p:sp>
        <p:nvSpPr>
          <p:cNvPr id="513" name="矩形 4"/>
          <p:cNvSpPr/>
          <p:nvPr/>
        </p:nvSpPr>
        <p:spPr>
          <a:xfrm>
            <a:off x="2007000" y="58388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云南过桥米线为什么不用火就可以烫熟肉片和米线呢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2984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有油的鸡汤能烫熟肉片呢？一是因为油是热的不良导体，本来就不容易将汤中的热量传导到空气中，二来还因为油不容易蒸发，同时它的密度低，浮在汤面上，还阻止了汤中水分的蒸发，因而温度降低缓慢，就能够起到保温的效果。如果肉片切得很薄，当然就可以在鸡汤里面被烫熟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，平时在喝菜汤的时候一定要注意，如果上面漂着一层油，就看不到热汤表面的热气，容易产生晾凉了的错觉，其实汤还可能很烫，一下子喝下去，很容易烫到嘴巴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u=2172830647,3510477324&amp;fm=0&amp;gp=36"/>
          <p:cNvPicPr/>
          <p:nvPr/>
        </p:nvPicPr>
        <p:blipFill>
          <a:blip r:embed="rId1"/>
          <a:stretch/>
        </p:blipFill>
        <p:spPr>
          <a:xfrm>
            <a:off x="179280" y="260280"/>
            <a:ext cx="1871640" cy="151308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5"/>
          <p:cNvSpPr/>
          <p:nvPr/>
        </p:nvSpPr>
        <p:spPr>
          <a:xfrm>
            <a:off x="831708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14822" y="10800"/>
                </a:moveTo>
                <a:lnTo>
                  <a:pt x="4317" y="17806"/>
                </a:lnTo>
                <a:lnTo>
                  <a:pt x="4317" y="3794"/>
                </a:lnTo>
                <a:close/>
              </a:path>
              <a:path fill="darken" w="22647" h="21600">
                <a:moveTo>
                  <a:pt x="16667" y="3794"/>
                </a:moveTo>
                <a:lnTo>
                  <a:pt x="16667" y="17806"/>
                </a:lnTo>
                <a:lnTo>
                  <a:pt x="18330" y="17806"/>
                </a:lnTo>
                <a:lnTo>
                  <a:pt x="18330" y="3794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为什么滚烫的砂锅放在湿地上易破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因为砂锅是热的不良导体，滚烫砂锅放在湿地上时，地面的温度要比沙锅低得多，因此砂锅外壁迅速放热，温度降低，体积收缩；而砂锅内壁温度降低慢，还来不及收缩，砂锅内外收缩不均匀，容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u=1609884436,3847512261&amp;fm=0&amp;gp=20"/>
          <p:cNvPicPr/>
          <p:nvPr/>
        </p:nvPicPr>
        <p:blipFill>
          <a:blip r:embed="rId1"/>
          <a:stretch/>
        </p:blipFill>
        <p:spPr>
          <a:xfrm>
            <a:off x="6156360" y="4365720"/>
            <a:ext cx="2498760" cy="208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煮“生”鱼汤是怎么回事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找一个长长的大试管，加入八分满的水，然后放入一条小鱼。用试管夹夹紧试管，将试管倾斜着放到酒精灯上，仅对中间部分加热，慢慢的，试管上部的水已经被烧开了，可是下面的小鱼居然还自在地游来游去。这个实验充分说明了液体的热胀冷缩和水是热的不良导体。试管中部的水被酒精灯加热后，温度升高，体积变大，向上流动，上部的冷水补充过来，继续被加热，此时可以明确得出水的传热主要是靠对流的结论。而试管下部的水，没有被加热，无法上升参加对流，只能靠热传导吸收一点点热能，因而水温上升得非常缓慢，等到试管上面的水都烧开了，下面的水温度却不比原来高多少，因此小鱼仍然可以生存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DF48-2CA4-4BAB-BF79-27C60B5616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为什么许多炊具都用金属制造？而它们的把柄却是用非金属材料制成的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5" name="Picture 5" descr="u=3522529869,3261478544&amp;fm=0&amp;gp=34"/>
          <p:cNvPicPr/>
          <p:nvPr/>
        </p:nvPicPr>
        <p:blipFill>
          <a:blip r:embed="rId1"/>
          <a:stretch/>
        </p:blipFill>
        <p:spPr>
          <a:xfrm>
            <a:off x="755640" y="260280"/>
            <a:ext cx="3672000" cy="324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u=462376568,3787163126&amp;fm=0&amp;gp=24"/>
          <p:cNvPicPr/>
          <p:nvPr/>
        </p:nvPicPr>
        <p:blipFill>
          <a:blip r:embed="rId2"/>
          <a:stretch/>
        </p:blipFill>
        <p:spPr>
          <a:xfrm>
            <a:off x="5580000" y="620640"/>
            <a:ext cx="2808360" cy="23464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0005"/>
          <p:cNvPicPr/>
          <p:nvPr/>
        </p:nvPicPr>
        <p:blipFill>
          <a:blip r:embed="rId3"/>
          <a:stretch/>
        </p:blipFill>
        <p:spPr>
          <a:xfrm>
            <a:off x="4932360" y="4941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1"/>
          <p:cNvSpPr/>
          <p:nvPr/>
        </p:nvSpPr>
        <p:spPr>
          <a:xfrm>
            <a:off x="3301920" y="3108240"/>
            <a:ext cx="72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2701d"/>
          <p:cNvPicPr/>
          <p:nvPr/>
        </p:nvPicPr>
        <p:blipFill>
          <a:blip r:embed="rId1"/>
          <a:stretch/>
        </p:blipFill>
        <p:spPr>
          <a:xfrm>
            <a:off x="380880" y="907920"/>
            <a:ext cx="8763120" cy="574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33200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第一名  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第二名  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第三名  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WordArt 4"/>
          <p:cNvSpPr txBox="1"/>
          <p:nvPr/>
        </p:nvSpPr>
        <p:spPr>
          <a:xfrm>
            <a:off x="826920" y="692280"/>
            <a:ext cx="2305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赛结果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24" name="Picture 6" descr="32005324195656[1]"/>
          <p:cNvPicPr/>
          <p:nvPr/>
        </p:nvPicPr>
        <p:blipFill>
          <a:blip r:embed="rId1"/>
          <a:stretch/>
        </p:blipFill>
        <p:spPr>
          <a:xfrm>
            <a:off x="6156360" y="3500280"/>
            <a:ext cx="2660760" cy="266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为什么用铁锅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铁锅炒菜的时候会有少量的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铁离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入食物中，而人体合成血红蛋白最重要的元素就是铁离子，所以长期使用铁锅炒菜做饭可以有效治疗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缺铁性贫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3200"/>
            </a:b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有经验的厨师在炒菜时加入适量食用醋，加醋主要是与铁生成可溶性盐，防止生成铁的氧化物影响吸收，同时溶解已生成的氧化物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铁锅：目前最安全的锅 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界卫生组织的专家建议使用铁锅，铁锅是我国的传统厨具，一般不含其它化学物质，不会氧化。在炒菜、煮食过程中，铁锅不会有溶出物，不存在脱落问题，即使有铁物质溶出，对人体吸收也是有好处的。世卫专家甚至认为，用铁锅烹饪是最直接的补铁方法。 </a:t>
            </a:r>
            <a:br>
              <a:rPr sz="2800"/>
            </a:b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提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锅容易生锈，不宜盛食物过夜。同时，尽量不要用铁锅煮汤，以免铁锅表面保护其不生锈的食油层消失。刷锅时也应尽量少用洗涤剂，之后还要尽量将锅内的水擦净。如果有轻微的锈迹，可用醋来清洗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铝锅的特性是热分布优良，且锅体较轻。但使用不当铝会大量溶出，长期食铝过多，会加速人体衰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铝锅不宜用于高温煎炒菜，高温或者金属铲在炒菜时与铝锅碰撞、摩擦都有可能使铝成分释放出来。此外，铝锅也不能装强酸强碱的菜肴，如腌制食品。 </a:t>
            </a:r>
            <a:br>
              <a:rPr sz="2800"/>
            </a:b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提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量不要使用铝制餐具。铝餐具更不能和铁餐具搭配使用，两者发生化学作用会导致更多的铝离子进入食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铜锅好不好？为什么？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920" y="980640"/>
            <a:ext cx="8642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去，人们还使用过铜锅。人类发现和使用铜比铁早得多，首先用铜来做锅，那是很自然的。在出现了铁锅以后，有的人还是喜欢用铜锅。铜有光泽，看起来很美观。在金属里，铜的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传热能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仅次于银，排在</a:t>
            </a: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第二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一点胜过了铁。用铜做炊具，最大的缺点是它容易产生有毒的锈，这就是人们说的铜绿（嘿嘿 和孔雀石的成分一样）。另外，使用铜锅，会破坏食物中的维生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工业的发展，人们发现用铜来做锅实在是委屈了它。铜的产量不多，价格昂贵，用来做电线，造电机（嘿嘿 包括电脑里的芯片），以至制造枪炮子弹，更能发挥它的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，铁锅取代了铜锅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冬天时，地上铺的地毯和瓷砖具有同样的温度，但光脚站在瓷砖上感觉比站在地毯上冷得多，为什么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温度下，瓷砖比地毯让人感觉到冷。这是因为瓷砖的导热性好，人触摸上去后身体的热量马上被传导开了，而地毯导热能力较差，会将热量聚集在触摸点周围。 所以人的感觉其实并没有错，这时候的瓷砖的局部温度确实是比地毯的局部温度要低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4:52:59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39:39Z</dcterms:modified>
  <cp:revision>1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