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DCD0-D0DC-42BD-BCD2-17EAE990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42D-3E22-484C-AF71-6A61B1CF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0BB-2F5D-4D53-A71D-159DB8C4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118-7F36-4534-A4A8-A3DC2879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BCC4-FFE3-4EC7-BE71-1C6E25E7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C648-AAB2-4523-9D82-E84D32DE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7601-72B1-43CA-B88C-2B11D5A7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70B6-5143-4D12-B084-5A68F482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6A86-B76D-4C95-9993-A6977877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C0BD-39EE-4FFC-95B8-7B721919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F796-C207-4F9A-BE83-1AC95258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73C-0B4B-4A30-8EFE-96351ED0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2629-15F1-4C55-931C-4A63C048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97E0-4789-47BB-859A-2F3725BE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7273-5ADD-4535-AFB6-C54C5C40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1BF2-3FC5-476D-9EAE-CBD199FA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40AD-2D98-4E06-B70B-1A18158B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179B1-A96C-46A7-9D2D-D9232E10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9F0B1-74F9-4D72-A71F-A9587882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B3C23-A6AB-4EB8-845C-7A8A94D0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C5701-80D3-4C0F-82B0-0CED7E3B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10EA1-5ACB-4C4F-8EA6-D0D66A76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C58-B979-49D0-B16F-330106CD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7EDAC-20D9-4B62-BBDE-7C154DF0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BB0DC-7173-42F0-A2C4-F4BE13BD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368C-E2DE-4B78-B59B-1EC4FF97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9BCCA-29AC-4837-97B0-B804FE04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99275-3185-4729-97C3-4314864A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5F795-4431-4554-9FC6-1F3D2125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D551B-7072-4033-A5A1-5C5EC26F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97F-2A5F-4AEA-BBFB-243EF607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80F-9BF8-492D-B78A-7CCD7FD3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8E9-D5E9-42A8-8580-4DCCF63F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655-36B4-4A4C-84D8-B76EF468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04F-D310-40F8-A655-DB2589BE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411-4093-4E18-ACC8-33361004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8768-6234-4B54-AA9B-34B75A277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7F71-2A27-467E-8687-5FCD920F3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E9C1-D52C-414C-9570-218983713C4D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页脚占位符 2"/>
          <p:cNvSpPr/>
          <p:nvPr/>
        </p:nvSpPr>
        <p:spPr>
          <a:xfrm>
            <a:off x="2195640" y="5877000"/>
            <a:ext cx="511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2195640" y="2060640"/>
            <a:ext cx="51130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大道之行也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968480" y="357336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1903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e91903"/>
                </a:solidFill>
                <a:latin typeface="楷体_GB2312"/>
                <a:ea typeface="楷体_GB2312"/>
              </a:rPr>
              <a:t>、男有分，女有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699360" y="4724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男的都有职务，女子都能有归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06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矜、寡、孤、独、残疾者都能得到社会的供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3540240" y="981000"/>
            <a:ext cx="202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1903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e91903"/>
                </a:solidFill>
                <a:latin typeface="楷体_GB2312"/>
                <a:ea typeface="楷体_GB2312"/>
              </a:rPr>
              <a:t>、矜、寡、孤、独、废疾者皆有所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549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1903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e91903"/>
                </a:solidFill>
                <a:latin typeface="楷体_GB2312"/>
                <a:ea typeface="楷体_GB2312"/>
              </a:rPr>
              <a:t>、货恶其弃于地也，不必藏于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184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对于财货，人们憎恨把它扔在地上的行为，却不一定要自己去私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350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1903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e91903"/>
                </a:solidFill>
                <a:latin typeface="楷体_GB2312"/>
                <a:ea typeface="楷体_GB2312"/>
              </a:rPr>
              <a:t>、力恶其不出于身也，不必为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4508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人们都愿意为公众之事竭尽全力，而不一定为自己谋私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69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1903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e91903"/>
                </a:solidFill>
                <a:latin typeface="楷体_GB2312"/>
                <a:ea typeface="楷体_GB2312"/>
              </a:rPr>
              <a:t>、是故谋闭而不兴，盗窃乱贼而不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170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因此奸邪之谋不会发生，盗窃、造反和害人的事情不会发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328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1903"/>
                </a:solidFill>
                <a:latin typeface="楷体_GB2312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e91903"/>
                </a:solidFill>
                <a:latin typeface="楷体_GB2312"/>
                <a:ea typeface="楷体_GB2312"/>
              </a:rPr>
              <a:t>、故外户而不闭，是谓大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0" y="443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所以（人们）只是从外面把门扇合上而不用门闩插门，这就是所说的理想社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D7AE-046E-4A5F-AA8F-4A79BF3011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kz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kzzyp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1"/>
          <p:cNvSpPr/>
          <p:nvPr/>
        </p:nvSpPr>
        <p:spPr>
          <a:xfrm>
            <a:off x="541440" y="5519880"/>
            <a:ext cx="60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078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大道施行的时候，天下是人们所共有的，把有贤德、有才能的人选出来（给大家办事），（人人）讲求诚信，崇尚和睦。因此人们不单奉养自己的父母，不单赋予自己的子女，要使老年人终其天年，中年人能为社会效力，幼童能顺利地成长，使老而无妻的人、老而无夫的人、幼年丧父的孩子、老而无子的人、残疾人都能得到供养。男子要有职业，女子要及时婚配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95280" y="333360"/>
            <a:ext cx="874872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货</a:t>
            </a:r>
            <a:r>
              <a:rPr b="1" lang="zh-CN" sz="4800" spc="-1" strike="noStrike" u="sng">
                <a:solidFill>
                  <a:srgbClr val="cc3399"/>
                </a:solidFill>
                <a:uFillTx/>
                <a:latin typeface="Arial"/>
                <a:ea typeface="楷体_GB2312"/>
              </a:rPr>
              <a:t>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其弃于地也，不必藏于己；力恶其不出于身也，不必为己。</a:t>
            </a:r>
            <a:r>
              <a:rPr b="1" lang="zh-CN" sz="4800" spc="-1" strike="noStrike" u="sng">
                <a:solidFill>
                  <a:srgbClr val="cc3399"/>
                </a:solidFill>
                <a:uFillTx/>
                <a:latin typeface="Arial"/>
                <a:ea typeface="楷体_GB2312"/>
              </a:rPr>
              <a:t>是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谋闭而不兴，盗窃</a:t>
            </a:r>
            <a:r>
              <a:rPr b="1" lang="zh-CN" sz="4800" spc="-1" strike="noStrike" u="sng">
                <a:solidFill>
                  <a:srgbClr val="cc3399"/>
                </a:solidFill>
                <a:uFillTx/>
                <a:latin typeface="Arial"/>
                <a:ea typeface="楷体_GB2312"/>
              </a:rPr>
              <a:t>乱贼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而不</a:t>
            </a:r>
            <a:r>
              <a:rPr b="1" lang="zh-CN" sz="4800" spc="-1" strike="noStrike" u="sng">
                <a:solidFill>
                  <a:srgbClr val="cc3399"/>
                </a:solidFill>
                <a:uFillTx/>
                <a:latin typeface="Arial"/>
                <a:ea typeface="楷体_GB2312"/>
              </a:rPr>
              <a:t>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故</a:t>
            </a:r>
            <a:r>
              <a:rPr b="1" lang="zh-CN" sz="4800" spc="-1" strike="noStrike" u="sng">
                <a:solidFill>
                  <a:srgbClr val="cc3399"/>
                </a:solidFill>
                <a:uFillTx/>
                <a:latin typeface="Arial"/>
                <a:ea typeface="楷体_GB2312"/>
              </a:rPr>
              <a:t>外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而不闭，是谓</a:t>
            </a:r>
            <a:r>
              <a:rPr b="1" lang="zh-CN" sz="4800" spc="-1" strike="noStrike" u="sng">
                <a:solidFill>
                  <a:srgbClr val="cc3399"/>
                </a:solidFill>
                <a:uFillTx/>
                <a:latin typeface="Arial"/>
                <a:ea typeface="楷体_GB2312"/>
              </a:rPr>
              <a:t>大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900000" y="1413000"/>
            <a:ext cx="11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1903"/>
                </a:solidFill>
                <a:latin typeface="Arial"/>
                <a:ea typeface="楷体_GB2312"/>
              </a:rPr>
              <a:t>憎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223640" y="4508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1903"/>
                </a:solidFill>
                <a:latin typeface="Arial"/>
                <a:ea typeface="楷体_GB2312"/>
              </a:rPr>
              <a:t>造反、害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957760" y="450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1903"/>
                </a:solidFill>
                <a:latin typeface="Arial"/>
                <a:ea typeface="楷体_GB2312"/>
              </a:rPr>
              <a:t>兴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4932000" y="4581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1903"/>
                </a:solidFill>
                <a:latin typeface="Arial"/>
                <a:ea typeface="楷体_GB2312"/>
              </a:rPr>
              <a:t>从外面把门合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1846800" y="5734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1903"/>
                </a:solidFill>
                <a:latin typeface="Arial"/>
                <a:ea typeface="楷体_GB2312"/>
              </a:rPr>
              <a:t>理想社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526120" y="342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因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539640" y="189000"/>
            <a:ext cx="597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根据课文内容回答问题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1557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本文划分层次，并找出能概括大同社会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357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三层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天下为公，选贤举能，讲信修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文中找出能和下面各项相对应的句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人人都能受到社会关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人人都能安居乐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货尽其用，人尽其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306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故人不独亲其亲，不独子其子，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废疾者皆有所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4365720"/>
            <a:ext cx="76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男有分，女有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0" y="508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货恶其弃于地也，不必藏于己；力恶其不出于身也，不必为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9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本文阐述的大同社会有什么基本特征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2637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答第二题问题中三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或者：故人不独亲其亲，不独子其子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……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力恶其不出于身也，不必为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620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1903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同社会同陶渊明描绘的那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外桃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没有相似之处？你是如何看待文中所描绘的大同社会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3789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（开放性试题，能把自己两文的感受写出来即可，并做到自圆其说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76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1903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e91903"/>
                </a:solidFill>
                <a:latin typeface="楷体_GB2312"/>
                <a:ea typeface="楷体_GB2312"/>
              </a:rPr>
              <a:t>、大道之行也，天下为公，选贤与能，讲信修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大道实现的时候，天下都是公有的，高尚能干的人被选拔出来，社会讲求诚信，培养和睦气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0" y="407664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1903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e91903"/>
                </a:solidFill>
                <a:latin typeface="楷体_GB2312"/>
                <a:ea typeface="楷体_GB2312"/>
              </a:rPr>
              <a:t>、故人不独亲其亲，不独子其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0" y="501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所以人们都不只以自己的亲人为亲，不只以自己的儿子为儿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12"/>
          <p:cNvSpPr txBox="1"/>
          <p:nvPr/>
        </p:nvSpPr>
        <p:spPr>
          <a:xfrm>
            <a:off x="395280" y="0"/>
            <a:ext cx="5329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翻译以下句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46:54Z</dcterms:modified>
  <cp:revision>1</cp:revision>
  <dc:subject/>
  <dc:title>幻灯片 1</dc:title>
</cp:coreProperties>
</file>