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1B991-07DD-4CFF-A10B-ECA7FBEC8377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4.xml"/><Relationship Id="rId24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ADFD2-BBFD-4B62-8644-701D4B21EF7B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8E01A-B06D-4834-9F8C-3703B732F74E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776F-1A1A-4544-8518-0C6B9AE0D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5AEB-8425-4C6F-89B8-C31524097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3118-109F-4227-A3D7-5B27B7014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DFE5-6348-4E78-ABB7-31AFBAD99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6A707-BCBB-43F4-BB8A-85262FFD2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C75C9-936D-494E-AEB5-F6F2CD5B1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85ADC-624E-4751-B62B-5A43D15F9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37B4B-CBC8-4440-915F-FEA14A3EA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F9BCB-3399-4107-ACD3-A67D841D1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33DAA-6B2B-40D2-AEF6-D789ED894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82CDC-6474-49C3-99B2-57EDC9CC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9057-0EC8-4557-AB93-0AD52A10B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66768-B4D9-4FEB-9C98-5B4DF3A5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8FCAD-423A-40E1-A9D8-F40A7A27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751F1-CE77-40AB-A7B7-329D3253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02DC9-9AD7-426F-BDED-8C11CE19E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BC276-2FA3-4396-966A-273EB8212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6A24-AF71-40EA-940E-514FB1039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A3BD-C4C9-4E65-BE2E-999B2CC37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2F21-7F5E-4ACE-8F1A-8C10DAA22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5774-A674-4E9C-8EE6-8C1E0C1B6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3989-6C42-4BB5-A8B5-C4F6C26F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F002-FD70-46BE-A401-59A9CB95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D3E6-B3FD-4313-9DAF-D6485CDF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ff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A594-5FF0-4DCD-BE14-C9AA88D6FA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ff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063E9-B9FA-4B35-8639-3AAB833BD4C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暴风截屏20080422140721"/>
          <p:cNvPicPr/>
          <p:nvPr/>
        </p:nvPicPr>
        <p:blipFill>
          <a:blip r:embed="rId1"/>
          <a:srcRect l="0" t="1522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684360" y="420840"/>
            <a:ext cx="1295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定滑轮和动滑轮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矩形 3"/>
          <p:cNvSpPr/>
          <p:nvPr/>
        </p:nvSpPr>
        <p:spPr>
          <a:xfrm>
            <a:off x="4119840" y="595008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ff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使用规范说明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ahoma"/>
              </a:rPr>
              <a:t> </a:t>
            </a:r>
            <a:r>
              <a:rPr b="0" lang="zh-CN" sz="1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Tahoma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Tahoma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ahoma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Tahoma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Tahoma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Tahoma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Tahoma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Tahoma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Tahoma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Tahoma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Tahoma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E5A0B-90E0-4A92-BE15-A6DA88D2CE8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矩形 5"/>
          <p:cNvSpPr/>
          <p:nvPr/>
        </p:nvSpPr>
        <p:spPr>
          <a:xfrm>
            <a:off x="1187280" y="1125360"/>
            <a:ext cx="7351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Picture 4" descr="暴风截屏20080422140606"/>
          <p:cNvPicPr/>
          <p:nvPr/>
        </p:nvPicPr>
        <p:blipFill>
          <a:blip r:embed="rId1"/>
          <a:stretch/>
        </p:blipFill>
        <p:spPr>
          <a:xfrm>
            <a:off x="3492360" y="3500280"/>
            <a:ext cx="5112000" cy="31417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5622120" y="765000"/>
            <a:ext cx="139932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定滑轮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Picture 6" descr="1520d"/>
          <p:cNvPicPr/>
          <p:nvPr/>
        </p:nvPicPr>
        <p:blipFill>
          <a:blip r:embed="rId2"/>
          <a:stretch/>
        </p:blipFill>
        <p:spPr>
          <a:xfrm>
            <a:off x="468360" y="260280"/>
            <a:ext cx="4968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3574080" y="404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研究计划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722520" y="1395360"/>
            <a:ext cx="8008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研究的问题：定滑轮能否省力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我们的猜测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——————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我们的实验步骤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——————————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——————————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——————————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要注意的事项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小组内要有明确的分工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实验要多做几次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及时填好实验记录。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1042920" y="1397160"/>
          <a:ext cx="7777080" cy="4397040"/>
        </p:xfrm>
        <a:graphic>
          <a:graphicData uri="http://schemas.openxmlformats.org/drawingml/2006/table">
            <a:tbl>
              <a:tblPr/>
              <a:tblGrid>
                <a:gridCol w="1512720"/>
                <a:gridCol w="1368720"/>
                <a:gridCol w="3240000"/>
                <a:gridCol w="1655640"/>
              </a:tblGrid>
              <a:tr h="1033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左边钩码个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右边钩码个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定滑轮的状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（平衡或不平衡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我们的发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7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6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68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6" name="Text Box 35"/>
          <p:cNvSpPr/>
          <p:nvPr/>
        </p:nvSpPr>
        <p:spPr>
          <a:xfrm>
            <a:off x="3646440" y="66024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定滑轮作用实验记录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050227220433981245"/>
          <p:cNvPicPr/>
          <p:nvPr/>
        </p:nvPicPr>
        <p:blipFill>
          <a:blip r:embed="rId1"/>
          <a:stretch/>
        </p:blipFill>
        <p:spPr>
          <a:xfrm>
            <a:off x="1403280" y="476280"/>
            <a:ext cx="3130560" cy="4995720"/>
          </a:xfrm>
          <a:prstGeom prst="rect">
            <a:avLst/>
          </a:prstGeom>
          <a:ln w="0">
            <a:noFill/>
          </a:ln>
        </p:spPr>
      </p:pic>
      <p:sp>
        <p:nvSpPr>
          <p:cNvPr id="118" name="WordArt 3"/>
          <p:cNvSpPr txBox="1"/>
          <p:nvPr/>
        </p:nvSpPr>
        <p:spPr>
          <a:xfrm>
            <a:off x="3635280" y="5734080"/>
            <a:ext cx="165600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塔吊</a:t>
            </a:r>
            <a:endParaRPr b="0" lang="en-US" sz="24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2"/>
          <a:stretch/>
        </p:blipFill>
        <p:spPr>
          <a:xfrm>
            <a:off x="4932360" y="476280"/>
            <a:ext cx="337644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暴风截屏20080422140645"/>
          <p:cNvPicPr/>
          <p:nvPr/>
        </p:nvPicPr>
        <p:blipFill>
          <a:blip r:embed="rId1"/>
          <a:stretch/>
        </p:blipFill>
        <p:spPr>
          <a:xfrm>
            <a:off x="0" y="0"/>
            <a:ext cx="4932360" cy="3699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4841640" y="1268280"/>
            <a:ext cx="15210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动滑轮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Picture 6" descr="1518d"/>
          <p:cNvPicPr/>
          <p:nvPr/>
        </p:nvPicPr>
        <p:blipFill>
          <a:blip r:embed="rId2"/>
          <a:stretch/>
        </p:blipFill>
        <p:spPr>
          <a:xfrm>
            <a:off x="3419640" y="3784680"/>
            <a:ext cx="489096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468360" y="33336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  <a:ea typeface="楷体_GB2312"/>
              </a:rPr>
              <a:t>动滑轮能省力吗？我们这样来研究：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539640" y="1628640"/>
            <a:ext cx="820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组装一个动滑轮实验装置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用测力计直接提升钩码，记录用了多大的力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借助动滑轮提升同样多的钩码，记录用了多少力气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比较两次使用的力的大小。你有什么发现？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文本框 1"/>
          <p:cNvSpPr/>
          <p:nvPr/>
        </p:nvSpPr>
        <p:spPr>
          <a:xfrm>
            <a:off x="895320" y="5837400"/>
            <a:ext cx="77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模板下载：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3162240" y="76500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动滑轮作用实验记录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26920" y="1557360"/>
          <a:ext cx="7632720" cy="4514760"/>
        </p:xfrm>
        <a:graphic>
          <a:graphicData uri="http://schemas.openxmlformats.org/drawingml/2006/table">
            <a:tbl>
              <a:tblPr/>
              <a:tblGrid>
                <a:gridCol w="2543040"/>
                <a:gridCol w="2546640"/>
                <a:gridCol w="2543040"/>
              </a:tblGrid>
              <a:tr h="1033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直接提升重物的力（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用动滑轮提升重物的（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我们的发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0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62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62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5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1524d"/>
          <p:cNvPicPr/>
          <p:nvPr/>
        </p:nvPicPr>
        <p:blipFill>
          <a:blip r:embed="rId1"/>
          <a:stretch/>
        </p:blipFill>
        <p:spPr>
          <a:xfrm>
            <a:off x="395280" y="343080"/>
            <a:ext cx="4248000" cy="3141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1519d"/>
          <p:cNvPicPr/>
          <p:nvPr/>
        </p:nvPicPr>
        <p:blipFill>
          <a:blip r:embed="rId2"/>
          <a:stretch/>
        </p:blipFill>
        <p:spPr>
          <a:xfrm>
            <a:off x="4500720" y="333360"/>
            <a:ext cx="4027320" cy="5759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1516d"/>
          <p:cNvPicPr/>
          <p:nvPr/>
        </p:nvPicPr>
        <p:blipFill>
          <a:blip r:embed="rId3"/>
          <a:stretch/>
        </p:blipFill>
        <p:spPr>
          <a:xfrm>
            <a:off x="395280" y="3429000"/>
            <a:ext cx="410544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inxing</cp:lastModifiedBy>
  <dcterms:modified xsi:type="dcterms:W3CDTF">2017-04-16T15:47:34Z</dcterms:modified>
  <cp:revision>1</cp:revision>
  <dc:subject/>
  <dc:title>幻灯片 1</dc:title>
</cp:coreProperties>
</file>