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BC0E-457E-42F6-A101-51650D85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3622-168E-4B9B-9BBE-227B64FE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81E-F849-4563-A470-E62F3C4F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A03-3207-407D-81DB-A3B3912C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156-FB5C-42E2-AE33-EB2C0182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3DF-B6D4-4FE2-9CA7-69081A55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408-4274-452E-876C-47A87D87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798F-698C-4AE0-AC38-E5197E7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CF3B-F4D3-4CC9-9B0E-7963F59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8F4C-5049-429C-9FF2-B52FAAA4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C6C8-21AE-4DE6-A5D3-7BE53D3D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1084-225C-4D70-ABE0-98824B9A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FBA-F182-4F4A-9CBD-28C6D546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271-F595-45E5-8251-5518BD18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C660-FEED-4596-AD51-98A25F8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9F8-5A3D-4525-9CE1-2AD3C3E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8C31-C49F-4996-805A-F4C519D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42C6-BC94-40C6-B05B-B84C7E55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1048-D105-44DB-A34B-63F519F9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D6CA-7A62-4488-A632-788BDA96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0E57-743C-479E-8771-D07C7F35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97D5-22A8-4CBF-8124-E651841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5316-7821-4798-91BD-720FA81F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3D35-A976-4D2F-A4E6-9458CF2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016-9D84-4FEC-928D-58675B77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0CAB-3F98-4EE3-A7ED-46BCD68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9B21-CDC3-4D0C-9F32-CE00F45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C309-C845-41BE-818A-7699907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0311-0D02-4E51-9FE5-429F8E2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1C0F-265D-43C0-939D-BF4BA9A7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FE29-BCBB-4306-A9D3-E50C06BE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9319-C511-4014-83EC-E0588313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0D6F-8286-4A18-9191-DF92BAA4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71A0-1C7E-413A-8591-C5011430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DFD6-03A9-4C16-972B-5521E98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B7B-D4AC-4EBD-B347-30901D13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63A7-49B9-48D8-AD4F-58CE194A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293E6-73B1-4358-84E2-E599D86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1BD8-BF35-43DB-A4E3-753EC131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0D1E-08A5-4B63-B811-2B5FB20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74EA-223E-4C1E-A3B6-A93FE88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37E2-4BC3-4690-AE9C-CEAA7E2B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DD45-D789-4B59-80BA-26D0A251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F29DF-DEDC-4E9F-A82D-5341CBAC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781F-A9BC-47DA-9C57-C6F592EC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394-6595-4844-BC0F-93B07BD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ECA-5F0C-461C-92A2-6754328F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36E-5CAD-43FE-AFBB-4E70DCB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48F-702F-47FB-BC85-ED425A63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BD9-305B-471E-9DFC-FF83A71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337-5092-4B2C-8496-8D7B421D9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12B-F1A5-458D-88F0-F602A262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AA8-E587-4C8A-99EC-C8D33534F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670D-8589-4F7E-9CAE-5C0D7983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3"/>
          <p:cNvSpPr txBox="1"/>
          <p:nvPr/>
        </p:nvSpPr>
        <p:spPr>
          <a:xfrm>
            <a:off x="1332000" y="1773360"/>
            <a:ext cx="6535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微软雅黑"/>
              </a:rPr>
              <a:t>电能从哪里来</a:t>
            </a:r>
            <a:endParaRPr b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1881000" y="5764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W020080725286153871714"/>
          <p:cNvPicPr/>
          <p:nvPr/>
        </p:nvPicPr>
        <p:blipFill>
          <a:blip r:embed="rId1"/>
          <a:stretch/>
        </p:blipFill>
        <p:spPr>
          <a:xfrm>
            <a:off x="1187280" y="1268280"/>
            <a:ext cx="7128000" cy="4276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250380058CD14D04B8A3EE8BF5182F28"/>
          <p:cNvPicPr/>
          <p:nvPr/>
        </p:nvPicPr>
        <p:blipFill>
          <a:blip r:embed="rId2"/>
          <a:stretch/>
        </p:blipFill>
        <p:spPr>
          <a:xfrm>
            <a:off x="1187280" y="1125360"/>
            <a:ext cx="7128000" cy="475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3712D"/>
          <p:cNvPicPr/>
          <p:nvPr/>
        </p:nvPicPr>
        <p:blipFill>
          <a:blip r:embed="rId1"/>
          <a:stretch/>
        </p:blipFill>
        <p:spPr>
          <a:xfrm>
            <a:off x="905040" y="571680"/>
            <a:ext cx="7333920" cy="571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EarthTalkWindPowerNIMBY-700221(1)"/>
          <p:cNvPicPr/>
          <p:nvPr/>
        </p:nvPicPr>
        <p:blipFill>
          <a:blip r:embed="rId2"/>
          <a:stretch/>
        </p:blipFill>
        <p:spPr>
          <a:xfrm>
            <a:off x="108000" y="425520"/>
            <a:ext cx="8999640" cy="5956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0,0,412,12172,1728,2304,ec7f4352"/>
          <p:cNvPicPr/>
          <p:nvPr/>
        </p:nvPicPr>
        <p:blipFill>
          <a:blip r:embed="rId1"/>
          <a:stretch/>
        </p:blipFill>
        <p:spPr>
          <a:xfrm>
            <a:off x="2627280" y="765000"/>
            <a:ext cx="3889440" cy="518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2009-7-20_212428502"/>
          <p:cNvPicPr/>
          <p:nvPr/>
        </p:nvPicPr>
        <p:blipFill>
          <a:blip r:embed="rId2"/>
          <a:stretch/>
        </p:blipFill>
        <p:spPr>
          <a:xfrm>
            <a:off x="826920" y="62064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258920" y="1773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判  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16000" y="2349360"/>
            <a:ext cx="896436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、电能只能由光能转化而来。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转动小电动机不能点亮小灯泡说明它没有发出电来。（    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用小磁针和绕圈组成的电流检测器可以检测小电动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有没有发出电来。（       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检测时磁针要远离小电动机，因为小电动机里有磁铁（     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Tahoma"/>
                <a:ea typeface="宋体"/>
              </a:rPr>
              <a:t>、电源是将其它形式的能转化成电能的装置。（        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766760" y="263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ahoma"/>
                <a:ea typeface="黑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748320" y="465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843876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ahoma"/>
                <a:ea typeface="黑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8499600" y="537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4868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492360" y="836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能从哪里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340000" y="836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能转化成了什么能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58920" y="2637000"/>
            <a:ext cx="223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电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洗衣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电饭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电视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003640" y="2565360"/>
            <a:ext cx="223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机械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热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光能和声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光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124000" y="2997360"/>
            <a:ext cx="3024360" cy="2087280"/>
          </a:xfrm>
          <a:prstGeom prst="line">
            <a:avLst/>
          </a:prstGeom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"/>
          <p:cNvSpPr/>
          <p:nvPr/>
        </p:nvSpPr>
        <p:spPr>
          <a:xfrm flipV="1">
            <a:off x="2556000" y="2923920"/>
            <a:ext cx="2520720" cy="865080"/>
          </a:xfrm>
          <a:prstGeom prst="line">
            <a:avLst/>
          </a:prstGeom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 flipV="1">
            <a:off x="2627280" y="3715920"/>
            <a:ext cx="2521080" cy="792360"/>
          </a:xfrm>
          <a:prstGeom prst="line">
            <a:avLst/>
          </a:prstGeom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V="1">
            <a:off x="2627280" y="4365720"/>
            <a:ext cx="2449440" cy="792000"/>
          </a:xfrm>
          <a:prstGeom prst="line">
            <a:avLst/>
          </a:prstGeom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95280" y="1628640"/>
            <a:ext cx="874872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小发电机能把其他形式的能转化成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机械能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热能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电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蓄电池放电时把（     ）。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化学能转化成电能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化学能转化成热能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电能转化成了化学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核电厂生产的电能是由（     ）转化而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机械能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热能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原子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发电机发出的电力大小与（     ）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转动速度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电动机的大小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转动方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10480" y="177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996000" y="2924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083200" y="4076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442120" y="5229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492360" y="836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能从哪里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1773360"/>
            <a:ext cx="87487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水电站发出的电能是由（    ）转化而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风能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热能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水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风力发电站发出的电能是由（       ）转化而来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化学能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风能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水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5010120" y="1963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871600" y="3213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3492360" y="836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能从哪里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798480" y="571176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826920" y="2205000"/>
            <a:ext cx="79930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我认识             、              、光电池等种类的电池。其中光电池是把             转化成电能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小灯泡连接到电路中不会发光，我们可以用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来检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8422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  <a:ea typeface="宋体"/>
              </a:rPr>
              <a:t>干电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492360" y="836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电能从哪里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>
            <a:off x="2627280" y="29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4140360" y="2924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4500720" y="371628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1403280" y="522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44996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  <a:ea typeface="宋体"/>
              </a:rPr>
              <a:t>蓄电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4716000" y="32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  <a:ea typeface="宋体"/>
              </a:rPr>
              <a:t>光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27120" y="472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  <a:ea typeface="宋体"/>
              </a:rPr>
              <a:t>电流检测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380D-37E0-4BFD-8E35-B8C2792C50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684360" y="586080"/>
            <a:ext cx="799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年前古希腊人发现磨擦过的琥珀能吸收物品，称这种现象为“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84360" y="1522440"/>
            <a:ext cx="799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，英国医生吉尔伯特做了多年的实验，发现了“电力”、“电吸引”等许多现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2457720"/>
            <a:ext cx="799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普鲁士（德国的前身）的一位副主教克莱斯特在实验中发现了放电现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684360" y="3394440"/>
            <a:ext cx="799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5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美国的富兰克林做了著名的风筝实验，“捕捉天电”，证明天空的闪电和地面上的电是一回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84360" y="4330440"/>
            <a:ext cx="799128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早开始电流研究的是意大利的解剖学教授伽伐尼，他花费了整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的时间，研究象青蛙腿这种肌肉运动中的电气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684360" y="5667480"/>
            <a:ext cx="7991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春季，有关电流起因的争论有了进一步的突破。伏打发明了著名的“伏打电池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4"/>
          <p:cNvSpPr/>
          <p:nvPr/>
        </p:nvSpPr>
        <p:spPr>
          <a:xfrm>
            <a:off x="172080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c71d0e381bc2fecdb311c765"/>
          <p:cNvPicPr/>
          <p:nvPr/>
        </p:nvPicPr>
        <p:blipFill>
          <a:blip r:embed="rId1"/>
          <a:stretch/>
        </p:blipFill>
        <p:spPr>
          <a:xfrm>
            <a:off x="395280" y="981000"/>
            <a:ext cx="4286160" cy="2247840"/>
          </a:xfrm>
          <a:prstGeom prst="rect">
            <a:avLst/>
          </a:prstGeom>
          <a:ln w="0">
            <a:noFill/>
          </a:ln>
        </p:spPr>
      </p:pic>
      <p:sp>
        <p:nvSpPr>
          <p:cNvPr id="188" name="WordArt 6"/>
          <p:cNvSpPr txBox="1"/>
          <p:nvPr/>
        </p:nvSpPr>
        <p:spPr>
          <a:xfrm>
            <a:off x="395280" y="0"/>
            <a:ext cx="302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电池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9" name="Picture 8" descr="b853d6fc7357c6c2fd037f7d"/>
          <p:cNvPicPr/>
          <p:nvPr/>
        </p:nvPicPr>
        <p:blipFill>
          <a:blip r:embed="rId2"/>
          <a:stretch/>
        </p:blipFill>
        <p:spPr>
          <a:xfrm>
            <a:off x="4788000" y="260280"/>
            <a:ext cx="1981080" cy="174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9dc3cf589b4051b8810a181d"/>
          <p:cNvPicPr/>
          <p:nvPr/>
        </p:nvPicPr>
        <p:blipFill>
          <a:blip r:embed="rId3"/>
          <a:stretch/>
        </p:blipFill>
        <p:spPr>
          <a:xfrm>
            <a:off x="5216400" y="2133720"/>
            <a:ext cx="3927600" cy="2219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1922400" y="3357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干电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542360" y="11253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微型电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539120" y="42210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蓄电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153040" y="4869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化学电池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6" descr="9864a2318d6a81e85edf0ee8"/>
          <p:cNvPicPr/>
          <p:nvPr/>
        </p:nvPicPr>
        <p:blipFill>
          <a:blip r:embed="rId4"/>
          <a:stretch/>
        </p:blipFill>
        <p:spPr>
          <a:xfrm>
            <a:off x="611280" y="4076640"/>
            <a:ext cx="2857320" cy="1886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7"/>
          <p:cNvSpPr/>
          <p:nvPr/>
        </p:nvSpPr>
        <p:spPr>
          <a:xfrm>
            <a:off x="774720" y="59500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燃料电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5462bfa696244b29f51464f"/>
          <p:cNvPicPr/>
          <p:nvPr/>
        </p:nvPicPr>
        <p:blipFill>
          <a:blip r:embed="rId1"/>
          <a:stretch/>
        </p:blipFill>
        <p:spPr>
          <a:xfrm>
            <a:off x="395280" y="404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3790312e9693a46b4ec22643"/>
          <p:cNvPicPr/>
          <p:nvPr/>
        </p:nvPicPr>
        <p:blipFill>
          <a:blip r:embed="rId2"/>
          <a:stretch/>
        </p:blipFill>
        <p:spPr>
          <a:xfrm>
            <a:off x="2484360" y="2602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a28d62d95e8a93aa38012f7b"/>
          <p:cNvPicPr/>
          <p:nvPr/>
        </p:nvPicPr>
        <p:blipFill>
          <a:blip r:embed="rId3"/>
          <a:stretch/>
        </p:blipFill>
        <p:spPr>
          <a:xfrm>
            <a:off x="539640" y="263700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4651a7127fb53ef4c3fd78a1"/>
          <p:cNvPicPr/>
          <p:nvPr/>
        </p:nvPicPr>
        <p:blipFill>
          <a:blip r:embed="rId4"/>
          <a:stretch/>
        </p:blipFill>
        <p:spPr>
          <a:xfrm>
            <a:off x="5580000" y="3573360"/>
            <a:ext cx="2152800" cy="1619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6691320" y="13413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太阳电池（光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514600" y="56610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温差电池（光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6039000" y="53737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核电池（光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195640" y="1341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我们还可以怎样得到电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06880" y="3141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Times New Roman"/>
                <a:ea typeface="黑体"/>
              </a:rPr>
              <a:t>发电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40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xin_2830905081557531187602"/>
          <p:cNvPicPr/>
          <p:nvPr/>
        </p:nvPicPr>
        <p:blipFill>
          <a:blip r:embed="rId1"/>
          <a:stretch/>
        </p:blipFill>
        <p:spPr>
          <a:xfrm>
            <a:off x="1116000" y="1492200"/>
            <a:ext cx="684072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370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8:40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44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