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png" ContentType="image/png"/>
  <Override PartName="/ppt/media/image26.jpeg" ContentType="image/jpeg"/>
  <Override PartName="/ppt/media/image23.png" ContentType="image/png"/>
  <Override PartName="/ppt/media/image20.png" ContentType="image/png"/>
  <Override PartName="/ppt/media/image25.jpeg" ContentType="image/jpeg"/>
  <Override PartName="/ppt/media/image22.gif" ContentType="image/gif"/>
  <Override PartName="/ppt/media/image14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c626"/>
                </a:solidFill>
                <a:latin typeface="-윤명조160"/>
              </a:rPr>
              <a:t>Click to move the slide</a:t>
            </a: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6F88-9065-4859-B603-400A2BAFC0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4E12-389F-461D-ABBE-03986B36F8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CBB-8A17-4A9D-930C-A754DD34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83D-A12A-4C1A-8E4A-16A0B43A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F9E53-D607-49D2-B7E3-62A19D92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4D81E-67DF-4274-8282-CAF34F3C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85AF3-C003-4C11-80AA-35E00192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CD721-4BB8-4D29-B9C4-CC3108D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5B58A-7F34-4ED1-83C8-7672CC1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0B23F-E0FF-4FC4-BC2D-F7E777C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4CE4C-A396-482F-AA18-AF52CA43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391E5-BCA0-4B3E-B47B-4D872A63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9AA67-401D-4D0E-A7EC-1DE7FC7E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92D95-3A56-47A2-A051-6C3EF487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A2C-9E4C-41F1-8125-AD7A99F4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CD5CA-739E-4D0C-909E-B2667C6A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D0CBA-B394-4BF2-82D2-30CDA69F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9448D-DABA-400C-955C-D32BA846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00D2A-D377-45BA-922B-CE1A9F28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D8553-B1C1-4768-B36C-307AD1B8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FF2DB-0738-42C1-9F27-6219234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A831B-D6DF-472F-BAF8-9A1B8EEC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E8FF6-6A65-4CA6-9541-04D3F028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FFC35-C599-4F0B-9B20-09119405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0DC78-5B0E-4A55-8820-E7FD021A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A48-B832-48FD-9E3B-4F1CC7BD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F0A59-7B4D-417D-BDD2-3CCC12C6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8130F-FF65-46DB-94B4-E05C7D62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02BCD-E91F-4AC6-A5B4-E22264BB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48AC3-3F6F-4E05-B83C-A28D0B79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67D85-655F-43BF-B992-88E6E9BE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E7C84-1A88-4C99-BA4F-618110E3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67479-2C16-4EBC-AE11-D26586D0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2FE0A-3128-435F-B6D8-2242ECA4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86E65-E2CD-41A3-A592-73B3E92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55DEF-5008-41CA-BA71-25F1B488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744F-5971-419C-9122-0C707613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99941-F35F-4D73-A3B2-83685E77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9D7CD-5AF2-478D-A41C-07318A35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EFBAB-5A8A-4E12-B61F-096DAC5F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EE3DB-DC5C-4C1E-A598-BA08FB7E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9D57B-1896-46DC-8106-A10138E8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FBC37-CD6C-4945-80D4-F303888E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95709-2AC1-4D99-A30C-661E8486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05CD5-7D2C-4EC3-96FC-9C9320ED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6852C-77E5-4BE1-8544-666B5189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2282B-6B3F-4FA2-9A98-A406826F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A690-0D4D-4BE1-9A8F-1745BA96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11051-41E9-47F1-BA26-3E660535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B2A99-E5D9-4805-87C5-4A2FD4CB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38702-7C7E-43B7-9BC3-43B41042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9E33B-EFB2-45A3-8D0E-B5F66055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CA74B-D32A-427A-A7B5-A410E849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B017B-9202-46F6-9A81-E108BA5D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6E19F-013B-4AC1-8255-3B183B46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71263-0E00-4B24-8325-4C52F36F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9809B-C9DE-4E11-8BDB-48306E5D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F22D1-2C0A-43B9-95C2-7711D3EA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5018-1E4F-4E23-A12C-137192C0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46C3C-28FC-4EBD-843E-25B9C867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7B367-009C-4E33-9AF0-969DD1DB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B13FC-7400-465E-B0A3-DF48DE26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9B4B6-0F15-472C-9A81-61546383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BB5E1-691F-4CA6-8715-AC70AE85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34B6E-C6A6-47BA-9C63-4713E4B8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8F930-6DDA-4E87-A1C8-53326959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7C440-68C5-4A04-8A87-841FECBD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F9BB9-1BBC-453D-9722-59E32081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02DF5-F586-4CF2-AF72-86512743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4314-CDFF-40ED-911C-B81700D7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642A4-6399-43B3-8D3B-3C0990EC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35741-600C-458F-9523-19CCC64F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6476C-95A0-4C2F-A54E-9FCDD9B7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5DB0A-1269-4AE7-A834-82D5A81A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B7AD0-9485-47B2-A7D0-117BBC01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AF003-2C1C-4D54-8F2B-16E3D130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76372-685D-45E8-B9A8-D9348B79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4549A-3A70-414E-9FDA-66A25FFB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7B34E-AA27-4DD2-AD91-920AEFDA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6D45-D0FA-48CB-99ED-27DEFE06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C8FA-8AA9-43B0-AAE7-21F9E985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E62C-956D-4AFB-A9A6-38597F78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A50-7471-43CD-AD2A-98784943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56EF-8B2D-4D76-987E-9C08732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1AEC-173C-4EFC-A65F-5B8A9211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D79F-543E-47C7-9FA9-D0192021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2A63-AA3E-4F73-8EA9-20278FAF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41FB-2B9B-4DBE-8A2C-B1DED918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33AA-0A53-4697-9587-6862E2D4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0AD6-1433-443A-9DB0-E1BFC84C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46F0-129A-4FA7-9A9E-ED84FCA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C764-FAE4-4BE3-BA8F-25419741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C7712-F0CB-4077-BD36-28080D1F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17A-10F2-4F4B-9229-CACA7EC2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ABE6-223C-4069-A386-ED83D9F4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80B5-83EA-42D8-9FA8-511229E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8AFD-8C8F-4723-9CF3-8081703F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0311-83C3-4B4C-A8EA-E3F4C5B0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E5E0-F3A8-4D81-87A2-611BF3B1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FCC0-3F1E-4495-9CDD-CE095CAD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3DBB-D3A2-4709-B3AF-1B216DA3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7EE8-A793-4706-AE50-7A3ED0C3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335D2-8496-40AB-B888-2A0C5E36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E068-11D7-4C7F-B659-727D56E1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DCE-B715-45B3-8828-705BC699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9B83-1962-4BAC-8696-8E0BCEE7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18F8D-C586-43A9-82B6-40960200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FA9BD-9047-41D6-8FDD-8BDB8005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CD93-DA9F-48B3-A1DD-734AD90D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16805-6449-49DD-BFB6-9AF7847E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127A-5C1C-4FB3-B8FF-F3219CC8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DB784-D46F-4BD7-A1DF-AE266F5D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C5A90-C40D-4526-8FDB-0E3721F9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1ACB-DF79-48CB-9E06-56466DB8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DC1F4-5347-4F79-A57F-714E7F7C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8D8-F3E6-42D5-ADA8-C1DF9660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86B2-F60E-4B8E-9209-B7AE6A54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9049-FBED-4B50-B646-668C9936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3089-2A65-4C63-9708-CD959A15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6FB19-830F-45F9-856B-95E1A18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AE123-084B-4847-8C85-60C93B09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61DF-1BA1-4AAB-A362-50EB095C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8776F-5F01-47AD-AAAD-A5C26629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1C549-E8C7-46D5-BF4A-9F653DFA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DB7C7-1898-47ED-89C0-413AF2D0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7F81F-25DC-40CF-B529-EB6FBE66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CD4-9793-4010-8E5B-6F02F499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463B4-DE7A-425B-9E91-47C662EA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B01AC-DFEA-4983-8DD3-6D6B9DE0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CDD1D-7827-4AA1-8E66-8B12060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1E6BB-1E0F-4F9B-9548-5D976DA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78182-44E0-4B3B-BEA8-ED4DE766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551A5-954F-40A3-9622-26F97F1E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DA80F-84DC-4E1C-B412-A7630900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6B209-AC26-45CC-AC33-2BBC258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5105D-DA1A-4A86-B202-6E926337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6CFDB-93F4-49CF-A198-37233888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D98-E859-4B59-9703-E544CE4F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513C6-8455-4EB1-887C-5ECD6017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98A7-A711-48C3-ABF5-D71EDCAF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0BC29-CEB9-46DD-AA81-8C1A52F8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D28C4-7EE1-46DC-B6C2-DCB7EA46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AD76D-937D-49DA-BAAC-2844C321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D5DB3-FAEB-4F68-9132-C3247D43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D492E-7C64-4E69-BD3F-D6AD3E8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810ED-69E8-474E-8D0C-2846F2BF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F9612-114A-41EF-8231-B29A682A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22C3B-7985-46C0-9104-EA4CD5CE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D92-8B9D-4CF2-A6CE-98832865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D6515-B2D9-44EA-808C-E0C42C6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6EC1B-01F8-41F3-9903-CC9FA53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1396-89BA-49F3-B100-2D887480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6EE3-6D8A-4143-A19B-3BF7A4D3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1470-3D0F-41DF-BD8C-E41857B1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A5AD3-A44E-4A76-8F3A-B0E5EEE2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68BE5-6880-4DD3-971C-228DE41B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97D91-D7D6-4561-9AA6-EE6755FD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29446-0496-47A6-80B1-E1B88B79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44611-70E4-4A59-8E8A-EF43174C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AAA-DE42-45D5-8BCA-8A73964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3B58D-8D99-4006-BF13-7DA6D731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AB962-DF03-42E4-A95E-816E66B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D74DD-A09B-440B-B26D-0AF515AC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323DE-D1FD-40CF-80B6-BE0B1D1C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97A88-F8A9-42FE-B066-8C1FED7F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607D6-1474-4154-A887-620D30C1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F5FA5-F984-4612-85D3-5DE04D58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BE141-14D7-4358-94D9-C9DC2C12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91DC0-DB35-400F-B4DA-C7D0B6B1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4CAB8-7F05-48B9-BA77-E9462CC1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과학(일러)1-3"/>
          <p:cNvPicPr/>
          <p:nvPr/>
        </p:nvPicPr>
        <p:blipFill>
          <a:blip r:embed="rId2"/>
          <a:stretch/>
        </p:blipFill>
        <p:spPr>
          <a:xfrm>
            <a:off x="0" y="0"/>
            <a:ext cx="915336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c626"/>
                </a:solidFill>
                <a:latin typeface="-윤명조160"/>
              </a:rPr>
              <a:t>Click to edit the title text format</a:t>
            </a: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62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140"/>
                <a:ea typeface="-윤명조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30F3-2CEF-4414-8651-25EC771BD9E7}" type="slidenum">
              <a:rPr b="0" lang="en-US" sz="1400" spc="-1" strike="noStrike">
                <a:solidFill>
                  <a:srgbClr val="000000"/>
                </a:solidFill>
                <a:latin typeface="-윤명조140"/>
                <a:ea typeface="-윤명조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24B6-EE5E-42FD-AB26-F9B3FE3946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2F99-5DA0-47C5-826A-C542A68656A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C0A1-3BEC-44A9-8A9D-9AF2C9B74F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7A90-C876-439C-9301-6B30FA1D558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CCBC-E82E-4016-8883-35F735BE7AB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B350-CD74-48B2-8348-A1A9E3DBEAD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과학(일러)1"/>
          <p:cNvPicPr/>
          <p:nvPr/>
        </p:nvPicPr>
        <p:blipFill>
          <a:blip r:embed="rId2"/>
          <a:stretch/>
        </p:blipFill>
        <p:spPr>
          <a:xfrm>
            <a:off x="0" y="0"/>
            <a:ext cx="9153360" cy="6873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c626"/>
                </a:solidFill>
                <a:latin typeface="-윤명조160"/>
              </a:rPr>
              <a:t>Click to edit the title text format</a:t>
            </a: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70308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413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707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140"/>
                <a:ea typeface="-윤명조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0EFC-8B57-453B-BDB8-A2A2E1C1F86E}" type="slidenum">
              <a:rPr b="0" lang="en-US" sz="1400" spc="-1" strike="noStrike">
                <a:solidFill>
                  <a:srgbClr val="000000"/>
                </a:solidFill>
                <a:latin typeface="-윤명조140"/>
                <a:ea typeface="-윤명조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5484-86F9-4295-B685-3BED15B0CE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D597-6ECB-48C1-82F2-DE76693BFF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7DCE-C4CA-4E44-94F0-D73A02EC54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424D-2C49-49A9-B17D-B408B2131B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235E-2611-4347-8FB6-49B6A85DB84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F0BD-F074-406B-B489-6FD0B579E93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横卷形 1"/>
          <p:cNvSpPr/>
          <p:nvPr/>
        </p:nvSpPr>
        <p:spPr>
          <a:xfrm>
            <a:off x="1403280" y="1989000"/>
            <a:ext cx="6408720" cy="1749960"/>
          </a:xfrm>
          <a:prstGeom prst="horizontalScroll">
            <a:avLst>
              <a:gd name="adj" fmla="val 12500"/>
            </a:avLst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能和能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2"/>
          <p:cNvSpPr/>
          <p:nvPr/>
        </p:nvSpPr>
        <p:spPr>
          <a:xfrm>
            <a:off x="186192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6c626"/>
                </a:solidFill>
                <a:latin typeface="-윤명조160"/>
              </a:rPr>
              <a:t>知识卡片</a:t>
            </a:r>
            <a:endParaRPr b="0" lang="en-US" sz="48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-윤명조140"/>
              </a:rPr>
              <a:t>能量有电能、热能、光能、声能等不同的形式。运动的物体也有能量，叫动能。（也叫机械能）能量还储存在燃料、食物和一些化学物质中，叫化学能。</a:t>
            </a:r>
            <a:endParaRPr b="0" lang="en-US" sz="36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-윤명조140"/>
              </a:rPr>
              <a:t>任何物体工作都需要能量。如果没有能量，自然界就不会有运动和变化，也不会有生命了。</a:t>
            </a:r>
            <a:endParaRPr b="0" lang="en-US" sz="3600" spc="-1" strike="noStrike">
              <a:solidFill>
                <a:srgbClr val="000000"/>
              </a:solidFill>
              <a:latin typeface="-윤명조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559640" cy="128592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395280" y="2060640"/>
            <a:ext cx="4495680" cy="417672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-윤명조140"/>
              </a:rPr>
              <a:t>我们家里有哪些家用电器？可以做什么工作？工作时把电能变成了什么能量形式？</a:t>
            </a:r>
            <a:endParaRPr b="0" lang="en-US" sz="36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-윤명조140"/>
              </a:rPr>
              <a:t>调查后把它们记录在下面的表格里。</a:t>
            </a:r>
            <a:endParaRPr b="0" lang="en-US" sz="3600" spc="-1" strike="noStrike">
              <a:solidFill>
                <a:srgbClr val="000000"/>
              </a:solidFill>
              <a:latin typeface="-윤명조140"/>
            </a:endParaRPr>
          </a:p>
        </p:txBody>
      </p:sp>
      <p:pic>
        <p:nvPicPr>
          <p:cNvPr id="614" name="Picture 6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37688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4"/>
          <p:cNvSpPr/>
          <p:nvPr/>
        </p:nvSpPr>
        <p:spPr>
          <a:xfrm>
            <a:off x="952560" y="3016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电风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306180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扇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759708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风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901080" y="378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电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3133080" y="378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做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7381440" y="378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热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745416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动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7526160" y="530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声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2"/>
          <p:cNvSpPr/>
          <p:nvPr/>
        </p:nvSpPr>
        <p:spPr>
          <a:xfrm>
            <a:off x="7525800" y="595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热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2989080" y="450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洗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3061080" y="522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播放影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2917080" y="602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制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7"/>
          <p:cNvSpPr/>
          <p:nvPr/>
        </p:nvSpPr>
        <p:spPr>
          <a:xfrm>
            <a:off x="901800" y="450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洗衣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8"/>
          <p:cNvSpPr/>
          <p:nvPr/>
        </p:nvSpPr>
        <p:spPr>
          <a:xfrm>
            <a:off x="901080" y="51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电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9"/>
          <p:cNvSpPr/>
          <p:nvPr/>
        </p:nvSpPr>
        <p:spPr>
          <a:xfrm>
            <a:off x="973080" y="602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电冰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6c626"/>
                </a:solidFill>
                <a:latin typeface="-윤명조160"/>
              </a:rPr>
              <a:t>小  结</a:t>
            </a:r>
            <a:endParaRPr b="0" lang="en-US" sz="6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-윤명조140"/>
              </a:rPr>
              <a:t>所有的用电器都是一个电能的转化器，能够把输入的电能转化成其他形式的能。</a:t>
            </a:r>
            <a:endParaRPr b="0" lang="en-US" sz="36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-윤명조140"/>
              </a:rPr>
              <a:t>人们利用电方便地得到需要的动力，得到需要的光、热、声和磁</a:t>
            </a:r>
            <a:r>
              <a:rPr b="1" lang="en-US" sz="3600" spc="-1" strike="noStrike">
                <a:solidFill>
                  <a:srgbClr val="000000"/>
                </a:solidFill>
                <a:latin typeface="-윤명조140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-윤명조140"/>
              </a:rPr>
              <a:t>通过电能与其他能量之间奇妙的转化，使得我们的生产、生活变得越来越方便。</a:t>
            </a:r>
            <a:endParaRPr b="0" lang="en-US" sz="3600" spc="-1" strike="noStrike">
              <a:solidFill>
                <a:srgbClr val="000000"/>
              </a:solidFill>
              <a:latin typeface="-윤명조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297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c626"/>
                </a:solidFill>
                <a:latin typeface="-윤명조160"/>
              </a:rPr>
              <a:t>做一做</a:t>
            </a: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905120"/>
            <a:ext cx="5133960" cy="46195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-윤명조140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-윤명조140"/>
              </a:rPr>
              <a:t>、用两手互相摩擦，我们会有什么感觉？</a:t>
            </a:r>
            <a:endParaRPr b="0" lang="en-US" sz="36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-윤명조140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-윤명조140"/>
              </a:rPr>
              <a:t>、反复弯折一段铁丝，然后摸一摸铁丝，有什么感觉？</a:t>
            </a:r>
            <a:endParaRPr b="0" lang="en-US" sz="36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-윤명조140"/>
              </a:rPr>
              <a:t>在这些过程中，能量是怎样转化的？</a:t>
            </a:r>
            <a:endParaRPr b="0" lang="en-US" sz="3600" spc="-1" strike="noStrike">
              <a:solidFill>
                <a:srgbClr val="000000"/>
              </a:solidFill>
              <a:latin typeface="-윤명조140"/>
            </a:endParaRPr>
          </a:p>
        </p:txBody>
      </p:sp>
      <p:pic>
        <p:nvPicPr>
          <p:cNvPr id="635" name="Picture 5" descr="u=1248084354,402084859&amp;fm=52&amp;gp=0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2637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u=3056700821,279706144&amp;fm=51&amp;gp=0"/>
          <p:cNvPicPr/>
          <p:nvPr/>
        </p:nvPicPr>
        <p:blipFill>
          <a:blip r:embed="rId2"/>
          <a:stretch/>
        </p:blipFill>
        <p:spPr>
          <a:xfrm>
            <a:off x="5508720" y="3429000"/>
            <a:ext cx="3635280" cy="2595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8"/>
          <p:cNvSpPr/>
          <p:nvPr/>
        </p:nvSpPr>
        <p:spPr>
          <a:xfrm>
            <a:off x="6231240" y="27759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机械能变成了热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27082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" descr=""/>
          <p:cNvPicPr/>
          <p:nvPr/>
        </p:nvPicPr>
        <p:blipFill>
          <a:blip r:embed="rId2"/>
          <a:stretch/>
        </p:blipFill>
        <p:spPr>
          <a:xfrm>
            <a:off x="0" y="2708280"/>
            <a:ext cx="4495680" cy="316872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640" name="Picture 6" descr=""/>
          <p:cNvPicPr/>
          <p:nvPr/>
        </p:nvPicPr>
        <p:blipFill>
          <a:blip r:embed="rId3"/>
          <a:stretch/>
        </p:blipFill>
        <p:spPr>
          <a:xfrm>
            <a:off x="4427640" y="0"/>
            <a:ext cx="4495680" cy="56498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641" name="Rectangle 7"/>
          <p:cNvSpPr/>
          <p:nvPr/>
        </p:nvSpPr>
        <p:spPr>
          <a:xfrm>
            <a:off x="6015240" y="57333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化学能转化成热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939240" y="587304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化学能转化成机械能、声能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92720" y="260280"/>
            <a:ext cx="1809720" cy="4681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-윤명조160"/>
              </a:rPr>
              <a:t>电子生日卡（把什么能转化成什么能？）</a:t>
            </a:r>
            <a:endParaRPr b="0" lang="en-US" sz="4000" spc="-1" strike="noStrike">
              <a:solidFill>
                <a:srgbClr val="76c626"/>
              </a:solidFill>
              <a:latin typeface="-윤명조160"/>
            </a:endParaRPr>
          </a:p>
        </p:txBody>
      </p:sp>
      <p:pic>
        <p:nvPicPr>
          <p:cNvPr id="644" name="Picture 5" descr="u=2567835343,2029143341&amp;fm=51&amp;gp=0"/>
          <p:cNvPicPr/>
          <p:nvPr/>
        </p:nvPicPr>
        <p:blipFill>
          <a:blip r:embed="rId1"/>
          <a:stretch/>
        </p:blipFill>
        <p:spPr>
          <a:xfrm>
            <a:off x="0" y="260280"/>
            <a:ext cx="6804000" cy="6121440"/>
          </a:xfrm>
          <a:prstGeom prst="rect">
            <a:avLst/>
          </a:prstGeom>
          <a:ln w="0">
            <a:noFill/>
          </a:ln>
        </p:spPr>
      </p:pic>
      <p:pic>
        <p:nvPicPr>
          <p:cNvPr id="645" name="95805628.mp3" descr=""/>
          <p:cNvPicPr/>
          <p:nvPr/>
        </p:nvPicPr>
        <p:blipFill>
          <a:blip r:embed="rId2"/>
          <a:stretch/>
        </p:blipFill>
        <p:spPr>
          <a:xfrm>
            <a:off x="7308720" y="5589720"/>
            <a:ext cx="9352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89694" fill="hold"/>
                                        <p:tgtEl>
                                          <p:spTgt spid="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7" descr="u=2021199706,1435199718&amp;fm=52&amp;gp=0"/>
          <p:cNvPicPr/>
          <p:nvPr/>
        </p:nvPicPr>
        <p:blipFill>
          <a:blip r:embed="rId1"/>
          <a:stretch/>
        </p:blipFill>
        <p:spPr>
          <a:xfrm>
            <a:off x="250920" y="1557360"/>
            <a:ext cx="3671640" cy="294336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6c626"/>
                </a:solidFill>
                <a:latin typeface="-윤명조160"/>
              </a:rPr>
              <a:t>电车、电影、电动门的能量是怎样转化的 </a:t>
            </a:r>
            <a:r>
              <a:rPr b="1" lang="en-US" sz="4000" spc="-1" strike="noStrike">
                <a:solidFill>
                  <a:srgbClr val="76c626"/>
                </a:solidFill>
                <a:latin typeface="-윤명조160"/>
              </a:rPr>
              <a:t>?</a:t>
            </a:r>
            <a:endParaRPr b="0" lang="en-US" sz="4000" spc="-1" strike="noStrike">
              <a:solidFill>
                <a:srgbClr val="76c626"/>
              </a:solidFill>
              <a:latin typeface="-윤명조160"/>
            </a:endParaRPr>
          </a:p>
        </p:txBody>
      </p:sp>
      <p:pic>
        <p:nvPicPr>
          <p:cNvPr id="648" name="Picture 5" descr="u=2263219691,1110327498&amp;fm=0&amp;gp=0"/>
          <p:cNvPicPr/>
          <p:nvPr/>
        </p:nvPicPr>
        <p:blipFill>
          <a:blip r:embed="rId2"/>
          <a:stretch/>
        </p:blipFill>
        <p:spPr>
          <a:xfrm>
            <a:off x="1619280" y="4275000"/>
            <a:ext cx="7056360" cy="2583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9" descr="u=682668439,3633285463&amp;fm=52&amp;gp=0"/>
          <p:cNvPicPr/>
          <p:nvPr/>
        </p:nvPicPr>
        <p:blipFill>
          <a:blip r:embed="rId3"/>
          <a:stretch/>
        </p:blipFill>
        <p:spPr>
          <a:xfrm>
            <a:off x="4211640" y="1628640"/>
            <a:ext cx="4537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6c626"/>
                </a:solidFill>
                <a:latin typeface="-윤명조160"/>
              </a:rPr>
              <a:t>看下面的图，说说能量是怎样转化的？</a:t>
            </a:r>
            <a:endParaRPr b="0" lang="en-US" sz="4000" spc="-1" strike="noStrike">
              <a:solidFill>
                <a:srgbClr val="76c626"/>
              </a:solidFill>
              <a:latin typeface="-윤명조160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896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5"/>
          <p:cNvSpPr/>
          <p:nvPr/>
        </p:nvSpPr>
        <p:spPr>
          <a:xfrm>
            <a:off x="250920" y="1844640"/>
            <a:ext cx="865080" cy="1440000"/>
          </a:xfrm>
          <a:prstGeom prst="downArrow">
            <a:avLst>
              <a:gd name="adj1" fmla="val 50000"/>
              <a:gd name="adj2" fmla="val 416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太阳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7"/>
          <p:cNvSpPr/>
          <p:nvPr/>
        </p:nvSpPr>
        <p:spPr>
          <a:xfrm rot="19317600">
            <a:off x="395280" y="3357360"/>
            <a:ext cx="1511280" cy="1052280"/>
          </a:xfrm>
          <a:prstGeom prst="rightArrow">
            <a:avLst>
              <a:gd name="adj1" fmla="val 50000"/>
              <a:gd name="adj2" fmla="val 35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化学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8"/>
          <p:cNvSpPr/>
          <p:nvPr/>
        </p:nvSpPr>
        <p:spPr>
          <a:xfrm rot="4584000">
            <a:off x="2935440" y="669240"/>
            <a:ext cx="1440000" cy="908280"/>
          </a:xfrm>
          <a:prstGeom prst="rightArrow">
            <a:avLst>
              <a:gd name="adj1" fmla="val 50000"/>
              <a:gd name="adj2" fmla="val 396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人体化学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0"/>
          <p:cNvSpPr/>
          <p:nvPr/>
        </p:nvSpPr>
        <p:spPr>
          <a:xfrm rot="1834200">
            <a:off x="1692000" y="5444640"/>
            <a:ext cx="1727280" cy="1052640"/>
          </a:xfrm>
          <a:prstGeom prst="rightArrow">
            <a:avLst>
              <a:gd name="adj1" fmla="val 50000"/>
              <a:gd name="adj2" fmla="val 41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机械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1"/>
          <p:cNvSpPr/>
          <p:nvPr/>
        </p:nvSpPr>
        <p:spPr>
          <a:xfrm rot="20074800">
            <a:off x="4571640" y="4292640"/>
            <a:ext cx="1081080" cy="790560"/>
          </a:xfrm>
          <a:prstGeom prst="rightArrow">
            <a:avLst>
              <a:gd name="adj1" fmla="val 50000"/>
              <a:gd name="adj2" fmla="val 341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电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2"/>
          <p:cNvSpPr/>
          <p:nvPr/>
        </p:nvSpPr>
        <p:spPr>
          <a:xfrm rot="1530600">
            <a:off x="7380360" y="1557000"/>
            <a:ext cx="1224000" cy="1295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热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3"/>
          <p:cNvSpPr/>
          <p:nvPr/>
        </p:nvSpPr>
        <p:spPr>
          <a:xfrm rot="8691000">
            <a:off x="7451280" y="4723560"/>
            <a:ext cx="1224000" cy="1295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热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3" descr=""/>
          <p:cNvPicPr/>
          <p:nvPr/>
        </p:nvPicPr>
        <p:blipFill>
          <a:blip r:embed="rId1"/>
          <a:stretch/>
        </p:blipFill>
        <p:spPr>
          <a:xfrm>
            <a:off x="403200" y="2205000"/>
            <a:ext cx="8531280" cy="39146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"/>
          <p:cNvSpPr/>
          <p:nvPr/>
        </p:nvSpPr>
        <p:spPr>
          <a:xfrm>
            <a:off x="395280" y="981000"/>
            <a:ext cx="8209080" cy="6426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电的用途很广，人们的生活越来越离不开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401004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-윤명조160"/>
              </a:rPr>
              <a:t>课堂总结 </a:t>
            </a:r>
            <a:endParaRPr b="0" lang="en-US" sz="60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900000" y="191628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-윤명조140"/>
              </a:rPr>
              <a:t>1</a:t>
            </a:r>
            <a:r>
              <a:rPr b="1" lang="zh-CN" sz="4000" spc="-1" strike="noStrike">
                <a:solidFill>
                  <a:srgbClr val="ccccff"/>
                </a:solidFill>
                <a:latin typeface="-윤명조140"/>
              </a:rPr>
              <a:t>、能量有电、热、声、光等多种形式，能量还储存在食物、燃料中。</a:t>
            </a:r>
            <a:endParaRPr b="0" lang="en-US" sz="40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-윤명조140"/>
              </a:rPr>
              <a:t>2</a:t>
            </a:r>
            <a:r>
              <a:rPr b="1" lang="zh-CN" sz="4000" spc="-1" strike="noStrike">
                <a:solidFill>
                  <a:srgbClr val="ccccff"/>
                </a:solidFill>
                <a:latin typeface="-윤명조140"/>
              </a:rPr>
              <a:t>、电能可以转化成其他形式的能量，其他不同形式的能量间也能够转化。</a:t>
            </a:r>
            <a:endParaRPr b="0" lang="en-US" sz="4000" spc="-1" strike="noStrike">
              <a:solidFill>
                <a:srgbClr val="000000"/>
              </a:solidFill>
              <a:latin typeface="-윤명조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6c626"/>
                </a:solidFill>
                <a:latin typeface="-윤명조160"/>
              </a:rPr>
              <a:t>当堂检测题</a:t>
            </a:r>
            <a:endParaRPr b="0" lang="en-US" sz="54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一、判断题（对的打√，错的打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×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声、光、热不是能量。（     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人体进行各种活动都需要消耗能量，这些能量是从食物中获得的。（     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动植物的生长不需要能量。（     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食物在人体内发生化学变化，使人体保持体温。能够运动，食物也具有能量。（    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能量可以通过某种物体从一种形式转化为另一种形式。（    ）  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5677560" y="1989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6469920" y="3716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4964400" y="30686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6982200" y="4724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2948400" y="580536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6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电吹风机只能输出一种能量。（    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7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能量之间是可以转化的起重机是把电能转化成机械能（     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8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和运动有关的物体所具有的能量叫做机械能。（        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二、选择题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下列用电器，只把电能转化成热能的是（     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A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电灯  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B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电烤箱  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C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电视机 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D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空调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食物和汽油中储存着（   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A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光能 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B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热能  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C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电能  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D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化学能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6974640" y="549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2661120" y="155736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1292400" y="2492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1117440" y="3960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5294160" y="5111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1"/>
          <p:cNvSpPr/>
          <p:nvPr/>
        </p:nvSpPr>
        <p:spPr>
          <a:xfrm>
            <a:off x="1025640" y="5857920"/>
            <a:ext cx="81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01320" y="620640"/>
            <a:ext cx="85914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下列说法错误的是（     ）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A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我们身体运动的能量是从食物中转化来的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B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汽车把汽油的化学能转化为动能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C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有些机器不耗能量也可以工作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能量是（    ）的。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A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看得见、摸得着  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B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看不见、摸不着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C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有时看得见、有时看不见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我们的生活（    ）能量。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A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不需要  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B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离不开  </a:t>
            </a:r>
            <a:r>
              <a:rPr b="1" lang="en-US" sz="2500" spc="-1" strike="noStrike">
                <a:solidFill>
                  <a:srgbClr val="000000"/>
                </a:solidFill>
                <a:latin typeface="-윤명조140"/>
              </a:rPr>
              <a:t>C</a:t>
            </a:r>
            <a:r>
              <a:rPr b="1" lang="zh-CN" sz="2500" spc="-1" strike="noStrike">
                <a:solidFill>
                  <a:srgbClr val="000000"/>
                </a:solidFill>
                <a:latin typeface="-윤명조140"/>
              </a:rPr>
              <a:t>、可以离开 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5078160" y="54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2917440" y="2781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3781080" y="4508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6c626"/>
                </a:solidFill>
                <a:latin typeface="-윤명조160"/>
              </a:rPr>
              <a:t>使用规范说明</a:t>
            </a: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-윤명조140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-윤명조140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-윤명조140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-윤명조140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-윤명조140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-윤명조140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-윤명조140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-윤명조140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-윤명조140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명조140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명조140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명조140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명조140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명조140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명조140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精美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jingpin/          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课件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-윤명조140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企业介绍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qiye/               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商务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市场营销策划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  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명조140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1C3E-4F9D-4603-A3A5-96DB9A7496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4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983040" cy="10951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 txBox="1"/>
          <p:nvPr/>
        </p:nvSpPr>
        <p:spPr>
          <a:xfrm>
            <a:off x="684360" y="1773360"/>
            <a:ext cx="403848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-윤명조140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-윤명조140"/>
              </a:rPr>
              <a:t>不同的电器可以做不同的事情。左面的电器在做什么事情？</a:t>
            </a:r>
            <a:endParaRPr b="0" lang="en-US" sz="4400" spc="-1" strike="noStrike">
              <a:solidFill>
                <a:srgbClr val="000000"/>
              </a:solidFill>
              <a:latin typeface="-윤명조140"/>
            </a:endParaRPr>
          </a:p>
        </p:txBody>
      </p:sp>
      <p:pic>
        <p:nvPicPr>
          <p:cNvPr id="589" name="Picture 6" descr=""/>
          <p:cNvPicPr/>
          <p:nvPr/>
        </p:nvPicPr>
        <p:blipFill>
          <a:blip r:embed="rId2"/>
          <a:stretch/>
        </p:blipFill>
        <p:spPr>
          <a:xfrm>
            <a:off x="4854600" y="1341360"/>
            <a:ext cx="2809800" cy="3313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"/>
          <p:cNvPicPr/>
          <p:nvPr/>
        </p:nvPicPr>
        <p:blipFill>
          <a:blip r:embed="rId3"/>
          <a:stretch/>
        </p:blipFill>
        <p:spPr>
          <a:xfrm>
            <a:off x="6588000" y="3808440"/>
            <a:ext cx="2184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020080" cy="8892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c626"/>
                </a:solidFill>
                <a:latin typeface="-윤명조160"/>
              </a:rPr>
              <a:t>名词解释</a:t>
            </a:r>
            <a:endParaRPr b="0" lang="en-US" sz="60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9280" y="2133720"/>
            <a:ext cx="8301240" cy="403992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-윤명조140"/>
              </a:rPr>
              <a:t>用电器有了电就可以进行各种“工作”</a:t>
            </a:r>
            <a:r>
              <a:rPr b="1" lang="en-US" sz="4000" spc="-1" strike="noStrike">
                <a:solidFill>
                  <a:srgbClr val="3333cc"/>
                </a:solidFill>
                <a:latin typeface="-윤명조140"/>
              </a:rPr>
              <a:t>——</a:t>
            </a:r>
            <a:r>
              <a:rPr b="1" lang="zh-CN" sz="4000" spc="-1" strike="noStrike">
                <a:solidFill>
                  <a:srgbClr val="3333cc"/>
                </a:solidFill>
                <a:latin typeface="-윤명조140"/>
              </a:rPr>
              <a:t>做各种运动或者发光、发声、发热</a:t>
            </a:r>
            <a:r>
              <a:rPr b="1" lang="en-US" sz="4000" spc="-1" strike="noStrike">
                <a:solidFill>
                  <a:srgbClr val="3333cc"/>
                </a:solidFill>
                <a:latin typeface="-윤명조140"/>
              </a:rPr>
              <a:t>……</a:t>
            </a:r>
            <a:r>
              <a:rPr b="1" lang="zh-CN" sz="4000" spc="-1" strike="noStrike">
                <a:solidFill>
                  <a:srgbClr val="3333cc"/>
                </a:solidFill>
                <a:latin typeface="-윤명조140"/>
              </a:rPr>
              <a:t>我们把电具有的这种能量，叫电能。</a:t>
            </a:r>
            <a:endParaRPr b="0" lang="en-US" sz="4000" spc="-1" strike="noStrike">
              <a:solidFill>
                <a:srgbClr val="000000"/>
              </a:solidFill>
              <a:latin typeface="-윤명조140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-윤명조140"/>
              </a:rPr>
              <a:t>能量还有其他的形式，如热能、光能、声能</a:t>
            </a:r>
            <a:r>
              <a:rPr b="1" lang="en-US" sz="4000" spc="-1" strike="noStrike">
                <a:solidFill>
                  <a:srgbClr val="3333cc"/>
                </a:solidFill>
                <a:latin typeface="-윤명조140"/>
              </a:rPr>
              <a:t>……</a:t>
            </a:r>
            <a:r>
              <a:rPr b="1" lang="zh-CN" sz="4000" spc="-1" strike="noStrike">
                <a:solidFill>
                  <a:srgbClr val="3333cc"/>
                </a:solidFill>
                <a:latin typeface="-윤명조140"/>
              </a:rPr>
              <a:t>这些能量可以做些什么“工作”呢？</a:t>
            </a:r>
            <a:endParaRPr b="0" lang="en-US" sz="4000" spc="-1" strike="noStrike">
              <a:solidFill>
                <a:srgbClr val="000000"/>
              </a:solidFill>
              <a:latin typeface="-윤명조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c626"/>
                </a:solidFill>
                <a:latin typeface="-윤명조160"/>
              </a:rPr>
              <a:t>它利用的是什么能？</a:t>
            </a: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pic>
        <p:nvPicPr>
          <p:cNvPr id="594" name="Picture 3" descr=""/>
          <p:cNvPicPr/>
          <p:nvPr/>
        </p:nvPicPr>
        <p:blipFill>
          <a:blip r:embed="rId1"/>
          <a:stretch/>
        </p:blipFill>
        <p:spPr>
          <a:xfrm>
            <a:off x="2798640" y="2514600"/>
            <a:ext cx="3827520" cy="249552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4"/>
          <p:cNvSpPr/>
          <p:nvPr/>
        </p:nvSpPr>
        <p:spPr>
          <a:xfrm>
            <a:off x="1550880" y="169956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煤产生的热能可以推动蒸汽机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9"/>
          <p:cNvSpPr/>
          <p:nvPr/>
        </p:nvSpPr>
        <p:spPr>
          <a:xfrm>
            <a:off x="1908000" y="2028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c626"/>
                </a:solidFill>
                <a:latin typeface="-윤명조160"/>
              </a:rPr>
              <a:t>它们又是利用什么能？</a:t>
            </a: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1"/>
          <a:stretch/>
        </p:blipFill>
        <p:spPr>
          <a:xfrm>
            <a:off x="395280" y="1595520"/>
            <a:ext cx="4495680" cy="45655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"/>
          <p:cNvPicPr/>
          <p:nvPr/>
        </p:nvPicPr>
        <p:blipFill>
          <a:blip r:embed="rId2"/>
          <a:stretch/>
        </p:blipFill>
        <p:spPr>
          <a:xfrm>
            <a:off x="5103720" y="1584360"/>
            <a:ext cx="3818160" cy="45766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7"/>
          <p:cNvSpPr/>
          <p:nvPr/>
        </p:nvSpPr>
        <p:spPr>
          <a:xfrm>
            <a:off x="1284480" y="616032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风能可以转动风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6948000" y="6160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光能可以加工零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07280" cy="14400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6c626"/>
                </a:solidFill>
                <a:latin typeface="-윤명조160"/>
              </a:rPr>
              <a:t>声音的能量可以控制电路的通断，使电灯亮或灭。</a:t>
            </a:r>
            <a:endParaRPr b="0" lang="en-US" sz="4000" spc="-1" strike="noStrike">
              <a:solidFill>
                <a:srgbClr val="76c626"/>
              </a:solidFill>
              <a:latin typeface="-윤명조160"/>
            </a:endParaRPr>
          </a:p>
        </p:txBody>
      </p:sp>
      <p:pic>
        <p:nvPicPr>
          <p:cNvPr id="603" name="Picture 6" descr=""/>
          <p:cNvPicPr/>
          <p:nvPr/>
        </p:nvPicPr>
        <p:blipFill>
          <a:blip r:embed="rId1"/>
          <a:stretch/>
        </p:blipFill>
        <p:spPr>
          <a:xfrm>
            <a:off x="1133640" y="2598840"/>
            <a:ext cx="65768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684000" y="1267920"/>
            <a:ext cx="3106440" cy="396108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-윤명조140"/>
              </a:rPr>
              <a:t>激光有很大的能量，强激光可以打孔或切割材料。</a:t>
            </a:r>
            <a:endParaRPr b="0" lang="en-US" sz="4800" spc="-1" strike="noStrike">
              <a:solidFill>
                <a:srgbClr val="000000"/>
              </a:solidFill>
              <a:latin typeface="-윤명조140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726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6372000" cy="11430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-윤명조160"/>
              </a:rPr>
              <a:t>哪些物体“悄悄”地储存着能量？我们身体运动的能量是从哪里来的？</a:t>
            </a:r>
            <a:endParaRPr b="0" lang="en-US" sz="3200" spc="-1" strike="noStrike">
              <a:solidFill>
                <a:srgbClr val="76c626"/>
              </a:solidFill>
              <a:latin typeface="-윤명조160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6443640" y="493560"/>
            <a:ext cx="2556000" cy="3456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6913440" cy="51339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7439400" y="4292280"/>
            <a:ext cx="134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食物、汽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储存着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，是化学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0:02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2:58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