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gif" ContentType="image/gif"/>
  <Override PartName="/ppt/media/image8.gif" ContentType="image/gif"/>
  <Override PartName="/ppt/media/image7.gif" ContentType="image/gif"/>
  <Override PartName="/ppt/media/image10.jpeg" ContentType="image/jpeg"/>
  <Override PartName="/ppt/media/image6.gif" ContentType="image/gif"/>
  <Override PartName="/ppt/media/image5.gif" ContentType="image/gif"/>
  <Override PartName="/ppt/media/image20.gif" ContentType="image/gif"/>
  <Override PartName="/ppt/media/image19.gif" ContentType="image/gif"/>
  <Override PartName="/ppt/media/image18.png" ContentType="image/png"/>
  <Override PartName="/ppt/media/image15.jpeg" ContentType="image/jpeg"/>
  <Override PartName="/ppt/media/image16.gif" ContentType="image/gif"/>
  <Override PartName="/ppt/media/image2.png" ContentType="image/png"/>
  <Override PartName="/ppt/media/image14.gif" ContentType="image/gif"/>
  <Override PartName="/ppt/media/image17.png" ContentType="image/png"/>
  <Override PartName="/ppt/media/image3.png" ContentType="image/png"/>
  <Override PartName="/ppt/media/image1.jpeg" ContentType="image/jpeg"/>
  <Override PartName="/ppt/media/image4.gif" ContentType="image/gif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DD39-3151-4B76-BD21-603A8C091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B3BF-0CD4-4C2F-BCED-CFE80E009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FBA3-5498-4CCF-B2A3-71B5ED265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2473-C406-42FB-B8E0-F45A64EC6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390C-A243-4111-8D39-E18E9DC2B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0E3D-4DA8-43B0-9C0E-82404B567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B018-9C50-4EC3-86C2-4D546A195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F656-29B4-409C-B439-74E3DE825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35D4-78E0-4B2A-ABC2-E497448E2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9901-4048-4219-B3B4-FE23C6775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2603-3385-421B-87F9-EF9185144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FD11-8964-433E-AD44-A5EC7D52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868D1-7B6A-4FDC-A17D-3D9D671E95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20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hyperlink" Target="http://www.1ppt.com/shiti/" TargetMode="External"/><Relationship Id="rId16" Type="http://schemas.openxmlformats.org/officeDocument/2006/relationships/hyperlink" Target="http://www.1ppt.com/jiaoan/" TargetMode="External"/><Relationship Id="rId17" Type="http://schemas.openxmlformats.org/officeDocument/2006/relationships/image" Target="../media/image5.gif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15.jpeg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1"/>
          <a:srcRect l="0" t="0" r="0" b="4338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pic>
        <p:nvPicPr>
          <p:cNvPr id="42" name="WordArt 5" descr=""/>
          <p:cNvPicPr/>
          <p:nvPr/>
        </p:nvPicPr>
        <p:blipFill>
          <a:blip r:embed="rId2"/>
          <a:stretch/>
        </p:blipFill>
        <p:spPr>
          <a:xfrm>
            <a:off x="763560" y="966960"/>
            <a:ext cx="8272440" cy="2288880"/>
          </a:xfrm>
          <a:prstGeom prst="rect">
            <a:avLst/>
          </a:prstGeom>
          <a:ln w="0">
            <a:noFill/>
          </a:ln>
        </p:spPr>
      </p:pic>
      <p:pic>
        <p:nvPicPr>
          <p:cNvPr id="43" name="矩形 9" descr=""/>
          <p:cNvPicPr/>
          <p:nvPr/>
        </p:nvPicPr>
        <p:blipFill>
          <a:blip r:embed="rId3"/>
          <a:stretch/>
        </p:blipFill>
        <p:spPr>
          <a:xfrm>
            <a:off x="395280" y="6181560"/>
            <a:ext cx="4383000" cy="4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539640" y="2349360"/>
            <a:ext cx="8136000" cy="2837160"/>
          </a:xfrm>
          <a:prstGeom prst="rect">
            <a:avLst/>
          </a:prstGeom>
          <a:solidFill>
            <a:srgbClr val="ffffff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全球每年排放到空气中的铅为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200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吨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，砷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78000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吨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，汞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11000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吨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，镉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55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吨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，超过自然背景值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20——300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倍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WordArt 8" descr=""/>
          <p:cNvPicPr/>
          <p:nvPr/>
        </p:nvPicPr>
        <p:blipFill>
          <a:blip r:embed="rId2"/>
          <a:stretch/>
        </p:blipFill>
        <p:spPr>
          <a:xfrm>
            <a:off x="2309760" y="-2627280"/>
            <a:ext cx="5162760" cy="45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684360" y="2446200"/>
            <a:ext cx="7799400" cy="3019680"/>
          </a:xfrm>
          <a:prstGeom prst="rect">
            <a:avLst/>
          </a:prstGeom>
          <a:solidFill>
            <a:srgbClr val="ffffff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12%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的哺育动物和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11%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的鸟类濒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灭绝，每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24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小时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150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到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200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种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生物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种从地球消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WordArt 3" descr=""/>
          <p:cNvPicPr/>
          <p:nvPr/>
        </p:nvPicPr>
        <p:blipFill>
          <a:blip r:embed="rId2"/>
          <a:stretch/>
        </p:blipFill>
        <p:spPr>
          <a:xfrm>
            <a:off x="2309760" y="-2627280"/>
            <a:ext cx="5162760" cy="45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826920" y="2205000"/>
            <a:ext cx="7632720" cy="3810600"/>
          </a:xfrm>
          <a:prstGeom prst="rect">
            <a:avLst/>
          </a:prstGeom>
          <a:solidFill>
            <a:srgbClr val="ffffff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全世界每年倾倒大海的船舶废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640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万吨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，从船上扔进大海的塑料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装箱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500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万只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，渔民每年倾倒进海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的塑料包装材料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22000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吨，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油船漏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40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万吨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WordArt 3" descr=""/>
          <p:cNvPicPr/>
          <p:nvPr/>
        </p:nvPicPr>
        <p:blipFill>
          <a:blip r:embed="rId2"/>
          <a:stretch/>
        </p:blipFill>
        <p:spPr>
          <a:xfrm>
            <a:off x="2309760" y="-2700360"/>
            <a:ext cx="5162760" cy="4554720"/>
          </a:xfrm>
          <a:prstGeom prst="rect">
            <a:avLst/>
          </a:prstGeom>
          <a:ln w="0">
            <a:noFill/>
          </a:ln>
        </p:spPr>
      </p:pic>
      <p:sp>
        <p:nvSpPr>
          <p:cNvPr id="80" name="文本框 1"/>
          <p:cNvSpPr/>
          <p:nvPr/>
        </p:nvSpPr>
        <p:spPr>
          <a:xfrm>
            <a:off x="2855880" y="5832360"/>
            <a:ext cx="548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971640" y="2087640"/>
            <a:ext cx="7343640" cy="4098240"/>
          </a:xfrm>
          <a:prstGeom prst="rect">
            <a:avLst/>
          </a:prstGeom>
          <a:solidFill>
            <a:srgbClr val="ffffff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地球陆地上原约有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76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亿公顷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森林，到二十世纪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80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年代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所有不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28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亿公顷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。目前，全世界的森林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以每年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1800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万公顷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的速度从地球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WordArt 3" descr=""/>
          <p:cNvPicPr/>
          <p:nvPr/>
        </p:nvPicPr>
        <p:blipFill>
          <a:blip r:embed="rId2"/>
          <a:stretch/>
        </p:blipFill>
        <p:spPr>
          <a:xfrm>
            <a:off x="2309760" y="-2843280"/>
            <a:ext cx="5162760" cy="45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4716360" y="4797360"/>
            <a:ext cx="3888000" cy="13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3348000" y="0"/>
            <a:ext cx="266400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7020000" y="0"/>
            <a:ext cx="122400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09"/>
          <p:cNvPicPr/>
          <p:nvPr/>
        </p:nvPicPr>
        <p:blipFill>
          <a:blip r:embed="rId2"/>
          <a:stretch/>
        </p:blipFill>
        <p:spPr>
          <a:xfrm>
            <a:off x="3492360" y="1125360"/>
            <a:ext cx="4896000" cy="47800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5"/>
          <p:cNvSpPr/>
          <p:nvPr/>
        </p:nvSpPr>
        <p:spPr>
          <a:xfrm>
            <a:off x="539640" y="1197000"/>
            <a:ext cx="3168720" cy="45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葬礼是为死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人举行的，现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大瀑布并未完全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失，人们为什么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举行葬礼了？请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代表菲格雷特总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写一封信，告诉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家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5"/>
          <p:cNvSpPr/>
          <p:nvPr/>
        </p:nvSpPr>
        <p:spPr>
          <a:xfrm>
            <a:off x="611280" y="3573360"/>
            <a:ext cx="8101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立即行动起来，维护生态平衡，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护我们生存的地球，使大瀑布的悲剧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再重演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11"/>
          <p:cNvGrpSpPr/>
          <p:nvPr/>
        </p:nvGrpSpPr>
        <p:grpSpPr>
          <a:xfrm>
            <a:off x="2987640" y="404640"/>
            <a:ext cx="3240000" cy="2950920"/>
            <a:chOff x="2987640" y="404640"/>
            <a:chExt cx="3240000" cy="2950920"/>
          </a:xfrm>
        </p:grpSpPr>
        <p:pic>
          <p:nvPicPr>
            <p:cNvPr id="90" name="Picture 6" descr="0004"/>
            <p:cNvPicPr/>
            <p:nvPr/>
          </p:nvPicPr>
          <p:blipFill>
            <a:blip r:embed="rId2"/>
            <a:stretch/>
          </p:blipFill>
          <p:spPr>
            <a:xfrm>
              <a:off x="3419280" y="763200"/>
              <a:ext cx="2376720" cy="237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10" descr="x1pIuxx1VYmtQtN0XzG83IKmXiLsiiPCR1iKGBB3o7X5ZUO673ycd4SjPLaLBv0qLWITQL8m9gZfnziX8bDy26sskUF7NBfUrYE1MUZwkdokpE0KsqJctnxAMWmyLUF5itp48oeyEQPHEw"/>
            <p:cNvPicPr/>
            <p:nvPr/>
          </p:nvPicPr>
          <p:blipFill>
            <a:blip r:embed="rId3"/>
            <a:stretch/>
          </p:blipFill>
          <p:spPr>
            <a:xfrm>
              <a:off x="2987640" y="404640"/>
              <a:ext cx="3240000" cy="2950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315E9-D9D5-4023-9F44-4EE1C1C13F8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6"/>
          <p:cNvSpPr/>
          <p:nvPr/>
        </p:nvSpPr>
        <p:spPr>
          <a:xfrm>
            <a:off x="826920" y="1341360"/>
            <a:ext cx="64944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6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684360" y="1022400"/>
            <a:ext cx="7772400" cy="1068840"/>
          </a:xfrm>
          <a:prstGeom prst="rect">
            <a:avLst/>
          </a:prstGeom>
          <a:solidFill>
            <a:srgbClr val="ffffff">
              <a:alpha val="82000"/>
            </a:srgbClr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塞特凯达斯瀑布：又名瓜伊雷瀑布。南美洲巴西与巴拉圭边界的瀑布群。位于上巴拉那河峡谷内。瀑布总宽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0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，总落差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4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，跌落声远至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公里。际由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瀑布组成，平均流量达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200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／秒，洪峰期可四倍于此，水力极为丰富，是世界上已知流量最大的瀑布，也是最宽的瀑布之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x1pxzZ39wV--_cPS5TG3-Q8pakip1TwqaxFN_8RbPKCjaKk7QXWSUAqOMG6eopLHGHe54UeZ1ufz7ydM7V_TKdRWhVknitf4n43PtAWcF3eAo5zvWfiBWRux5U6jH22XUd6dfppwG22SzM"/>
          <p:cNvPicPr/>
          <p:nvPr/>
        </p:nvPicPr>
        <p:blipFill>
          <a:blip r:embed="rId17"/>
          <a:stretch/>
        </p:blipFill>
        <p:spPr>
          <a:xfrm>
            <a:off x="3059280" y="404640"/>
            <a:ext cx="29620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8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971640" y="2349360"/>
            <a:ext cx="75610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葬礼   咆哮   滔滔不绝  一泻千里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震耳欲聋    纷至沓来    世外桃源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陶醉不已    流连忘返    形容枯槁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奄奄一息    慕名而来    惆怅满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8" descr="22024610"/>
          <p:cNvPicPr/>
          <p:nvPr/>
        </p:nvPicPr>
        <p:blipFill>
          <a:blip r:embed="rId2"/>
          <a:stretch/>
        </p:blipFill>
        <p:spPr>
          <a:xfrm rot="1822200">
            <a:off x="1908000" y="260280"/>
            <a:ext cx="1428840" cy="1876320"/>
          </a:xfrm>
          <a:prstGeom prst="rect">
            <a:avLst/>
          </a:prstGeom>
          <a:ln w="0">
            <a:noFill/>
          </a:ln>
        </p:spPr>
      </p:pic>
      <p:sp>
        <p:nvSpPr>
          <p:cNvPr id="49" name="WordArt 10"/>
          <p:cNvSpPr txBox="1"/>
          <p:nvPr/>
        </p:nvSpPr>
        <p:spPr>
          <a:xfrm>
            <a:off x="3564000" y="1197000"/>
            <a:ext cx="2736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ln w="0">
                  <a:noFill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atin typeface="黑体"/>
              </a:rPr>
              <a:t>读一读 </a:t>
            </a:r>
            <a:endParaRPr b="1" lang="en-US" sz="3600" spc="-1" strike="noStrike">
              <a:ln w="0">
                <a:noFill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1"/>
          <p:cNvGrpSpPr/>
          <p:nvPr/>
        </p:nvGrpSpPr>
        <p:grpSpPr>
          <a:xfrm>
            <a:off x="9361440" y="836640"/>
            <a:ext cx="29775240" cy="5256360"/>
            <a:chOff x="9361440" y="836640"/>
            <a:chExt cx="29775240" cy="5256360"/>
          </a:xfrm>
        </p:grpSpPr>
        <p:pic>
          <p:nvPicPr>
            <p:cNvPr id="51" name="Picture 6" descr="k14-011"/>
            <p:cNvPicPr/>
            <p:nvPr/>
          </p:nvPicPr>
          <p:blipFill>
            <a:blip r:embed="rId2"/>
            <a:stretch/>
          </p:blipFill>
          <p:spPr>
            <a:xfrm>
              <a:off x="14581080" y="836640"/>
              <a:ext cx="6624720" cy="523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7" descr="k14-003"/>
            <p:cNvPicPr/>
            <p:nvPr/>
          </p:nvPicPr>
          <p:blipFill>
            <a:blip r:embed="rId3"/>
            <a:stretch/>
          </p:blipFill>
          <p:spPr>
            <a:xfrm>
              <a:off x="9361440" y="836640"/>
              <a:ext cx="5159520" cy="525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8" descr="k14-004"/>
            <p:cNvPicPr/>
            <p:nvPr/>
          </p:nvPicPr>
          <p:blipFill>
            <a:blip r:embed="rId4"/>
            <a:stretch/>
          </p:blipFill>
          <p:spPr>
            <a:xfrm>
              <a:off x="21350160" y="836640"/>
              <a:ext cx="9864720" cy="523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9" descr="k14-005"/>
            <p:cNvPicPr/>
            <p:nvPr/>
          </p:nvPicPr>
          <p:blipFill>
            <a:blip r:embed="rId5"/>
            <a:srcRect l="3396" t="1760" r="2881" b="2904"/>
            <a:stretch/>
          </p:blipFill>
          <p:spPr>
            <a:xfrm>
              <a:off x="31430880" y="836640"/>
              <a:ext cx="7705800" cy="5231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14757 -0.00509 L -5.75868 -0.00509 E">
                                      <p:cBhvr>
                                        <p:cTn id="44" dur="5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3"/>
          <p:cNvSpPr/>
          <p:nvPr/>
        </p:nvSpPr>
        <p:spPr>
          <a:xfrm>
            <a:off x="4716360" y="4797360"/>
            <a:ext cx="3888000" cy="13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3348000" y="0"/>
            <a:ext cx="266400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7020000" y="0"/>
            <a:ext cx="122400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971640" y="1698840"/>
            <a:ext cx="72054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读课文，想想大瀑布以前和现在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景象有什么不同，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画出相关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语句，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说说塞特凯达斯大瀑布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发生变化前后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不同景象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9"/>
          <p:cNvGrpSpPr/>
          <p:nvPr/>
        </p:nvGrpSpPr>
        <p:grpSpPr>
          <a:xfrm>
            <a:off x="684360" y="3584520"/>
            <a:ext cx="8064360" cy="2581200"/>
            <a:chOff x="684360" y="3584520"/>
            <a:chExt cx="8064360" cy="2581200"/>
          </a:xfrm>
        </p:grpSpPr>
        <p:pic>
          <p:nvPicPr>
            <p:cNvPr id="60" name="Picture 4" descr="013m"/>
            <p:cNvPicPr/>
            <p:nvPr/>
          </p:nvPicPr>
          <p:blipFill>
            <a:blip r:embed="rId2"/>
            <a:stretch/>
          </p:blipFill>
          <p:spPr>
            <a:xfrm>
              <a:off x="684360" y="3584520"/>
              <a:ext cx="8064360" cy="25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Rectangle 5"/>
            <p:cNvSpPr/>
            <p:nvPr/>
          </p:nvSpPr>
          <p:spPr>
            <a:xfrm>
              <a:off x="684360" y="3610080"/>
              <a:ext cx="8064360" cy="2520720"/>
            </a:xfrm>
            <a:prstGeom prst="rect">
              <a:avLst/>
            </a:prstGeom>
            <a:noFill/>
            <a:ln w="57240">
              <a:solidFill>
                <a:srgbClr val="333333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Rectangle 6"/>
          <p:cNvSpPr/>
          <p:nvPr/>
        </p:nvSpPr>
        <p:spPr>
          <a:xfrm>
            <a:off x="684360" y="1689840"/>
            <a:ext cx="7991280" cy="520560"/>
          </a:xfrm>
          <a:prstGeom prst="rect">
            <a:avLst/>
          </a:prstGeom>
          <a:solidFill>
            <a:srgbClr val="ffffff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尤其是每年汛期，大瀑布的气势更是雄伟壮观，每秒钟有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立方米的水从几十米的高处飞流直下，落地撞开万朵莲花，溅起的水雾飘飘洒洒，水声震耳欲聋。据说在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公里外，瀑布的巨响还清晰可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5"/>
          <p:cNvSpPr/>
          <p:nvPr/>
        </p:nvSpPr>
        <p:spPr>
          <a:xfrm>
            <a:off x="684360" y="1413000"/>
            <a:ext cx="8015040" cy="393336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几年过去，塞特凯达斯大瀑布逐渐枯竭，即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汛期，也见不到昔日雄奇的气势。它在群山之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奈地垂下了头，像生命垂危的老人一般，形容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槁，奄奄一息。许多慕名而来的游人，见此情景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不惆怅满怀，失望而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4716360" y="4797360"/>
            <a:ext cx="3888000" cy="13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3348000" y="0"/>
            <a:ext cx="266400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7020000" y="0"/>
            <a:ext cx="122400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3851640" y="3068640"/>
            <a:ext cx="11926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　　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"/>
              </a:rPr>
              <a:t>拦河大坝截住河水，造成水源减少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"/>
              </a:rPr>
              <a:t>　　工厂用水毫无节制，浪费水资源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"/>
              </a:rPr>
              <a:t>　　森林被乱砍乱伐，水土流失严重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"/>
          <p:cNvSpPr/>
          <p:nvPr/>
        </p:nvSpPr>
        <p:spPr>
          <a:xfrm>
            <a:off x="826920" y="1268280"/>
            <a:ext cx="7777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有感情地朗读课文，想一想这一闻名世界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大瀑布是怎样被葬送的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3"/>
          <p:cNvGrpSpPr/>
          <p:nvPr/>
        </p:nvGrpSpPr>
        <p:grpSpPr>
          <a:xfrm>
            <a:off x="826920" y="3932280"/>
            <a:ext cx="2305080" cy="2233440"/>
            <a:chOff x="826920" y="3932280"/>
            <a:chExt cx="2305080" cy="2233440"/>
          </a:xfrm>
        </p:grpSpPr>
        <p:pic>
          <p:nvPicPr>
            <p:cNvPr id="70" name="Picture 4" descr="images"/>
            <p:cNvPicPr/>
            <p:nvPr/>
          </p:nvPicPr>
          <p:blipFill>
            <a:blip r:embed="rId2"/>
            <a:srcRect l="0" t="0" r="0" b="15118"/>
            <a:stretch/>
          </p:blipFill>
          <p:spPr>
            <a:xfrm>
              <a:off x="1114560" y="3932280"/>
              <a:ext cx="1801800" cy="216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Picture 5" descr="x1pIuxx1VYmtQtN0XzG83IKmXiLsiiPCR1iKGBB3o7X5ZUO673ycd4SjPLaLBv0qLWITQL8m9gZfnziX8bDy26sskUF7NBfUrYE1MUZwkdokpE0KsqJctnxAMWmyLUF5itp48oeyEQPHEw"/>
            <p:cNvPicPr/>
            <p:nvPr/>
          </p:nvPicPr>
          <p:blipFill>
            <a:blip r:embed="rId3"/>
            <a:stretch/>
          </p:blipFill>
          <p:spPr>
            <a:xfrm>
              <a:off x="826920" y="3932280"/>
              <a:ext cx="2305080" cy="2233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" name="AutoShape 6"/>
          <p:cNvSpPr/>
          <p:nvPr/>
        </p:nvSpPr>
        <p:spPr>
          <a:xfrm>
            <a:off x="1763640" y="692280"/>
            <a:ext cx="6913800" cy="3097080"/>
          </a:xfrm>
          <a:prstGeom prst="wedgeRoundRectCallout">
            <a:avLst>
              <a:gd name="adj1" fmla="val -38884"/>
              <a:gd name="adj2" fmla="val 64708"/>
              <a:gd name="adj3" fmla="val 16667"/>
            </a:avLst>
          </a:prstGeom>
          <a:solidFill>
            <a:srgbClr val="ffffff">
              <a:alpha val="90000"/>
            </a:srgbClr>
          </a:solidFill>
          <a:ln w="57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1835280" y="692640"/>
            <a:ext cx="662436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菲格雷特总统用饱含深情的语调，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述了塞特凯达斯大瀑布曾经给巴西和其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国家人民带来的骄傲与欢乐，号召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人们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即行动起来，维护生态平衡，爱护我们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存的地球，使大瀑布的悲剧不再重演！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6T05:21:0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46:49Z</dcterms:modified>
  <cp:revision>1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