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11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89E-5BB0-4AFC-8131-B5781B14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5DB-394A-4F0C-93DA-73F9BBAC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151-E415-44A9-BA50-064F7DB3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918-FACC-47D2-BDAA-CC9823CB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BE1-C3B9-4095-9DE2-4E9DA940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B41-7330-421E-813E-0D9458CA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342-E996-47A2-BBA3-ED85AAEE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99F-B27A-4584-9509-CDAF8394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8A3-47A9-4054-AE5D-5FD66F1C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9B8-EEDE-41C1-AD0F-81600504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40C-8A58-47E9-9B68-C0D9E6A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DDF-6E2B-4574-8EB1-97FFC80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C05D-72D6-4F4A-914D-39EADFE8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92.168.0.3:8000/material/material/200631193109.jpg" TargetMode="External"/><Relationship Id="rId2" Type="http://schemas.openxmlformats.org/officeDocument/2006/relationships/hyperlink" Target="http://192.168.0.3:8000/material/material/200631193109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192.168.0.3:8000/material/material/200631193205.jpg" TargetMode="External"/><Relationship Id="rId2" Type="http://schemas.openxmlformats.org/officeDocument/2006/relationships/hyperlink" Target="http://192.168.0.3:8000/material/material/200631193205.jpg" TargetMode="External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40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136"/>
          <p:cNvPicPr/>
          <p:nvPr/>
        </p:nvPicPr>
        <p:blipFill>
          <a:blip r:embed="rId1"/>
          <a:stretch/>
        </p:blipFill>
        <p:spPr>
          <a:xfrm>
            <a:off x="60958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762120" y="762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复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621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韵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908000" y="162864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067280" y="177336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916360" y="17733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648320" y="16002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651640" y="1413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U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276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声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623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50532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724280" y="3429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200400" y="4419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4197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5334120" y="3733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家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49480" y="0"/>
            <a:ext cx="33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80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3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800"/>
                            </p:stCondLst>
                            <p:childTnLst>
                              <p:par>
                                <p:cTn id="40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300"/>
                            </p:stCondLst>
                            <p:childTnLst>
                              <p:par>
                                <p:cTn id="44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80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7300"/>
                            </p:stCondLst>
                            <p:childTnLst>
                              <p:par>
                                <p:cTn id="52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27"/>
          <p:cNvPicPr/>
          <p:nvPr/>
        </p:nvPicPr>
        <p:blipFill>
          <a:blip r:embed="rId1"/>
          <a:stretch/>
        </p:blipFill>
        <p:spPr>
          <a:xfrm>
            <a:off x="5562720" y="3733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685800" y="533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辩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85800" y="1600200"/>
            <a:ext cx="5715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衣服真好看！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特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别爱玩。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t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门外有人找你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呢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！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、春天快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了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！</a:t>
            </a: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057400" y="2209680"/>
            <a:ext cx="5867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124080" y="762120"/>
            <a:ext cx="4572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5000" spc="-1" strike="noStrike">
                <a:solidFill>
                  <a:srgbClr val="333399"/>
                </a:solidFill>
                <a:latin typeface="Arial"/>
              </a:rPr>
              <a:t>ǎ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3278520" y="380880"/>
            <a:ext cx="2891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0" spc="-1" strike="noStrike">
                <a:solidFill>
                  <a:srgbClr val="333399"/>
                </a:solidFill>
                <a:latin typeface="Arial"/>
              </a:rPr>
              <a:t>dì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659760" y="533520"/>
            <a:ext cx="2827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333399"/>
                </a:solidFill>
                <a:latin typeface="Arial"/>
              </a:rPr>
              <a:t>tà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3402720" y="762120"/>
            <a:ext cx="3710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5000" spc="-1" strike="noStrike">
                <a:solidFill>
                  <a:srgbClr val="333399"/>
                </a:solidFill>
                <a:latin typeface="Arial"/>
              </a:rPr>
              <a:t>tī 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897640" y="685800"/>
            <a:ext cx="4592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333399"/>
                </a:solidFill>
                <a:latin typeface="Arial"/>
              </a:rPr>
              <a:t>dù 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057400" y="1219320"/>
            <a:ext cx="6400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52480" y="6858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—ǎ---mǎ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马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828800" y="21337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---ù-----tù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兔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2057400" y="4572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——à——dà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981080" y="22860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——ǐ——m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大米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514600" y="-990720"/>
            <a:ext cx="5334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—ǔ—tǔ</a:t>
            </a: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219320" y="1066680"/>
            <a:ext cx="73152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—ì—dì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土地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447920" y="914400"/>
            <a:ext cx="58716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743200" y="2819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343400" y="1676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343400" y="25909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267080" y="36576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419720" y="4724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FR_048"/>
          <p:cNvPicPr/>
          <p:nvPr/>
        </p:nvPicPr>
        <p:blipFill>
          <a:blip r:embed="rId1"/>
          <a:stretch/>
        </p:blipFill>
        <p:spPr>
          <a:xfrm>
            <a:off x="152280" y="546120"/>
            <a:ext cx="8991720" cy="631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1981080" y="152280"/>
            <a:ext cx="5486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"/>
          <p:cNvGrpSpPr/>
          <p:nvPr/>
        </p:nvGrpSpPr>
        <p:grpSpPr>
          <a:xfrm>
            <a:off x="1371600" y="1600200"/>
            <a:ext cx="6257160" cy="3708000"/>
            <a:chOff x="1371600" y="1600200"/>
            <a:chExt cx="6257160" cy="3708000"/>
          </a:xfrm>
        </p:grpSpPr>
        <p:sp>
          <p:nvSpPr>
            <p:cNvPr id="166" name="Rectangle 3"/>
            <p:cNvSpPr/>
            <p:nvPr/>
          </p:nvSpPr>
          <p:spPr>
            <a:xfrm>
              <a:off x="1371600" y="1600200"/>
              <a:ext cx="890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xi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ǎ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"/>
            <p:cNvSpPr/>
            <p:nvPr/>
          </p:nvSpPr>
          <p:spPr>
            <a:xfrm>
              <a:off x="2262240" y="1600200"/>
              <a:ext cx="996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m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258720" y="1600200"/>
              <a:ext cx="10627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ē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4321800" y="1600200"/>
              <a:ext cx="1475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d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à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5797440" y="1600200"/>
              <a:ext cx="1254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m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7051680" y="1600200"/>
              <a:ext cx="577080" cy="37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1371600" y="2063520"/>
              <a:ext cx="890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2262240" y="2063520"/>
              <a:ext cx="996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3258720" y="2063520"/>
              <a:ext cx="10627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21800" y="2063520"/>
              <a:ext cx="1475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797440" y="2063520"/>
              <a:ext cx="1254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米</a:t>
              </a:r>
              <a:r>
                <a:rPr b="1" lang="en-US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1371600" y="2527200"/>
              <a:ext cx="890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d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5"/>
            <p:cNvSpPr/>
            <p:nvPr/>
          </p:nvSpPr>
          <p:spPr>
            <a:xfrm>
              <a:off x="2262240" y="2527200"/>
              <a:ext cx="996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m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3258720" y="2527200"/>
              <a:ext cx="10627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s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ǎ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7"/>
            <p:cNvSpPr/>
            <p:nvPr/>
          </p:nvSpPr>
          <p:spPr>
            <a:xfrm>
              <a:off x="4321800" y="2527200"/>
              <a:ext cx="1475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ī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 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8"/>
            <p:cNvSpPr/>
            <p:nvPr/>
          </p:nvSpPr>
          <p:spPr>
            <a:xfrm>
              <a:off x="5797440" y="2527200"/>
              <a:ext cx="1254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d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ì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9"/>
            <p:cNvSpPr/>
            <p:nvPr/>
          </p:nvSpPr>
          <p:spPr>
            <a:xfrm>
              <a:off x="1371600" y="2990880"/>
              <a:ext cx="8906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2262240" y="2990880"/>
              <a:ext cx="9964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1"/>
            <p:cNvSpPr/>
            <p:nvPr/>
          </p:nvSpPr>
          <p:spPr>
            <a:xfrm>
              <a:off x="3258720" y="2990880"/>
              <a:ext cx="106272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2"/>
            <p:cNvSpPr/>
            <p:nvPr/>
          </p:nvSpPr>
          <p:spPr>
            <a:xfrm>
              <a:off x="4321800" y="2990880"/>
              <a:ext cx="14752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3"/>
            <p:cNvSpPr/>
            <p:nvPr/>
          </p:nvSpPr>
          <p:spPr>
            <a:xfrm>
              <a:off x="5797440" y="2990880"/>
              <a:ext cx="12542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4"/>
            <p:cNvSpPr/>
            <p:nvPr/>
          </p:nvSpPr>
          <p:spPr>
            <a:xfrm>
              <a:off x="1371600" y="3453840"/>
              <a:ext cx="890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xi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ǎ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5"/>
            <p:cNvSpPr/>
            <p:nvPr/>
          </p:nvSpPr>
          <p:spPr>
            <a:xfrm>
              <a:off x="2262240" y="3453840"/>
              <a:ext cx="996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t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6"/>
            <p:cNvSpPr/>
            <p:nvPr/>
          </p:nvSpPr>
          <p:spPr>
            <a:xfrm>
              <a:off x="3258720" y="3453840"/>
              <a:ext cx="10627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p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</a:rPr>
                <a:t>ǎ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7"/>
            <p:cNvSpPr/>
            <p:nvPr/>
          </p:nvSpPr>
          <p:spPr>
            <a:xfrm>
              <a:off x="4321800" y="3453840"/>
              <a:ext cx="1475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sh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à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8"/>
            <p:cNvSpPr/>
            <p:nvPr/>
          </p:nvSpPr>
          <p:spPr>
            <a:xfrm>
              <a:off x="5797440" y="3453840"/>
              <a:ext cx="1254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l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á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9"/>
            <p:cNvSpPr/>
            <p:nvPr/>
          </p:nvSpPr>
          <p:spPr>
            <a:xfrm>
              <a:off x="1371600" y="3917520"/>
              <a:ext cx="890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0"/>
            <p:cNvSpPr/>
            <p:nvPr/>
          </p:nvSpPr>
          <p:spPr>
            <a:xfrm>
              <a:off x="2262240" y="3917520"/>
              <a:ext cx="996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1"/>
            <p:cNvSpPr/>
            <p:nvPr/>
          </p:nvSpPr>
          <p:spPr>
            <a:xfrm>
              <a:off x="3258720" y="3917520"/>
              <a:ext cx="10627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4321800" y="3917520"/>
              <a:ext cx="1475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3"/>
            <p:cNvSpPr/>
            <p:nvPr/>
          </p:nvSpPr>
          <p:spPr>
            <a:xfrm>
              <a:off x="5797440" y="3917520"/>
              <a:ext cx="1254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来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4"/>
            <p:cNvSpPr/>
            <p:nvPr/>
          </p:nvSpPr>
          <p:spPr>
            <a:xfrm>
              <a:off x="1371600" y="4381200"/>
              <a:ext cx="890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d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à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5"/>
            <p:cNvSpPr/>
            <p:nvPr/>
          </p:nvSpPr>
          <p:spPr>
            <a:xfrm>
              <a:off x="2262240" y="4381200"/>
              <a:ext cx="996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ji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à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6"/>
            <p:cNvSpPr/>
            <p:nvPr/>
          </p:nvSpPr>
          <p:spPr>
            <a:xfrm>
              <a:off x="3258720" y="4381200"/>
              <a:ext cx="10627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t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í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7"/>
            <p:cNvSpPr/>
            <p:nvPr/>
          </p:nvSpPr>
          <p:spPr>
            <a:xfrm>
              <a:off x="4321800" y="4381200"/>
              <a:ext cx="1475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t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í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8"/>
            <p:cNvSpPr/>
            <p:nvPr/>
          </p:nvSpPr>
          <p:spPr>
            <a:xfrm>
              <a:off x="5797440" y="4381200"/>
              <a:ext cx="1254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t</a:t>
              </a: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í</a:t>
              </a:r>
              <a:r>
                <a:rPr b="0" lang="en-US" sz="2800" spc="-1" strike="noStrike">
                  <a:solidFill>
                    <a:srgbClr val="000080"/>
                  </a:solidFill>
                  <a:latin typeface="Arial"/>
                  <a:ea typeface="Arial"/>
                </a:rPr>
                <a:t>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9"/>
            <p:cNvSpPr/>
            <p:nvPr/>
          </p:nvSpPr>
          <p:spPr>
            <a:xfrm>
              <a:off x="1371600" y="4844520"/>
              <a:ext cx="890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0"/>
            <p:cNvSpPr/>
            <p:nvPr/>
          </p:nvSpPr>
          <p:spPr>
            <a:xfrm>
              <a:off x="2262240" y="4844520"/>
              <a:ext cx="9964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1"/>
            <p:cNvSpPr/>
            <p:nvPr/>
          </p:nvSpPr>
          <p:spPr>
            <a:xfrm>
              <a:off x="3258720" y="4844520"/>
              <a:ext cx="106272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2"/>
            <p:cNvSpPr/>
            <p:nvPr/>
          </p:nvSpPr>
          <p:spPr>
            <a:xfrm>
              <a:off x="4321800" y="4844520"/>
              <a:ext cx="14752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3"/>
            <p:cNvSpPr/>
            <p:nvPr/>
          </p:nvSpPr>
          <p:spPr>
            <a:xfrm>
              <a:off x="5797440" y="4844520"/>
              <a:ext cx="1254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80"/>
                  </a:solidFill>
                  <a:latin typeface="Times New Roman"/>
                  <a:ea typeface="隶书"/>
                </a:rPr>
                <a:t>停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44"/>
          <p:cNvSpPr/>
          <p:nvPr/>
        </p:nvSpPr>
        <p:spPr>
          <a:xfrm>
            <a:off x="249480" y="0"/>
            <a:ext cx="339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69EF-6219-442D-8E21-50A9B87603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Text Box 5" descr=""/>
          <p:cNvPicPr/>
          <p:nvPr/>
        </p:nvPicPr>
        <p:blipFill>
          <a:blip r:embed="rId2"/>
          <a:stretch/>
        </p:blipFill>
        <p:spPr>
          <a:xfrm>
            <a:off x="3200400" y="1127160"/>
            <a:ext cx="5486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5280"/>
            <a:ext cx="423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200631193059"/>
          <p:cNvPicPr/>
          <p:nvPr/>
        </p:nvPicPr>
        <p:blipFill>
          <a:blip r:embed="rId1"/>
          <a:stretch/>
        </p:blipFill>
        <p:spPr>
          <a:xfrm>
            <a:off x="914400" y="1676520"/>
            <a:ext cx="3489480" cy="3733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648320" y="990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敲响队鼓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 d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4952880" y="27432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5029200" y="3276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5029200" y="3809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5029200" y="4343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486400" y="1143000"/>
            <a:ext cx="114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934320" y="259092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0" y="2303640"/>
            <a:ext cx="9144000" cy="2209680"/>
            <a:chOff x="0" y="2303640"/>
            <a:chExt cx="9144000" cy="2209680"/>
          </a:xfrm>
        </p:grpSpPr>
        <p:sp>
          <p:nvSpPr>
            <p:cNvPr id="80" name="Rectangle 3"/>
            <p:cNvSpPr/>
            <p:nvPr/>
          </p:nvSpPr>
          <p:spPr>
            <a:xfrm>
              <a:off x="0" y="2303640"/>
              <a:ext cx="9144000" cy="22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"/>
            <p:cNvGrpSpPr/>
            <p:nvPr/>
          </p:nvGrpSpPr>
          <p:grpSpPr>
            <a:xfrm>
              <a:off x="0" y="2303640"/>
              <a:ext cx="9144000" cy="2209680"/>
              <a:chOff x="0" y="2303640"/>
              <a:chExt cx="9144000" cy="2209680"/>
            </a:xfrm>
          </p:grpSpPr>
          <p:sp>
            <p:nvSpPr>
              <p:cNvPr id="82" name="Rectangle 5"/>
              <p:cNvSpPr/>
              <p:nvPr/>
            </p:nvSpPr>
            <p:spPr>
              <a:xfrm>
                <a:off x="0" y="2303640"/>
                <a:ext cx="9144000" cy="22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6"/>
              <p:cNvGrpSpPr/>
              <p:nvPr/>
            </p:nvGrpSpPr>
            <p:grpSpPr>
              <a:xfrm>
                <a:off x="0" y="2303640"/>
                <a:ext cx="9144000" cy="2209680"/>
                <a:chOff x="0" y="2303640"/>
                <a:chExt cx="9144000" cy="2209680"/>
              </a:xfrm>
            </p:grpSpPr>
            <p:sp>
              <p:nvSpPr>
                <p:cNvPr id="84" name="Rectangle 7"/>
                <p:cNvSpPr/>
                <p:nvPr/>
              </p:nvSpPr>
              <p:spPr>
                <a:xfrm>
                  <a:off x="0" y="2303640"/>
                  <a:ext cx="9144000" cy="220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8"/>
                <p:cNvSpPr/>
                <p:nvPr/>
              </p:nvSpPr>
              <p:spPr>
                <a:xfrm>
                  <a:off x="0" y="2303640"/>
                  <a:ext cx="9144000" cy="220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9999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3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6" name="Picture 9" descr="2006311931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1905120"/>
            <a:ext cx="3200400" cy="3089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4648320" y="9907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鱼跳舞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t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464832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648320" y="3124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724280" y="3657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4648320" y="4191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181480" y="243828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200631193128"/>
          <p:cNvPicPr/>
          <p:nvPr/>
        </p:nvPicPr>
        <p:blipFill>
          <a:blip r:embed="rId1"/>
          <a:stretch/>
        </p:blipFill>
        <p:spPr>
          <a:xfrm>
            <a:off x="4648320" y="3352680"/>
            <a:ext cx="373356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0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门洞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 n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533520" y="2209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533520" y="27432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457200" y="3276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57200" y="37339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62120" y="22096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133720" y="20574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"/>
          <p:cNvGrpSpPr/>
          <p:nvPr/>
        </p:nvGrpSpPr>
        <p:grpSpPr>
          <a:xfrm>
            <a:off x="0" y="2411280"/>
            <a:ext cx="9144000" cy="1996920"/>
            <a:chOff x="0" y="2411280"/>
            <a:chExt cx="9144000" cy="1996920"/>
          </a:xfrm>
        </p:grpSpPr>
        <p:sp>
          <p:nvSpPr>
            <p:cNvPr id="103" name="Rectangle 3"/>
            <p:cNvSpPr/>
            <p:nvPr/>
          </p:nvSpPr>
          <p:spPr>
            <a:xfrm>
              <a:off x="0" y="2411280"/>
              <a:ext cx="9144000" cy="19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0" y="2411280"/>
              <a:ext cx="9144000" cy="1996920"/>
              <a:chOff x="0" y="2411280"/>
              <a:chExt cx="9144000" cy="1996920"/>
            </a:xfrm>
          </p:grpSpPr>
          <p:sp>
            <p:nvSpPr>
              <p:cNvPr id="105" name="Rectangle 5"/>
              <p:cNvSpPr/>
              <p:nvPr/>
            </p:nvSpPr>
            <p:spPr>
              <a:xfrm>
                <a:off x="0" y="2411280"/>
                <a:ext cx="9144000" cy="199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6"/>
              <p:cNvGrpSpPr/>
              <p:nvPr/>
            </p:nvGrpSpPr>
            <p:grpSpPr>
              <a:xfrm>
                <a:off x="0" y="2411280"/>
                <a:ext cx="9144000" cy="1996920"/>
                <a:chOff x="0" y="2411280"/>
                <a:chExt cx="9144000" cy="1996920"/>
              </a:xfrm>
            </p:grpSpPr>
            <p:sp>
              <p:nvSpPr>
                <p:cNvPr id="107" name="Rectangle 7"/>
                <p:cNvSpPr/>
                <p:nvPr/>
              </p:nvSpPr>
              <p:spPr>
                <a:xfrm>
                  <a:off x="0" y="2411280"/>
                  <a:ext cx="9144000" cy="199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8"/>
                <p:cNvSpPr/>
                <p:nvPr/>
              </p:nvSpPr>
              <p:spPr>
                <a:xfrm>
                  <a:off x="0" y="2411280"/>
                  <a:ext cx="9144000" cy="199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9999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25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9" name="Picture 9" descr="2006311932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2666880"/>
            <a:ext cx="3970440" cy="3454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33520" y="9144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根木棍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 l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91440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914400" y="3048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990720" y="35053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990720" y="3886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71600" y="22860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5"/>
          <a:stretch/>
        </p:blipFill>
        <p:spPr>
          <a:xfrm>
            <a:off x="0" y="0"/>
            <a:ext cx="9753480" cy="8458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90920" y="685800"/>
            <a:ext cx="5715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幼圆"/>
                <a:ea typeface="幼圆"/>
              </a:rPr>
              <a:t>儿歌</a:t>
            </a:r>
            <a:r>
              <a:rPr b="1" lang="en-US" sz="4400" spc="-1" strike="noStrike">
                <a:solidFill>
                  <a:srgbClr val="ff0000"/>
                </a:solidFill>
                <a:latin typeface="幼圆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悟空本领特别大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天兵天将全不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打败哪吒三太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乐得悟空笑哈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62120" y="35812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43000" y="685800"/>
            <a:ext cx="121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718080" y="6118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334120" y="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229600" y="3733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0:10:59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xinxing</cp:lastModifiedBy>
  <dcterms:modified xsi:type="dcterms:W3CDTF">2017-04-16T15:02:49Z</dcterms:modified>
  <cp:revision>2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