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8"/>
          <p:cNvSpPr/>
          <p:nvPr/>
        </p:nvSpPr>
        <p:spPr>
          <a:xfrm>
            <a:off x="1258920" y="155736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"/>
                <a:ea typeface="楷体_GB2312"/>
              </a:rPr>
              <a:t>Unit 2  My fami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261540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71680" y="1928880"/>
          <a:ext cx="8001000" cy="37400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1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会话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A Let’s talk/Look and s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man, fath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Who’s that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He’s my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和教师的帮助下理解对话大意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语境中理解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Who’s that … ? He’s my …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的语用功能，并在图片或动作等帮助下，使用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Who’s that …?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询问他人身份并使用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He’s my …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作答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朗读对话，并能进行角色表演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1" name="文本框 1"/>
          <p:cNvSpPr/>
          <p:nvPr/>
        </p:nvSpPr>
        <p:spPr>
          <a:xfrm>
            <a:off x="1406520" y="50734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71680" y="1928880"/>
          <a:ext cx="8001000" cy="46418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4213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A Let’s learn/Let’s ch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father, dad, man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woman, mother,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Who’s that 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He/She’s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听、说、认读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father, dad, man, woman, mother, mum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六个单词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教师提供的语境中运用这些来简单询问同学的家庭成员信息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的帮助下听懂并跟读歌谣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4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知道妈妈的口语体形式在英美两国的拼写和发音是不同的：英式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mum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美式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mom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5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通过情景图片和教师讲解能够知道西方的复活节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Easter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，知道复活节兔子（主情境图中有）和找彩蛋的游戏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71680" y="1928880"/>
          <a:ext cx="8001000" cy="37400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1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字母语音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sp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语音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isten and 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听音写字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通过听例词发音，观察例词结构中共有的字母，理解字母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e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对应发      音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教师的引导下说出例词由哪些音构成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之前的练习基础上给出几个独立的音，让学生试着自己拼起来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4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四线三格中正确书写单词，注意到字母间距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86" name="Picture 20" descr=""/>
          <p:cNvPicPr/>
          <p:nvPr/>
        </p:nvPicPr>
        <p:blipFill>
          <a:blip r:embed="rId1"/>
          <a:stretch/>
        </p:blipFill>
        <p:spPr>
          <a:xfrm>
            <a:off x="3071880" y="2714760"/>
            <a:ext cx="266760" cy="18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1" descr=""/>
          <p:cNvPicPr/>
          <p:nvPr/>
        </p:nvPicPr>
        <p:blipFill>
          <a:blip r:embed="rId2"/>
          <a:stretch/>
        </p:blipFill>
        <p:spPr>
          <a:xfrm>
            <a:off x="5786280" y="3000240"/>
            <a:ext cx="285840" cy="1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71680" y="1928880"/>
          <a:ext cx="8001000" cy="37400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1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会话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B Let’s talk/Look and s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br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s she/he your 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Yes, she/he 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No, she/he isn’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和教师的帮助下理解对话大意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语境中理解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s she/he your …?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的语用功能，并在图片或动作等帮助下简单询问他人信息。能正确读出和使用肯定和否定回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朗读对话并能进行角色表演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71680" y="1928880"/>
          <a:ext cx="8001000" cy="37400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1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B Let’s learn/Let’s ch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ister, brothe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grandfathe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grandpa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grandmothe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grand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This is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听、说、认读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ister,  brother, grandfather, grandpa,  grandmother, grandma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等单词。注意告知学生在中国爷爷和外公，奶奶和外婆在英语中都各使用一个单词表示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运用这些单词对自己的家人做简要介绍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的帮助下听懂并跟读歌谣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71680" y="1928880"/>
          <a:ext cx="8001000" cy="37400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1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综合技能活动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tart to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che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tory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和语境的帮助下认读句子，并且能够以文段中的句子为范本，根据自己的真实生活进行口头表达。（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tart to read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检测部分要求学生能够熟练地听、说本单元对话部分的主要句型，能听、说、认读词汇部分的所有单词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学会唱歌曲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 love my family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4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的帮助下理解故事内容，在教师的帮助下表演故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38C6-9EC7-4C94-8C04-2DF63A672C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2:33Z</dcterms:modified>
  <cp:revision>1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