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1258920" y="1341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1  Welcome back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     </a:t>
            </a: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to schoo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3203640" y="4941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Look and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oy, girl, new,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friend, today, 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’m from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elcom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e have two new friends today. I’m from …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’m from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自我介绍国籍和家乡，进行初步的交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通过图片和教师讲解，能知道中西方主要国家的国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UK, Canada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USA, 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’m from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UK, Canada,  USA,  Chin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四个国家名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四个国名来交流信息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通过图片和教师的讲解能够知道中西方主要国家的标志性建筑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isten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听音写字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通过听例词发音，观察例词结构中共有的字母，知道字母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在单词中发      音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的引导下说出例词由哪些音构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之前练习的基础上根据给出的几个独立的音试着拼出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四线三格中正确书写单词，注意到字母间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0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6036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2"/>
          <a:stretch/>
        </p:blipFill>
        <p:spPr>
          <a:xfrm>
            <a:off x="6215040" y="2957400"/>
            <a:ext cx="35712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680" y="1928880"/>
          <a:ext cx="8001000" cy="40924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66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Look and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are you fro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are you from? I’m from …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它们完成和他人自我介绍和询问的简单交际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分清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和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区别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5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通过图片和教师讲解能够知道中西方主要国家的国旗和代表动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e, student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pupil, he,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e/He i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e, student, pupil, he, teacher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注意告知学生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uden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和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pupil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是同义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运用这些单词询问和回答个人信息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文本框 1"/>
          <p:cNvSpPr/>
          <p:nvPr/>
        </p:nvSpPr>
        <p:spPr>
          <a:xfrm>
            <a:off x="2111400" y="5073480"/>
            <a:ext cx="49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根据自己的真实生活进行口头表达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够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oy and girl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945-1E65-4BFE-B385-A4CA44CDF2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38Z</dcterms:modified>
  <cp:revision>1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