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D61-4F52-4A13-95B1-49D2CA92797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2552-F515-42A0-8B44-496401A25C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173-562E-4769-B2B5-BAB8A0F9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633-27AC-4574-8C5B-32F70EB2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23C-40E9-4D71-99DB-1DD5BCD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A12-B66F-4FB7-B9B7-649E6D89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E79F-252A-4199-8B8D-9B7ACBC7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1E76-1E19-4121-8D2E-D19EFEE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C8E-0BDE-40B4-BE7A-104FBDB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C2A2-4BB8-4002-8358-3B18C29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B63C-A8EF-48FA-9C42-D02789E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F34-FB3D-4D04-AC16-BB56591A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75D-FD3C-49C4-ADA6-08059D9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5AA-4EDB-496D-951E-D0CE46D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6C4-D099-4242-B7F5-93F21AD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4B7A-C026-4BB5-BCAD-F2FD3FE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EB63-E027-421C-B7A3-327A083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89A-5547-4B0F-96DC-0860DC1E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19D-A7F4-4D0F-9BD2-F79F682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C73-C7E6-4232-AE1C-7487D97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EEC-B544-4F05-97D3-DEDBDC5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A7A-8CA6-48CF-93BA-77D45F9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914-C3F8-42FD-A8B6-F82D93C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91A-C314-4924-8206-179163C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D63-438E-457D-9EA1-59E0340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145-4E49-4760-88F5-B5E661C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AB6-0673-4FFA-996E-F9741E9ABA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CAC-646F-453C-9DA6-B9CEAB0146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FB26-ADDA-4C38-BF23-7B28FF0E1ED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6CF-1408-46EF-AEE2-229F8B1939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92000" y="1196640"/>
            <a:ext cx="5256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负数的认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333360"/>
            <a:ext cx="684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一单元：负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2110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561080" cy="33638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回归生活，拓展应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4"/>
          <p:cNvGrpSpPr/>
          <p:nvPr/>
        </p:nvGrpSpPr>
        <p:grpSpPr>
          <a:xfrm>
            <a:off x="324000" y="4581360"/>
            <a:ext cx="5543280" cy="1366920"/>
            <a:chOff x="324000" y="4581360"/>
            <a:chExt cx="5543280" cy="1366920"/>
          </a:xfrm>
        </p:grpSpPr>
        <p:sp>
          <p:nvSpPr>
            <p:cNvPr id="212" name="圆角矩形标注1 85"/>
            <p:cNvSpPr/>
            <p:nvPr/>
          </p:nvSpPr>
          <p:spPr>
            <a:xfrm>
              <a:off x="1332720" y="4581360"/>
              <a:ext cx="4534560" cy="1366920"/>
            </a:xfrm>
            <a:prstGeom prst="wedgeRoundRectCallout">
              <a:avLst>
                <a:gd name="adj1" fmla="val -59898"/>
                <a:gd name="adj2" fmla="val 12425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以北京时间为标准，孟加拉国首都达卡的时间记为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时，你知道它此时的时间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6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860040" cy="10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7"/>
          <p:cNvGrpSpPr/>
          <p:nvPr/>
        </p:nvGrpSpPr>
        <p:grpSpPr>
          <a:xfrm>
            <a:off x="5292720" y="3716280"/>
            <a:ext cx="3851280" cy="1611000"/>
            <a:chOff x="5292720" y="3716280"/>
            <a:chExt cx="3851280" cy="1611000"/>
          </a:xfrm>
        </p:grpSpPr>
        <p:pic>
          <p:nvPicPr>
            <p:cNvPr id="215" name="Picture 8" descr=""/>
            <p:cNvPicPr/>
            <p:nvPr/>
          </p:nvPicPr>
          <p:blipFill>
            <a:blip r:embed="rId3"/>
            <a:stretch/>
          </p:blipFill>
          <p:spPr>
            <a:xfrm>
              <a:off x="7942320" y="4436640"/>
              <a:ext cx="12016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AutoShape 9"/>
            <p:cNvSpPr/>
            <p:nvPr/>
          </p:nvSpPr>
          <p:spPr>
            <a:xfrm>
              <a:off x="5292720" y="3716280"/>
              <a:ext cx="3601080" cy="575640"/>
            </a:xfrm>
            <a:prstGeom prst="wedgeRoundRectCallout">
              <a:avLst>
                <a:gd name="adj1" fmla="val 37212"/>
                <a:gd name="adj2" fmla="val 92560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北京时间用什么表示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1717560" y="3933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+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4269240" y="393372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50920" y="1341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某食品厂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袋装方便面外包装印有“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0±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字样。小明购买一袋这样的方便面，称一下发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7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请问厂家有没有欺骗行为？为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68360" y="260280"/>
            <a:ext cx="77756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回归生活，拓展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u=2784921756,185552194&amp;fm=0&amp;gp=2"/>
          <p:cNvPicPr/>
          <p:nvPr/>
        </p:nvPicPr>
        <p:blipFill>
          <a:blip r:embed="rId1"/>
          <a:stretch/>
        </p:blipFill>
        <p:spPr>
          <a:xfrm>
            <a:off x="2771640" y="2997360"/>
            <a:ext cx="1366920" cy="13665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284720" y="2492280"/>
            <a:ext cx="2232000" cy="505080"/>
          </a:xfrm>
          <a:prstGeom prst="wedgeRoundRectCallout">
            <a:avLst>
              <a:gd name="adj1" fmla="val -57527"/>
              <a:gd name="adj2" fmla="val 90379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±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539640" y="4365720"/>
            <a:ext cx="4321440" cy="1236600"/>
            <a:chOff x="539640" y="4365720"/>
            <a:chExt cx="4321440" cy="1236600"/>
          </a:xfrm>
        </p:grpSpPr>
        <p:sp>
          <p:nvSpPr>
            <p:cNvPr id="225" name="圆角矩形标注1 85"/>
            <p:cNvSpPr/>
            <p:nvPr/>
          </p:nvSpPr>
          <p:spPr>
            <a:xfrm>
              <a:off x="1605600" y="4365720"/>
              <a:ext cx="3255480" cy="864000"/>
            </a:xfrm>
            <a:prstGeom prst="wedgeRoundRectCallout">
              <a:avLst>
                <a:gd name="adj1" fmla="val -59898"/>
                <a:gd name="adj2" fmla="val 12425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0±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g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表示什么意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8" descr=""/>
            <p:cNvPicPr/>
            <p:nvPr/>
          </p:nvPicPr>
          <p:blipFill>
            <a:blip r:embed="rId2"/>
            <a:stretch/>
          </p:blipFill>
          <p:spPr>
            <a:xfrm>
              <a:off x="539640" y="4509720"/>
              <a:ext cx="860040" cy="109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9"/>
          <p:cNvGrpSpPr/>
          <p:nvPr/>
        </p:nvGrpSpPr>
        <p:grpSpPr>
          <a:xfrm>
            <a:off x="4859280" y="3429000"/>
            <a:ext cx="3963960" cy="1940040"/>
            <a:chOff x="4859280" y="3429000"/>
            <a:chExt cx="3963960" cy="1940040"/>
          </a:xfrm>
        </p:grpSpPr>
        <p:pic>
          <p:nvPicPr>
            <p:cNvPr id="228" name="Picture 10" descr=""/>
            <p:cNvPicPr/>
            <p:nvPr/>
          </p:nvPicPr>
          <p:blipFill>
            <a:blip r:embed="rId3"/>
            <a:stretch/>
          </p:blipFill>
          <p:spPr>
            <a:xfrm>
              <a:off x="7812000" y="4365000"/>
              <a:ext cx="1011240" cy="10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1"/>
            <p:cNvSpPr/>
            <p:nvPr/>
          </p:nvSpPr>
          <p:spPr>
            <a:xfrm>
              <a:off x="4859280" y="3429000"/>
              <a:ext cx="3889800" cy="935280"/>
            </a:xfrm>
            <a:prstGeom prst="wedgeRoundRectCallout">
              <a:avLst>
                <a:gd name="adj1" fmla="val 29874"/>
                <a:gd name="adj2" fmla="val 6464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0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记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17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可以记作多少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了解历史，课堂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24360" cy="266364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4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3168360" cy="266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024360" cy="244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4"/>
          <a:stretch/>
        </p:blipFill>
        <p:spPr>
          <a:xfrm>
            <a:off x="3851280" y="4005360"/>
            <a:ext cx="3168720" cy="24494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7"/>
          <p:cNvGrpSpPr/>
          <p:nvPr/>
        </p:nvGrpSpPr>
        <p:grpSpPr>
          <a:xfrm>
            <a:off x="6588000" y="3357720"/>
            <a:ext cx="2452680" cy="1721880"/>
            <a:chOff x="6588000" y="3357720"/>
            <a:chExt cx="2452680" cy="1721880"/>
          </a:xfrm>
        </p:grpSpPr>
        <p:pic>
          <p:nvPicPr>
            <p:cNvPr id="237" name="Picture 8" descr=""/>
            <p:cNvPicPr/>
            <p:nvPr/>
          </p:nvPicPr>
          <p:blipFill>
            <a:blip r:embed="rId5"/>
            <a:stretch/>
          </p:blipFill>
          <p:spPr>
            <a:xfrm>
              <a:off x="8029440" y="4077000"/>
              <a:ext cx="1011240" cy="100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9"/>
            <p:cNvSpPr/>
            <p:nvPr/>
          </p:nvSpPr>
          <p:spPr>
            <a:xfrm>
              <a:off x="6588000" y="3357720"/>
              <a:ext cx="2448720" cy="831600"/>
            </a:xfrm>
            <a:prstGeom prst="wedgeRoundRectCallout">
              <a:avLst>
                <a:gd name="adj1" fmla="val 29874"/>
                <a:gd name="adj2" fmla="val 6464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你对负数有什么新的认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了解历史，课堂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1647720" cy="13665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4"/>
          <p:cNvSpPr/>
          <p:nvPr/>
        </p:nvSpPr>
        <p:spPr>
          <a:xfrm>
            <a:off x="1547640" y="2637000"/>
            <a:ext cx="4392720" cy="720720"/>
          </a:xfrm>
          <a:prstGeom prst="wedgeRoundRectCallout">
            <a:avLst>
              <a:gd name="adj1" fmla="val 42828"/>
              <a:gd name="adj2" fmla="val 11132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课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6E3-134E-4A9A-94FB-5106A348A3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3168720" y="30686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谈话激趣，导入新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12000" y="3573360"/>
            <a:ext cx="1800000" cy="1784520"/>
          </a:xfrm>
          <a:prstGeom prst="rect">
            <a:avLst/>
          </a:prstGeom>
          <a:ln w="0">
            <a:noFill/>
          </a:ln>
        </p:spPr>
      </p:pic>
      <p:sp>
        <p:nvSpPr>
          <p:cNvPr id="100" name="圆角矩形标注1 89"/>
          <p:cNvSpPr/>
          <p:nvPr/>
        </p:nvSpPr>
        <p:spPr>
          <a:xfrm>
            <a:off x="1692360" y="2276640"/>
            <a:ext cx="4032000" cy="1584000"/>
          </a:xfrm>
          <a:prstGeom prst="wedgeRoundRectCallout">
            <a:avLst>
              <a:gd name="adj1" fmla="val 52000"/>
              <a:gd name="adj2" fmla="val 75981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在生活中见过负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知道它的含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-66600" y="57546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结合情境，理解意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6200" y="1125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下面是中央气象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下午发布的六个城市的气温预报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时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976" t="1415" r="-364" b="0"/>
          <a:stretch/>
        </p:blipFill>
        <p:spPr>
          <a:xfrm>
            <a:off x="466560" y="1844640"/>
            <a:ext cx="6337440" cy="40323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4500720" y="5084640"/>
            <a:ext cx="4668840" cy="1368720"/>
            <a:chOff x="4500720" y="5084640"/>
            <a:chExt cx="4668840" cy="1368720"/>
          </a:xfrm>
        </p:grpSpPr>
        <p:pic>
          <p:nvPicPr>
            <p:cNvPr id="107" name="Picture 6" descr=""/>
            <p:cNvPicPr/>
            <p:nvPr/>
          </p:nvPicPr>
          <p:blipFill>
            <a:blip r:embed="rId2"/>
            <a:stretch/>
          </p:blipFill>
          <p:spPr>
            <a:xfrm>
              <a:off x="8053200" y="5084640"/>
              <a:ext cx="1116360" cy="8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7"/>
            <p:cNvSpPr/>
            <p:nvPr/>
          </p:nvSpPr>
          <p:spPr>
            <a:xfrm>
              <a:off x="4500720" y="5877000"/>
              <a:ext cx="4174200" cy="576360"/>
            </a:xfrm>
            <a:prstGeom prst="wedgeRoundRectCallout">
              <a:avLst>
                <a:gd name="adj1" fmla="val 40967"/>
                <a:gd name="adj2" fmla="val -83444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仔细观察，你有什么发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6461280" y="2205000"/>
            <a:ext cx="2769840" cy="1898280"/>
            <a:chOff x="6461280" y="2205000"/>
            <a:chExt cx="2769840" cy="1898280"/>
          </a:xfrm>
        </p:grpSpPr>
        <p:pic>
          <p:nvPicPr>
            <p:cNvPr id="110" name="Picture 9" descr=""/>
            <p:cNvPicPr/>
            <p:nvPr/>
          </p:nvPicPr>
          <p:blipFill>
            <a:blip r:embed="rId3"/>
            <a:stretch/>
          </p:blipFill>
          <p:spPr>
            <a:xfrm>
              <a:off x="8172000" y="3213000"/>
              <a:ext cx="105912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AutoShape 10"/>
            <p:cNvSpPr/>
            <p:nvPr/>
          </p:nvSpPr>
          <p:spPr>
            <a:xfrm>
              <a:off x="6461280" y="2205000"/>
              <a:ext cx="2562480" cy="864000"/>
            </a:xfrm>
            <a:prstGeom prst="wedgeRoundRectCallout">
              <a:avLst>
                <a:gd name="adj1" fmla="val 19374"/>
                <a:gd name="adj2" fmla="val 94828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℃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℃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表示的意思一样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结合情境，理解意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1728720" cy="4442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418760" y="1268280"/>
            <a:ext cx="36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温度计上分别表示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1730160" cy="444168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2"/>
          <p:cNvGrpSpPr/>
          <p:nvPr/>
        </p:nvGrpSpPr>
        <p:grpSpPr>
          <a:xfrm>
            <a:off x="4140360" y="4797360"/>
            <a:ext cx="953640" cy="1184400"/>
            <a:chOff x="4140360" y="4797360"/>
            <a:chExt cx="953640" cy="1184400"/>
          </a:xfrm>
        </p:grpSpPr>
        <p:sp>
          <p:nvSpPr>
            <p:cNvPr id="118" name="Rectangle 6"/>
            <p:cNvSpPr/>
            <p:nvPr/>
          </p:nvSpPr>
          <p:spPr>
            <a:xfrm>
              <a:off x="4140360" y="5013360"/>
              <a:ext cx="216000" cy="968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4343400" y="4797360"/>
              <a:ext cx="7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"/>
          <p:cNvGrpSpPr/>
          <p:nvPr/>
        </p:nvGrpSpPr>
        <p:grpSpPr>
          <a:xfrm>
            <a:off x="1270080" y="4437000"/>
            <a:ext cx="864000" cy="1513080"/>
            <a:chOff x="1270080" y="4437000"/>
            <a:chExt cx="864000" cy="1513080"/>
          </a:xfrm>
        </p:grpSpPr>
        <p:sp>
          <p:nvSpPr>
            <p:cNvPr id="121" name="Text Box 8"/>
            <p:cNvSpPr/>
            <p:nvPr/>
          </p:nvSpPr>
          <p:spPr>
            <a:xfrm>
              <a:off x="1481040" y="443700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1270080" y="4620600"/>
              <a:ext cx="205560" cy="132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0"/>
          <p:cNvGrpSpPr/>
          <p:nvPr/>
        </p:nvGrpSpPr>
        <p:grpSpPr>
          <a:xfrm>
            <a:off x="5148360" y="4437000"/>
            <a:ext cx="2282760" cy="1754280"/>
            <a:chOff x="5148360" y="4437000"/>
            <a:chExt cx="2282760" cy="1754280"/>
          </a:xfrm>
        </p:grpSpPr>
        <p:pic>
          <p:nvPicPr>
            <p:cNvPr id="124" name="Picture 11" descr=""/>
            <p:cNvPicPr/>
            <p:nvPr/>
          </p:nvPicPr>
          <p:blipFill>
            <a:blip r:embed="rId3"/>
            <a:stretch/>
          </p:blipFill>
          <p:spPr>
            <a:xfrm>
              <a:off x="6229080" y="5301000"/>
              <a:ext cx="120204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12"/>
            <p:cNvSpPr/>
            <p:nvPr/>
          </p:nvSpPr>
          <p:spPr>
            <a:xfrm>
              <a:off x="5148360" y="4437000"/>
              <a:ext cx="2185560" cy="864000"/>
            </a:xfrm>
            <a:prstGeom prst="wedgeRoundRectCallout">
              <a:avLst>
                <a:gd name="adj1" fmla="val 32990"/>
                <a:gd name="adj2" fmla="val 68652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表示什么意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13" descr=""/>
          <p:cNvPicPr/>
          <p:nvPr/>
        </p:nvPicPr>
        <p:blipFill>
          <a:blip r:embed="rId4"/>
          <a:stretch/>
        </p:blipFill>
        <p:spPr>
          <a:xfrm>
            <a:off x="6012000" y="2062080"/>
            <a:ext cx="1728720" cy="444024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6588000" y="1125360"/>
            <a:ext cx="2281320" cy="1754280"/>
            <a:chOff x="6588000" y="1125360"/>
            <a:chExt cx="2281320" cy="1754280"/>
          </a:xfrm>
        </p:grpSpPr>
        <p:pic>
          <p:nvPicPr>
            <p:cNvPr id="128" name="Picture 15" descr=""/>
            <p:cNvPicPr/>
            <p:nvPr/>
          </p:nvPicPr>
          <p:blipFill>
            <a:blip r:embed="rId5"/>
            <a:stretch/>
          </p:blipFill>
          <p:spPr>
            <a:xfrm>
              <a:off x="7668000" y="1989360"/>
              <a:ext cx="120132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16"/>
            <p:cNvSpPr/>
            <p:nvPr/>
          </p:nvSpPr>
          <p:spPr>
            <a:xfrm>
              <a:off x="6588000" y="1125360"/>
              <a:ext cx="2184120" cy="864000"/>
            </a:xfrm>
            <a:prstGeom prst="wedgeRoundRectCallout">
              <a:avLst>
                <a:gd name="adj1" fmla="val 32990"/>
                <a:gd name="adj2" fmla="val 68652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请在温度计上表示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18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6516720" y="3141720"/>
            <a:ext cx="2412720" cy="1754280"/>
            <a:chOff x="6516720" y="3141720"/>
            <a:chExt cx="2412720" cy="1754280"/>
          </a:xfrm>
        </p:grpSpPr>
        <p:pic>
          <p:nvPicPr>
            <p:cNvPr id="131" name="Picture 19" descr=""/>
            <p:cNvPicPr/>
            <p:nvPr/>
          </p:nvPicPr>
          <p:blipFill>
            <a:blip r:embed="rId6"/>
            <a:stretch/>
          </p:blipFill>
          <p:spPr>
            <a:xfrm>
              <a:off x="7728480" y="4005720"/>
              <a:ext cx="120096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0"/>
            <p:cNvSpPr/>
            <p:nvPr/>
          </p:nvSpPr>
          <p:spPr>
            <a:xfrm>
              <a:off x="6516720" y="3141720"/>
              <a:ext cx="2160000" cy="864000"/>
            </a:xfrm>
            <a:prstGeom prst="wedgeRoundRectCallout">
              <a:avLst>
                <a:gd name="adj1" fmla="val 32990"/>
                <a:gd name="adj2" fmla="val 68652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哪个温度低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3"/>
          <p:cNvGrpSpPr/>
          <p:nvPr/>
        </p:nvGrpSpPr>
        <p:grpSpPr>
          <a:xfrm>
            <a:off x="6762600" y="5516640"/>
            <a:ext cx="1140120" cy="468360"/>
            <a:chOff x="6762600" y="5516640"/>
            <a:chExt cx="1140120" cy="468360"/>
          </a:xfrm>
        </p:grpSpPr>
        <p:sp>
          <p:nvSpPr>
            <p:cNvPr id="134" name="Text Box 17"/>
            <p:cNvSpPr/>
            <p:nvPr/>
          </p:nvSpPr>
          <p:spPr>
            <a:xfrm>
              <a:off x="6982920" y="551664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Object 21" descr=""/>
            <p:cNvPicPr/>
            <p:nvPr/>
          </p:nvPicPr>
          <p:blipFill>
            <a:blip r:embed="rId7"/>
            <a:stretch/>
          </p:blipFill>
          <p:spPr>
            <a:xfrm>
              <a:off x="6762600" y="5775120"/>
              <a:ext cx="171360" cy="209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结合情境，理解意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797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4"/>
          <p:cNvGrpSpPr/>
          <p:nvPr/>
        </p:nvGrpSpPr>
        <p:grpSpPr>
          <a:xfrm>
            <a:off x="6372360" y="2565360"/>
            <a:ext cx="2280600" cy="1754280"/>
            <a:chOff x="6372360" y="2565360"/>
            <a:chExt cx="2280600" cy="1754280"/>
          </a:xfrm>
        </p:grpSpPr>
        <p:pic>
          <p:nvPicPr>
            <p:cNvPr id="140" name="Picture 5" descr=""/>
            <p:cNvPicPr/>
            <p:nvPr/>
          </p:nvPicPr>
          <p:blipFill>
            <a:blip r:embed="rId2"/>
            <a:stretch/>
          </p:blipFill>
          <p:spPr>
            <a:xfrm>
              <a:off x="7452000" y="3429360"/>
              <a:ext cx="120096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6"/>
            <p:cNvSpPr/>
            <p:nvPr/>
          </p:nvSpPr>
          <p:spPr>
            <a:xfrm>
              <a:off x="6372360" y="2565360"/>
              <a:ext cx="2183760" cy="864000"/>
            </a:xfrm>
            <a:prstGeom prst="wedgeRoundRectCallout">
              <a:avLst>
                <a:gd name="adj1" fmla="val 32990"/>
                <a:gd name="adj2" fmla="val 68652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这些数各表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7"/>
          <p:cNvSpPr/>
          <p:nvPr/>
        </p:nvSpPr>
        <p:spPr>
          <a:xfrm>
            <a:off x="3924360" y="1917720"/>
            <a:ext cx="1368360" cy="15825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82560"/>
              <a:gd name="textAreaBottom" fmla="*/ 1515960 h 1582560"/>
            </a:gdLst>
            <a:ahLst/>
            <a:rect l="textAreaLeft" t="textAreaTop" r="textAreaRight" b="textAreaBottom"/>
            <a:pathLst>
              <a:path w="21600" h="24980">
                <a:moveTo>
                  <a:pt x="3600" y="0"/>
                </a:moveTo>
                <a:arcTo wR="3600" hR="3600" stAng="16200000" swAng="-5400000"/>
                <a:lnTo>
                  <a:pt x="0" y="21380"/>
                </a:lnTo>
                <a:arcTo wR="3600" hR="3600" stAng="10800000" swAng="-5400000"/>
                <a:lnTo>
                  <a:pt x="18000" y="249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84360" y="5300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零上温度与零下温度、收入与支出这样表示两种相反意义的量，生活中还有许多。你能举出这样的实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4643280" y="3573360"/>
            <a:ext cx="3146400" cy="1683000"/>
            <a:chOff x="4643280" y="3573360"/>
            <a:chExt cx="3146400" cy="1683000"/>
          </a:xfrm>
        </p:grpSpPr>
        <p:pic>
          <p:nvPicPr>
            <p:cNvPr id="145" name="Picture 10" descr=""/>
            <p:cNvPicPr/>
            <p:nvPr/>
          </p:nvPicPr>
          <p:blipFill>
            <a:blip r:embed="rId3"/>
            <a:stretch/>
          </p:blipFill>
          <p:spPr>
            <a:xfrm>
              <a:off x="6804000" y="4365360"/>
              <a:ext cx="985680" cy="8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1"/>
            <p:cNvSpPr/>
            <p:nvPr/>
          </p:nvSpPr>
          <p:spPr>
            <a:xfrm>
              <a:off x="4643280" y="3573360"/>
              <a:ext cx="2664000" cy="864360"/>
            </a:xfrm>
            <a:prstGeom prst="wedgeRoundRectCallout">
              <a:avLst>
                <a:gd name="adj1" fmla="val 32990"/>
                <a:gd name="adj2" fmla="val 68652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00.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00.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有什么区别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结合情境，理解意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466560" y="1054080"/>
            <a:ext cx="1133640" cy="122868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标注1 85"/>
          <p:cNvSpPr/>
          <p:nvPr/>
        </p:nvSpPr>
        <p:spPr>
          <a:xfrm>
            <a:off x="1835280" y="1413000"/>
            <a:ext cx="4752720" cy="863640"/>
          </a:xfrm>
          <a:prstGeom prst="wedgeRoundRectCallout">
            <a:avLst>
              <a:gd name="adj1" fmla="val -59898"/>
              <a:gd name="adj2" fmla="val 12425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样表示像这样两种相反意义的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284040" y="2349360"/>
            <a:ext cx="8858520" cy="2809800"/>
            <a:chOff x="284040" y="2349360"/>
            <a:chExt cx="8858520" cy="2809800"/>
          </a:xfrm>
        </p:grpSpPr>
        <p:sp>
          <p:nvSpPr>
            <p:cNvPr id="152" name="Text Box 6"/>
            <p:cNvSpPr/>
            <p:nvPr/>
          </p:nvSpPr>
          <p:spPr>
            <a:xfrm>
              <a:off x="284040" y="2349360"/>
              <a:ext cx="8858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了表示两种相反意义的量，需要用两种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种是我们以前学过的数，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.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   ，这些数是正数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另一种是在这些数的前面添上负号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数，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.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，这些数是负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6293880" y="2967120"/>
              <a:ext cx="359640" cy="752040"/>
              <a:chOff x="6293880" y="2967120"/>
              <a:chExt cx="359640" cy="752040"/>
            </a:xfrm>
          </p:grpSpPr>
          <p:sp>
            <p:nvSpPr>
              <p:cNvPr id="154" name="Text Box 8"/>
              <p:cNvSpPr/>
              <p:nvPr/>
            </p:nvSpPr>
            <p:spPr>
              <a:xfrm>
                <a:off x="6303600" y="3259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6293880" y="2967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0"/>
              <p:cNvSpPr/>
              <p:nvPr/>
            </p:nvSpPr>
            <p:spPr>
              <a:xfrm>
                <a:off x="6351120" y="3337560"/>
                <a:ext cx="22176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1"/>
            <p:cNvGrpSpPr/>
            <p:nvPr/>
          </p:nvGrpSpPr>
          <p:grpSpPr>
            <a:xfrm>
              <a:off x="1416960" y="4407120"/>
              <a:ext cx="357840" cy="752040"/>
              <a:chOff x="1416960" y="4407120"/>
              <a:chExt cx="357840" cy="752040"/>
            </a:xfrm>
          </p:grpSpPr>
          <p:sp>
            <p:nvSpPr>
              <p:cNvPr id="158" name="Text Box 12"/>
              <p:cNvSpPr/>
              <p:nvPr/>
            </p:nvSpPr>
            <p:spPr>
              <a:xfrm>
                <a:off x="1424880" y="4699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3"/>
              <p:cNvSpPr/>
              <p:nvPr/>
            </p:nvSpPr>
            <p:spPr>
              <a:xfrm>
                <a:off x="1416960" y="4407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4"/>
              <p:cNvSpPr/>
              <p:nvPr/>
            </p:nvSpPr>
            <p:spPr>
              <a:xfrm>
                <a:off x="1474200" y="4777560"/>
                <a:ext cx="2214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15"/>
          <p:cNvGrpSpPr/>
          <p:nvPr/>
        </p:nvGrpSpPr>
        <p:grpSpPr>
          <a:xfrm>
            <a:off x="6156360" y="4797360"/>
            <a:ext cx="2712600" cy="1467000"/>
            <a:chOff x="6156360" y="4797360"/>
            <a:chExt cx="2712600" cy="1467000"/>
          </a:xfrm>
        </p:grpSpPr>
        <p:pic>
          <p:nvPicPr>
            <p:cNvPr id="162" name="Picture 16" descr=""/>
            <p:cNvPicPr/>
            <p:nvPr/>
          </p:nvPicPr>
          <p:blipFill>
            <a:blip r:embed="rId2"/>
            <a:stretch/>
          </p:blipFill>
          <p:spPr>
            <a:xfrm>
              <a:off x="7668000" y="5373720"/>
              <a:ext cx="12009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17"/>
            <p:cNvSpPr/>
            <p:nvPr/>
          </p:nvSpPr>
          <p:spPr>
            <a:xfrm>
              <a:off x="6156360" y="4797360"/>
              <a:ext cx="2376360" cy="574920"/>
            </a:xfrm>
            <a:prstGeom prst="wedgeRoundRectCallout">
              <a:avLst>
                <a:gd name="adj1" fmla="val 32981"/>
                <a:gd name="adj2" fmla="val 9249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什么数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8"/>
          <p:cNvSpPr/>
          <p:nvPr/>
        </p:nvSpPr>
        <p:spPr>
          <a:xfrm>
            <a:off x="3626640" y="53737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既不是正数，也不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结合情境，理解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1044720" y="3718080"/>
            <a:ext cx="280656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4572000" y="3718080"/>
            <a:ext cx="280836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178760" cy="863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4140000" y="1628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出下列各数，并指出哪些是正数，哪些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7440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63148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058640" y="58770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既不是正数，也不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480320" y="4149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2485440" y="3965400"/>
            <a:ext cx="734040" cy="825480"/>
            <a:chOff x="2485440" y="3965400"/>
            <a:chExt cx="734040" cy="825480"/>
          </a:xfrm>
        </p:grpSpPr>
        <p:sp>
          <p:nvSpPr>
            <p:cNvPr id="176" name="Text Box 13"/>
            <p:cNvSpPr/>
            <p:nvPr/>
          </p:nvSpPr>
          <p:spPr>
            <a:xfrm>
              <a:off x="2847240" y="39654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2786400" y="4365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2485440" y="414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1985040" y="48690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252400" y="41497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116400" y="41511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5610600" y="4653000"/>
            <a:ext cx="597960" cy="825480"/>
            <a:chOff x="5610600" y="4653000"/>
            <a:chExt cx="597960" cy="825480"/>
          </a:xfrm>
        </p:grpSpPr>
        <p:sp>
          <p:nvSpPr>
            <p:cNvPr id="183" name="Text Box 20"/>
            <p:cNvSpPr/>
            <p:nvPr/>
          </p:nvSpPr>
          <p:spPr>
            <a:xfrm>
              <a:off x="5844240" y="46530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5860800" y="5042880"/>
              <a:ext cx="347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5610600" y="482616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回归生活，拓展应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1655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5719680" y="2108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+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678200" y="26370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611280" y="3286080"/>
            <a:ext cx="4249800" cy="1152720"/>
            <a:chOff x="611280" y="3286080"/>
            <a:chExt cx="4249800" cy="1152720"/>
          </a:xfrm>
        </p:grpSpPr>
        <p:pic>
          <p:nvPicPr>
            <p:cNvPr id="192" name="Picture 7" descr=""/>
            <p:cNvPicPr/>
            <p:nvPr/>
          </p:nvPicPr>
          <p:blipFill>
            <a:blip r:embed="rId2"/>
            <a:stretch/>
          </p:blipFill>
          <p:spPr>
            <a:xfrm>
              <a:off x="611280" y="3286080"/>
              <a:ext cx="100872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圆角矩形标注1 85"/>
            <p:cNvSpPr/>
            <p:nvPr/>
          </p:nvSpPr>
          <p:spPr>
            <a:xfrm>
              <a:off x="1764000" y="3574440"/>
              <a:ext cx="3097080" cy="864360"/>
            </a:xfrm>
            <a:prstGeom prst="wedgeRoundRectCallout">
              <a:avLst>
                <a:gd name="adj1" fmla="val -59898"/>
                <a:gd name="adj2" fmla="val 12425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看了这些信息，你有什么感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9"/>
          <p:cNvSpPr/>
          <p:nvPr/>
        </p:nvSpPr>
        <p:spPr>
          <a:xfrm>
            <a:off x="2084760" y="501336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天的平均温度和夜间的平均温度相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446160" y="501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回归生活，拓展应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96720" y="1415880"/>
            <a:ext cx="4464360" cy="25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333000" y="30402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+8844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734200" y="33987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179280" y="3860640"/>
            <a:ext cx="4895640" cy="1152720"/>
            <a:chOff x="179280" y="3860640"/>
            <a:chExt cx="4895640" cy="1152720"/>
          </a:xfrm>
        </p:grpSpPr>
        <p:sp>
          <p:nvSpPr>
            <p:cNvPr id="202" name="圆角矩形标注1 85"/>
            <p:cNvSpPr/>
            <p:nvPr/>
          </p:nvSpPr>
          <p:spPr>
            <a:xfrm>
              <a:off x="1259280" y="4149000"/>
              <a:ext cx="3815640" cy="864360"/>
            </a:xfrm>
            <a:prstGeom prst="wedgeRoundRectCallout">
              <a:avLst>
                <a:gd name="adj1" fmla="val -59898"/>
                <a:gd name="adj2" fmla="val 12425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仔细读题，你获得了什么信息？有什么不明白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9" descr=""/>
            <p:cNvPicPr/>
            <p:nvPr/>
          </p:nvPicPr>
          <p:blipFill>
            <a:blip r:embed="rId2"/>
            <a:stretch/>
          </p:blipFill>
          <p:spPr>
            <a:xfrm>
              <a:off x="179280" y="3860640"/>
              <a:ext cx="1008360" cy="109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0"/>
          <p:cNvGrpSpPr/>
          <p:nvPr/>
        </p:nvGrpSpPr>
        <p:grpSpPr>
          <a:xfrm>
            <a:off x="5148360" y="4221000"/>
            <a:ext cx="3794040" cy="2114280"/>
            <a:chOff x="5148360" y="4221000"/>
            <a:chExt cx="3794040" cy="2114280"/>
          </a:xfrm>
        </p:grpSpPr>
        <p:pic>
          <p:nvPicPr>
            <p:cNvPr id="205" name="Picture 11" descr=""/>
            <p:cNvPicPr/>
            <p:nvPr/>
          </p:nvPicPr>
          <p:blipFill>
            <a:blip r:embed="rId3"/>
            <a:stretch/>
          </p:blipFill>
          <p:spPr>
            <a:xfrm>
              <a:off x="7741080" y="5445000"/>
              <a:ext cx="120132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AutoShape 12"/>
            <p:cNvSpPr/>
            <p:nvPr/>
          </p:nvSpPr>
          <p:spPr>
            <a:xfrm>
              <a:off x="5148360" y="4221000"/>
              <a:ext cx="3097080" cy="1295280"/>
            </a:xfrm>
            <a:prstGeom prst="wedgeRoundRectCallout">
              <a:avLst>
                <a:gd name="adj1" fmla="val 40138"/>
                <a:gd name="adj2" fmla="val 6317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你知道你所在城市的海拔高度吗？说说它的具体含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图片 1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3849480" cy="232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31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