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6CE9-8F55-49A2-A766-C119AB1898C6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8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8D3B-E5A1-44BD-B41D-9D23503FDA18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324000" y="1768320"/>
            <a:ext cx="5905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辨别从不同方向观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正方体搭成的一个简单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图形的形状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17600" y="514440"/>
            <a:ext cx="57182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观察物体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8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3"/>
          <a:stretch/>
        </p:blipFill>
        <p:spPr>
          <a:xfrm>
            <a:off x="1033560" y="719280"/>
            <a:ext cx="785880" cy="785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469800" y="652464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886920" y="603576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9"/>
          <p:cNvSpPr/>
          <p:nvPr/>
        </p:nvSpPr>
        <p:spPr>
          <a:xfrm>
            <a:off x="3635280" y="36482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7200" y="4046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引入情境，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12720" y="1584360"/>
            <a:ext cx="374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自主探究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1467000" y="2357280"/>
            <a:ext cx="70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横向连续摆三个正方体，在左边第一个后面再摆一个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467000" y="4638600"/>
            <a:ext cx="7137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同组四名同学分别从物体的前面、上面、左面进行观察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467000" y="5289480"/>
            <a:ext cx="71373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用小正方形摆出你所在位置观察到的平面图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1"/>
          <a:stretch/>
        </p:blipFill>
        <p:spPr>
          <a:xfrm>
            <a:off x="3476520" y="3086280"/>
            <a:ext cx="2190960" cy="1123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469800" y="652464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3" descr=""/>
          <p:cNvPicPr/>
          <p:nvPr/>
        </p:nvPicPr>
        <p:blipFill>
          <a:blip r:embed="rId1"/>
          <a:stretch/>
        </p:blipFill>
        <p:spPr>
          <a:xfrm>
            <a:off x="4911840" y="1568520"/>
            <a:ext cx="3432240" cy="1911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612720" y="1584360"/>
            <a:ext cx="5116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看一看，连一连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" name="直接连接符 13"/>
          <p:cNvSpPr/>
          <p:nvPr/>
        </p:nvSpPr>
        <p:spPr>
          <a:xfrm flipV="1">
            <a:off x="1838160" y="4011480"/>
            <a:ext cx="1744920" cy="6336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" name="直接连接符 16"/>
          <p:cNvSpPr/>
          <p:nvPr/>
        </p:nvSpPr>
        <p:spPr>
          <a:xfrm flipV="1">
            <a:off x="3516480" y="4011480"/>
            <a:ext cx="1903320" cy="6336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" name="直接连接符 18"/>
          <p:cNvSpPr/>
          <p:nvPr/>
        </p:nvSpPr>
        <p:spPr>
          <a:xfrm>
            <a:off x="1838160" y="4000680"/>
            <a:ext cx="3529080" cy="6444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177920" y="511956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首先找到的是哪个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963800" y="5654520"/>
            <a:ext cx="6100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从左面看是什么图形？你是怎么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963800" y="6111720"/>
            <a:ext cx="6100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从上面看是什么图形？你是怎么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4046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引入情境，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8" name="组合 6"/>
          <p:cNvGrpSpPr/>
          <p:nvPr/>
        </p:nvGrpSpPr>
        <p:grpSpPr>
          <a:xfrm>
            <a:off x="1173240" y="2392200"/>
            <a:ext cx="4883040" cy="2714760"/>
            <a:chOff x="1173240" y="2392200"/>
            <a:chExt cx="4883040" cy="2714760"/>
          </a:xfrm>
        </p:grpSpPr>
        <p:grpSp>
          <p:nvGrpSpPr>
            <p:cNvPr id="69" name="组合 2"/>
            <p:cNvGrpSpPr/>
            <p:nvPr/>
          </p:nvGrpSpPr>
          <p:grpSpPr>
            <a:xfrm>
              <a:off x="1173240" y="4392720"/>
              <a:ext cx="4837320" cy="714240"/>
              <a:chOff x="1173240" y="4392720"/>
              <a:chExt cx="4837320" cy="714240"/>
            </a:xfrm>
          </p:grpSpPr>
          <p:sp>
            <p:nvSpPr>
              <p:cNvPr id="70" name="Rectangle 2"/>
              <p:cNvSpPr/>
              <p:nvPr/>
            </p:nvSpPr>
            <p:spPr>
              <a:xfrm>
                <a:off x="1173240" y="4392720"/>
                <a:ext cx="1285920" cy="7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从前面看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1" name="Rectangle 2"/>
              <p:cNvSpPr/>
              <p:nvPr/>
            </p:nvSpPr>
            <p:spPr>
              <a:xfrm>
                <a:off x="2872800" y="4397400"/>
                <a:ext cx="1285920" cy="7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从上面看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72" name="Rectangle 2"/>
              <p:cNvSpPr/>
              <p:nvPr/>
            </p:nvSpPr>
            <p:spPr>
              <a:xfrm>
                <a:off x="4724640" y="4392720"/>
                <a:ext cx="1285920" cy="7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从左面看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73" name="Rectangle 2"/>
            <p:cNvSpPr/>
            <p:nvPr/>
          </p:nvSpPr>
          <p:spPr>
            <a:xfrm>
              <a:off x="1333440" y="2392200"/>
              <a:ext cx="47228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下面的图形分别是小华从什么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位置看到的？连一连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74" name="Picture 34" descr=""/>
            <p:cNvPicPr/>
            <p:nvPr/>
          </p:nvPicPr>
          <p:blipFill>
            <a:blip r:embed="rId2"/>
            <a:stretch/>
          </p:blipFill>
          <p:spPr>
            <a:xfrm>
              <a:off x="1457280" y="3178440"/>
              <a:ext cx="4518720" cy="82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Rectangle 19"/>
          <p:cNvSpPr/>
          <p:nvPr/>
        </p:nvSpPr>
        <p:spPr>
          <a:xfrm>
            <a:off x="469800" y="652464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2" descr=""/>
          <p:cNvPicPr/>
          <p:nvPr/>
        </p:nvPicPr>
        <p:blipFill>
          <a:blip r:embed="rId1"/>
          <a:stretch/>
        </p:blipFill>
        <p:spPr>
          <a:xfrm>
            <a:off x="177840" y="189000"/>
            <a:ext cx="8734320" cy="64389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1"/>
          <p:cNvSpPr/>
          <p:nvPr/>
        </p:nvSpPr>
        <p:spPr>
          <a:xfrm>
            <a:off x="719280" y="617076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457200" y="36684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巩固练习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41560" y="5241960"/>
            <a:ext cx="62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首先找到的是哪个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1927080" y="5754600"/>
            <a:ext cx="6100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从左面看是什么图形？你是怎么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927080" y="6189840"/>
            <a:ext cx="6100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从上面看是什么图形？你是怎么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2195640" y="472428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Line 20"/>
          <p:cNvSpPr/>
          <p:nvPr/>
        </p:nvSpPr>
        <p:spPr>
          <a:xfrm flipH="1">
            <a:off x="2073240" y="4170240"/>
            <a:ext cx="4299120" cy="5540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2073240" y="4202280"/>
            <a:ext cx="4232160" cy="5220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Line 22"/>
          <p:cNvSpPr/>
          <p:nvPr/>
        </p:nvSpPr>
        <p:spPr>
          <a:xfrm>
            <a:off x="4167360" y="4149720"/>
            <a:ext cx="9360" cy="5745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6" name="组合 6"/>
          <p:cNvGrpSpPr/>
          <p:nvPr/>
        </p:nvGrpSpPr>
        <p:grpSpPr>
          <a:xfrm>
            <a:off x="830160" y="2155680"/>
            <a:ext cx="6216840" cy="3009600"/>
            <a:chOff x="830160" y="2155680"/>
            <a:chExt cx="6216840" cy="3009600"/>
          </a:xfrm>
        </p:grpSpPr>
        <p:sp>
          <p:nvSpPr>
            <p:cNvPr id="87" name="Text Box 9"/>
            <p:cNvSpPr/>
            <p:nvPr/>
          </p:nvSpPr>
          <p:spPr>
            <a:xfrm>
              <a:off x="830160" y="2155680"/>
              <a:ext cx="443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下面的图形分别是小强从什么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位置看到的？连一连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88" name="组合 1"/>
            <p:cNvGrpSpPr/>
            <p:nvPr/>
          </p:nvGrpSpPr>
          <p:grpSpPr>
            <a:xfrm>
              <a:off x="1424520" y="3212640"/>
              <a:ext cx="5622480" cy="1952640"/>
              <a:chOff x="1424520" y="3212640"/>
              <a:chExt cx="5622480" cy="1952640"/>
            </a:xfrm>
          </p:grpSpPr>
          <p:sp>
            <p:nvSpPr>
              <p:cNvPr id="89" name="Text Box 13"/>
              <p:cNvSpPr/>
              <p:nvPr/>
            </p:nvSpPr>
            <p:spPr>
              <a:xfrm>
                <a:off x="1424520" y="470556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从前面看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0" name="Text Box 14"/>
              <p:cNvSpPr/>
              <p:nvPr/>
            </p:nvSpPr>
            <p:spPr>
              <a:xfrm>
                <a:off x="3448800" y="470556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从上面看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1" name="Text Box 15"/>
              <p:cNvSpPr/>
              <p:nvPr/>
            </p:nvSpPr>
            <p:spPr>
              <a:xfrm>
                <a:off x="5657760" y="470556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从左面看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pic>
            <p:nvPicPr>
              <p:cNvPr id="92" name="Picture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559160" y="3212640"/>
                <a:ext cx="5487840" cy="957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93" name="Picture 23" descr=""/>
          <p:cNvPicPr/>
          <p:nvPr/>
        </p:nvPicPr>
        <p:blipFill>
          <a:blip r:embed="rId2"/>
          <a:stretch/>
        </p:blipFill>
        <p:spPr>
          <a:xfrm>
            <a:off x="4557600" y="949320"/>
            <a:ext cx="4015080" cy="2413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9"/>
          <p:cNvSpPr/>
          <p:nvPr/>
        </p:nvSpPr>
        <p:spPr>
          <a:xfrm>
            <a:off x="469800" y="652464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971640" y="2451240"/>
            <a:ext cx="75452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57200" y="366840"/>
            <a:ext cx="6994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9800" y="652464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5279-7C71-4938-A784-D14482B88C6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7:08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8:30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