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WHOOSH.WAV" ContentType="audio/x-wav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CAMERA.WAV" ContentType="audio/x-wav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490-77E3-4C3D-B14F-59239E60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BFD-A0B8-4346-A7CD-555DD38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ABE-5431-4192-864D-3815F87A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CD7-FACD-43E7-82E1-E504DDDB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98B6-2B72-4AC3-B19E-113CF833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24D-EE96-49AA-A5A9-8196555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D81-C9C0-4340-9886-51736D3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376-5889-4966-B2F0-BB74684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99A-9F32-463A-85C5-07D0658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C8E-1097-4E8B-B7AD-1E0F915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32D-9D66-485C-B85A-6F7F0EE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F8A-1CE2-4C9E-BB10-89CD1AC5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B24-A7BE-450B-8CB6-FA268288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203F-7C51-450D-B42E-9833CCD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35CB-B668-4236-B5E6-C4AD2895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C919-B7CE-494E-9ADC-46C25E01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ACA3-CE73-42BF-8174-9CFE6DA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76B-F86E-42C4-9204-C5835B9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C0B-3B42-403E-99F5-01FBC34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A3E-5E5F-4269-8E94-86D0A9B8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089-F1F7-4000-A5C6-2DFED93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C84-B5A8-4661-9622-C07D56D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5C0-3E87-4F88-B9D8-7EB4032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D3D-4053-416E-A7E2-8653466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0B5-38DE-4C86-BC4F-AC5FFCAAF845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7">
            <a:hlinkClick r:id="rId3" action="ppaction://hlinksldjump"/>
          </p:cNvPr>
          <p:cNvSpPr/>
          <p:nvPr/>
        </p:nvSpPr>
        <p:spPr>
          <a:xfrm>
            <a:off x="457200" y="5943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6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8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47A-5997-4F62-AD9D-5E6D06C9268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1" action="ppaction://hlinksldjump"/>
              </a:rPr>
              <a:t>1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2" action="ppaction://hlinksldjump"/>
              </a:rPr>
              <a:t>、导入新课，明确教学目标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3" action="ppaction://hlinksldjump"/>
              </a:rPr>
              <a:t>2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4" action="ppaction://hlinksldjump"/>
              </a:rPr>
              <a:t>、检查预习笔记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5" action="ppaction://hlinksldjump"/>
              </a:rPr>
              <a:t>3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6" action="ppaction://hlinksldjump"/>
              </a:rPr>
              <a:t>、生字词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7" action="ppaction://hlinksldjump"/>
              </a:rPr>
              <a:t>4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8" action="ppaction://hlinksldjump"/>
              </a:rPr>
              <a:t>、分析课文内容和结构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9" action="ppaction://hlinksldjump"/>
              </a:rPr>
              <a:t>5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10" action="ppaction://hlinksldjump"/>
              </a:rPr>
              <a:t>、按方位顺序填写书中平面图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11" action="ppaction://hlinksldjump"/>
              </a:rPr>
              <a:t>6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12" action="ppaction://hlinksldjump"/>
              </a:rPr>
              <a:t>、归纳本文说明顺序的特点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13" action="ppaction://hlinksldjump"/>
              </a:rPr>
              <a:t>7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14" action="ppaction://hlinksldjump"/>
              </a:rPr>
              <a:t>、找出作者所使用的方位词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15" action="ppaction://hlinksldjump"/>
              </a:rPr>
              <a:t>8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16" action="ppaction://hlinksldjump"/>
              </a:rPr>
              <a:t>、阅读第六段，找出立足点和方位词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cc"/>
                </a:solidFill>
                <a:uFillTx/>
                <a:latin typeface="Impact"/>
                <a:hlinkClick r:id="rId17" action="ppaction://hlinksldjump"/>
              </a:rPr>
              <a:t>9</a:t>
            </a:r>
            <a:r>
              <a:rPr b="0" lang="zh-CN" sz="2800" spc="-1" strike="noStrike" u="sng">
                <a:solidFill>
                  <a:srgbClr val="ff99cc"/>
                </a:solidFill>
                <a:uFillTx/>
                <a:latin typeface="Impact"/>
                <a:hlinkClick r:id="rId18" action="ppaction://hlinksldjump"/>
              </a:rPr>
              <a:t>、写作练习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页脚占位符 5"/>
          <p:cNvSpPr/>
          <p:nvPr/>
        </p:nvSpPr>
        <p:spPr>
          <a:xfrm>
            <a:off x="2484360" y="623736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幻灯片之家  </a:t>
            </a: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http://www.eeppt.com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方正大黑简体"/>
                <a:ea typeface="方正大黑简体"/>
              </a:rPr>
              <a:t>十九课  故宫博物院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保和殿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560" y="2437920"/>
            <a:ext cx="2895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保 和 殿 是 皇 帝 赐 宴 和 殿 试 状 员 的 场 所。 这 是 龙 座。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41" name="Picture 6" descr="prot"/>
          <p:cNvPicPr/>
          <p:nvPr/>
        </p:nvPicPr>
        <p:blipFill>
          <a:blip r:embed="rId1"/>
          <a:stretch/>
        </p:blipFill>
        <p:spPr>
          <a:xfrm>
            <a:off x="4114800" y="2209680"/>
            <a:ext cx="449568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乾清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29718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乾 清 宫 的 前 室。 皇 帝 平 日 在 此 料 理 国 事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45" name="Picture 9" descr="cpure"/>
          <p:cNvPicPr/>
          <p:nvPr/>
        </p:nvPicPr>
        <p:blipFill>
          <a:blip r:embed="rId1"/>
          <a:stretch/>
        </p:blipFill>
        <p:spPr>
          <a:xfrm>
            <a:off x="5257800" y="1982880"/>
            <a:ext cx="3809880" cy="4111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交泰殿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位 于 乾 清 宫 与 坤 宁 宫 之 间 的 交 泰 殿， 是 清 代 放 置 宝 玺 的 地 方。 这 里 收 藏 着 二 十 五 方 代 表 皇 权 的 印 玺， 用 金 盒 盛 装， 黄 绸 覆 盖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49" name="Picture 6" descr="hunion"/>
          <p:cNvPicPr/>
          <p:nvPr/>
        </p:nvPicPr>
        <p:blipFill>
          <a:blip r:embed="rId1"/>
          <a:stretch/>
        </p:blipFill>
        <p:spPr>
          <a:xfrm>
            <a:off x="5335560" y="1981080"/>
            <a:ext cx="36543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坤宁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坤 宁 宫 是 皇 后 的 寝 宫。 图 为 坤 宁 宫 东 侧 室， 是 皇 帝 大 婚 时 的 洞 房。 大 婚 时 皇 后 只 在 此 居 住 三 日， 然 后 回 到 各 自 所 住 的 宫 内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53" name="Picture 6" descr="tranquil"/>
          <p:cNvPicPr/>
          <p:nvPr/>
        </p:nvPicPr>
        <p:blipFill>
          <a:blip r:embed="rId1"/>
          <a:stretch/>
        </p:blipFill>
        <p:spPr>
          <a:xfrm>
            <a:off x="1600200" y="3352680"/>
            <a:ext cx="662940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御花园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4920" y="30477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御 花 园 建 于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1417 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年。 这 是 皇 帝 进 入 御 花 园 时 所 见 的 景 观。 前 面 的 坛 是 香 炉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57" name="Picture 6" descr="garden1"/>
          <p:cNvPicPr/>
          <p:nvPr/>
        </p:nvPicPr>
        <p:blipFill>
          <a:blip r:embed="rId1"/>
          <a:stretch/>
        </p:blipFill>
        <p:spPr>
          <a:xfrm>
            <a:off x="5029200" y="1219320"/>
            <a:ext cx="366084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北门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2057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暮 霭 中 的 顺 贞 门。 顺 贞 门 是 御 花 园 的 北 门， 出 此 门 便 是 紫 禁 城 的 后 门 神 武 门。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61" name="Picture 6" descr="northgate"/>
          <p:cNvPicPr/>
          <p:nvPr/>
        </p:nvPicPr>
        <p:blipFill>
          <a:blip r:embed="rId1"/>
          <a:stretch/>
        </p:blipFill>
        <p:spPr>
          <a:xfrm>
            <a:off x="3733920" y="2133720"/>
            <a:ext cx="51051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3" name="Picture 6" descr="Exe"/>
          <p:cNvPicPr/>
          <p:nvPr/>
        </p:nvPicPr>
        <p:blipFill>
          <a:blip r:embed="rId1"/>
          <a:stretch/>
        </p:blipFill>
        <p:spPr>
          <a:xfrm>
            <a:off x="1447920" y="0"/>
            <a:ext cx="5445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14400" y="68580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Impact"/>
              </a:rPr>
              <a:t>本文说明顺序的特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219320" y="21337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以空间说明顺序为主。这样按照事物的空间分布位置介绍的说明顺序叫作空间顺序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故宫建筑顺序也是作者的参观路线。按照由南到北沿中轴线进行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Impact"/>
              </a:rPr>
              <a:t>本文的结构安排特点：先总</a:t>
            </a:r>
            <a:r>
              <a:rPr b="1" lang="en-US" sz="32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Impact"/>
              </a:rPr>
              <a:t>分</a:t>
            </a:r>
            <a:r>
              <a:rPr b="1" lang="en-US" sz="32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Impact"/>
              </a:rPr>
              <a:t>总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Impact"/>
              </a:rPr>
              <a:t>作者所使用的方位词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5800" y="2362320"/>
            <a:ext cx="79246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从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…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往里、沿着、穿过、进了、走进、到了、往北、在两边、在中间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从方位词可以看出作者的立足点在不断变化，这属于“动点观察”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静立某种建筑物时，需要进行“定点观察”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066680" y="685800"/>
            <a:ext cx="759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Impact"/>
              </a:rPr>
              <a:t>阅读第六段，找立足点和方位词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2120" y="2286000"/>
            <a:ext cx="78739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立足点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大殿正中朱漆方台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殿顶的中央雕金蟠龙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方位词：正中、上面、两旁、下面、背后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说明顺序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以朱漆方台为立足点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由上</a:t>
            </a:r>
            <a:r>
              <a:rPr b="1" lang="en-US" sz="2000" spc="-1" strike="noStrike">
                <a:solidFill>
                  <a:srgbClr val="660066"/>
                </a:solidFill>
                <a:latin typeface="Impact"/>
                <a:ea typeface="宋体"/>
              </a:rPr>
              <a:t>—</a:t>
            </a: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后</a:t>
            </a:r>
            <a:r>
              <a:rPr b="1" lang="en-US" sz="2000" spc="-1" strike="noStrike">
                <a:solidFill>
                  <a:srgbClr val="660066"/>
                </a:solidFill>
                <a:latin typeface="Impact"/>
                <a:ea typeface="宋体"/>
              </a:rPr>
              <a:t>—</a:t>
            </a: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两旁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以蟠龙为立足点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由周围</a:t>
            </a:r>
            <a:r>
              <a:rPr b="1" lang="en-US" sz="2000" spc="-1" strike="noStrike">
                <a:solidFill>
                  <a:srgbClr val="660066"/>
                </a:solidFill>
                <a:latin typeface="Impact"/>
                <a:ea typeface="宋体"/>
              </a:rPr>
              <a:t>—</a:t>
            </a:r>
            <a:r>
              <a:rPr b="1" lang="zh-CN" sz="2000" spc="-1" strike="noStrike">
                <a:solidFill>
                  <a:srgbClr val="660066"/>
                </a:solidFill>
                <a:latin typeface="Impact"/>
                <a:ea typeface="宋体"/>
              </a:rPr>
              <a:t>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7"/>
          <p:cNvSpPr/>
          <p:nvPr/>
        </p:nvSpPr>
        <p:spPr>
          <a:xfrm>
            <a:off x="5580000" y="2060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99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预习笔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、体裁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--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说明文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、作者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--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黄传惕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、训练重点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空间说明顺序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方位词语的准确性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9" name="Picture 6" descr="gugong2"/>
          <p:cNvPicPr/>
          <p:nvPr/>
        </p:nvPicPr>
        <p:blipFill>
          <a:blip r:embed="rId16"/>
          <a:stretch/>
        </p:blipFill>
        <p:spPr>
          <a:xfrm>
            <a:off x="4800600" y="190512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0429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Impact"/>
              </a:rPr>
              <a:t>写作提示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948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先观察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找出门和窗的位置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数数共有几件家具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选择好立足点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.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如“门、书桌、窗、四壁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3.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恰当运用方位词。东南西北、上下左右、两边、四周等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4.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运用一定说明顺序。如：上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下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左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     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中间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两边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左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—</a:t>
            </a:r>
            <a:r>
              <a:rPr b="1" lang="zh-CN" sz="2800" spc="-1" strike="noStrike">
                <a:solidFill>
                  <a:srgbClr val="660066"/>
                </a:solidFill>
                <a:latin typeface="Impact"/>
              </a:rPr>
              <a:t>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81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9" name="Picture 2" descr="05"/>
          <p:cNvPicPr/>
          <p:nvPr/>
        </p:nvPicPr>
        <p:blipFill>
          <a:blip r:embed="rId1"/>
          <a:stretch/>
        </p:blipFill>
        <p:spPr>
          <a:xfrm>
            <a:off x="1378080" y="1390680"/>
            <a:ext cx="7238880" cy="4989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21932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观察这间卧室，确定立足点，运用方位词，写一篇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150-200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字的说明文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208080" y="638172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3" name="Picture 2" descr="wo05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85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Impact"/>
              </a:rPr>
              <a:t> </a:t>
            </a:r>
            <a:r>
              <a:rPr b="0" lang="zh-CN" sz="1400" spc="-1" strike="noStrike" u="sng">
                <a:solidFill>
                  <a:srgbClr val="ff99cc"/>
                </a:solidFill>
                <a:uFillTx/>
                <a:latin typeface="Impact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99cc"/>
                </a:solidFill>
                <a:uFillTx/>
                <a:latin typeface="Impact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dongt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chuangy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gongzu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kejia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shangw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suc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Impact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fengjing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jianjie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jiaoy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lunwe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Impact"/>
              </a:rPr>
              <a:t>http://www.eeppt.com/moban/yilia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DF9-7FEA-4D6F-A519-3D212AF715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生字词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博：多，丰富。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矗立：高耸直立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湛蓝：深蓝。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藻井：天花板上的一种装饰处理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妃嫔：泛指后妃们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御道：专供皇帝走的路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玉玺：秦朝后专指皇帝用的印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蟠龙：曲折环绕的龙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馨：香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磬：石制的打击乐器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罄：尽，空。 </a:t>
            </a: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~</a:t>
            </a: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竹难书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457200" y="5943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全览图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760" y="2209680"/>
            <a:ext cx="190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午 门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角 楼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太 和 门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太 和 殿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中 和 殿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保 和 殿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乾 清 宫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交 泰 殿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坤 宁 宫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御 花 园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5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Impact"/>
              </a:rPr>
              <a:t>北 门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7" name="Picture 6" descr="gugong"/>
          <p:cNvPicPr/>
          <p:nvPr/>
        </p:nvPicPr>
        <p:blipFill>
          <a:blip r:embed="rId1"/>
          <a:stretch/>
        </p:blipFill>
        <p:spPr>
          <a:xfrm>
            <a:off x="4191120" y="609480"/>
            <a:ext cx="435456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午门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7820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66"/>
                </a:solidFill>
                <a:latin typeface="Impact"/>
              </a:rPr>
              <a:t>从 紫 禁 城 内 望 午 门。 午 门 是 紫 禁 城 的 正 门， 高 三 七 点 九 五 米， 建 于 一 四 二 Ｏ 年。 城 楼 置 钟 鼓， 应 逢 皇 帝 主 持 大 典， 钟 鼓 齐 鸣， 以 壮 声 威。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66"/>
                </a:solidFill>
                <a:latin typeface="Impact"/>
              </a:rPr>
              <a:t>午 门 与 太 和 门 之 间 的 广 场 是 皇 宫 内 最 大 的 广场， 皇 帝 举 行 大 典 时 在 此 排 列 仪 仗。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1" name="Picture 6" descr="meridian"/>
          <p:cNvPicPr/>
          <p:nvPr/>
        </p:nvPicPr>
        <p:blipFill>
          <a:blip r:embed="rId1"/>
          <a:stretch/>
        </p:blipFill>
        <p:spPr>
          <a:xfrm>
            <a:off x="1523880" y="3505320"/>
            <a:ext cx="6477120" cy="27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角楼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895120"/>
            <a:ext cx="38102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紫 禁 城 垣 的 四 隅， 各 建 有 一 座 角 楼。 四 座 角 楼 造 型 相 同， 分 别 由 九 梁、 十 八 柱、 三 重 檐、 七 十 二 脊 构 成， 楼 顶 置 有 镏 金 宝 项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5" name="Picture 7" descr="fourcorn"/>
          <p:cNvPicPr/>
          <p:nvPr/>
        </p:nvPicPr>
        <p:blipFill>
          <a:blip r:embed="rId1"/>
          <a:stretch/>
        </p:blipFill>
        <p:spPr>
          <a:xfrm>
            <a:off x="5334120" y="1828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太和门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前 面 是 午 门 和 太 和 门 之 间 的 广场， 皇 帝 举 行 大 典 时 在 此 排 列 仪 仗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9" name="Picture 6" descr="gharmony"/>
          <p:cNvPicPr/>
          <p:nvPr/>
        </p:nvPicPr>
        <p:blipFill>
          <a:blip r:embed="rId1"/>
          <a:stretch/>
        </p:blipFill>
        <p:spPr>
          <a:xfrm>
            <a:off x="2057400" y="3048120"/>
            <a:ext cx="52578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太和殿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太 和、 中 和、 保 和 三 座 大 殿 由 南 至 北 排 列 在 高 八 米 的 汉 白 玉 台 基 上。 它 们 及 其 东 西 两 翼 的 文 华 殿、 武 英 殿 组 成 了 紫 禁 城 的 外 朝。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Impact"/>
              </a:rPr>
              <a:t>太 和 殿 亦 称 金 銮 殿， 是 紫 禁 城 内 最 高 的 殿 宇， 殿 高 三 十 五 米。 皇 帝 登 基， 庆 贺 诞 辰， 出 兵 征 讨 等 大 典 都 在 此 举 行。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33" name="Picture 6" descr="金銮殿"/>
          <p:cNvPicPr/>
          <p:nvPr/>
        </p:nvPicPr>
        <p:blipFill>
          <a:blip r:embed="rId1"/>
          <a:stretch/>
        </p:blipFill>
        <p:spPr>
          <a:xfrm>
            <a:off x="4724280" y="2438280"/>
            <a:ext cx="411480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5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第一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PPT</a:t>
            </a: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模板网</a:t>
            </a: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-WWW.1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中和殿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49525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Impact"/>
              </a:rPr>
              <a:t>中 和 殿 是 皇 帝 出 席 重 大 典 礼 前 休 息 和 接 受 朝 拜 的 地 方。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37" name="Picture 6" descr="middlehall"/>
          <p:cNvPicPr/>
          <p:nvPr/>
        </p:nvPicPr>
        <p:blipFill>
          <a:blip r:embed="rId1"/>
          <a:stretch/>
        </p:blipFill>
        <p:spPr>
          <a:xfrm>
            <a:off x="2666880" y="1752480"/>
            <a:ext cx="426744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03:49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48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