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B009-22A3-486A-8FB1-F1E1FDA8841A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1312-F413-402D-B0D5-42A0468FB893}" type="slidenum">
              <a:rPr b="1" lang="zh-CN" sz="1200" spc="-1" strike="noStrike">
                <a:solidFill>
                  <a:srgbClr val="0000cc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4309-856F-4E2F-B7E6-930E6CEA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5B4F-8496-4185-812B-6DB69073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71FB-660E-48B5-BFFE-050879AD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FD5-355C-4BB9-9789-A720B0AB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090-CA02-4611-814C-85BC793F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AB42-C443-4C44-A81B-55308375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58C4-CD6D-4D0D-ABC5-49FC5D8F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A3C0-0819-4FD4-9A8B-D671A78B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9A64-EB54-4033-A428-23AD986F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6064-3CBE-4307-8BBF-9DF2129D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6BB3-8FFC-4B43-A41B-94187FD8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160E-8241-41FE-B693-E4829F53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cc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BB73-5030-403B-B27E-D1C1A36A7A1B}" type="slidenum">
              <a:rPr b="0" lang="zh-CN" sz="1400" spc="-1" strike="noStrike">
                <a:solidFill>
                  <a:srgbClr val="0000cc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file:///hsdjk_jsgh.avi" TargetMode="External"/><Relationship Id="rId3" Type="http://schemas.openxmlformats.org/officeDocument/2006/relationships/hyperlink" Target="file:///hsdjk_jsgh.avi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华文新魏"/>
                <a:ea typeface="华文新魏"/>
              </a:rPr>
              <a:t>二年级品德与生活上册第一单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62080" y="1779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好书大家看</a:t>
            </a:r>
            <a:endParaRPr b="0" lang="en-US" sz="9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0" name="Picture 5" descr="C:\Documents and Settings\yjf\Local Settings\Temporary Internet Files\Content.IE5\5OSDR23F\MCj04357730000[1].wmf"/>
          <p:cNvPicPr/>
          <p:nvPr/>
        </p:nvPicPr>
        <p:blipFill>
          <a:blip r:embed="rId1"/>
          <a:stretch/>
        </p:blipFill>
        <p:spPr>
          <a:xfrm>
            <a:off x="235080" y="3141720"/>
            <a:ext cx="1522440" cy="331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Documents and Settings\yjf\Local Settings\Temporary Internet Files\Content.IE5\EOT8F9D6\MCj04357450000[1].wmf"/>
          <p:cNvPicPr/>
          <p:nvPr/>
        </p:nvPicPr>
        <p:blipFill>
          <a:blip r:embed="rId2"/>
          <a:stretch/>
        </p:blipFill>
        <p:spPr>
          <a:xfrm>
            <a:off x="6593040" y="3527280"/>
            <a:ext cx="2520720" cy="2857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C:\Documents and Settings\yjf\Local Settings\Temporary Internet Files\Content.IE5\EOT8F9D6\MCj04361610000[1].wmf"/>
          <p:cNvPicPr/>
          <p:nvPr/>
        </p:nvPicPr>
        <p:blipFill>
          <a:blip r:embed="rId3"/>
          <a:stretch/>
        </p:blipFill>
        <p:spPr>
          <a:xfrm>
            <a:off x="2627280" y="3645000"/>
            <a:ext cx="3468600" cy="2500200"/>
          </a:xfrm>
          <a:prstGeom prst="rect">
            <a:avLst/>
          </a:prstGeom>
          <a:ln w="0">
            <a:noFill/>
          </a:ln>
        </p:spPr>
      </p:pic>
      <p:sp>
        <p:nvSpPr>
          <p:cNvPr id="53" name="矩形 6"/>
          <p:cNvSpPr/>
          <p:nvPr/>
        </p:nvSpPr>
        <p:spPr>
          <a:xfrm>
            <a:off x="2170440" y="62499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Y:\图片\sheng02.gif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2897280" y="16765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借别人的书看，要注意什么？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320200" y="2514600"/>
            <a:ext cx="33811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书的主人不在，怎么办？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借来的书，可以转借给他人看吗？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Y:\图片\sheng03.gif"/>
          <p:cNvPicPr/>
          <p:nvPr/>
        </p:nvPicPr>
        <p:blipFill>
          <a:blip r:embed="rId1"/>
          <a:stretch/>
        </p:blipFill>
        <p:spPr>
          <a:xfrm>
            <a:off x="531720" y="1065240"/>
            <a:ext cx="2503440" cy="7081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8"/>
          <p:cNvSpPr/>
          <p:nvPr/>
        </p:nvSpPr>
        <p:spPr>
          <a:xfrm>
            <a:off x="3625200" y="5791320"/>
            <a:ext cx="1887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c3400"/>
                </a:solidFill>
                <a:uFillTx/>
                <a:latin typeface="楷体_GB2312"/>
                <a:hlinkClick r:id="rId2"/>
              </a:rPr>
              <a:t>借东西要及时归还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86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81080" y="1916280"/>
            <a:ext cx="509112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图书世界真很奇妙，有很多奥秘等我们去揭开呢？就让我们从现在起去探索吧！别忘了在探索图书世界时要注意和周围的同学配合好爱护图书，希望每位同学都和好书交上朋友。 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9" name="文本框 1"/>
          <p:cNvSpPr/>
          <p:nvPr/>
        </p:nvSpPr>
        <p:spPr>
          <a:xfrm>
            <a:off x="101520" y="4782960"/>
            <a:ext cx="79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更多免费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PPT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模板尽在：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http://www.eeppt.com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cc"/>
                </a:solidFill>
                <a:latin typeface="Times New Roman"/>
              </a:rPr>
              <a:t>再见         ∩</a:t>
            </a:r>
            <a:r>
              <a:rPr b="1" lang="zh-CN" sz="8000" spc="-1" strike="noStrike">
                <a:solidFill>
                  <a:srgbClr val="0000cc"/>
                </a:solidFill>
                <a:latin typeface="Times New Roman"/>
              </a:rPr>
              <a:t>_∩</a:t>
            </a:r>
            <a:endParaRPr b="0" lang="en-US" sz="8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cc"/>
                </a:solidFill>
                <a:latin typeface="Times New Roman"/>
              </a:rPr>
              <a:t>谢谢</a:t>
            </a:r>
            <a:endParaRPr b="0" lang="en-US" sz="8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dc34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34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3400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9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2E2F-1ABD-4103-A2DE-2AA28D0F310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Y:\图片\sheng01.gif"/>
          <p:cNvPicPr/>
          <p:nvPr/>
        </p:nvPicPr>
        <p:blipFill>
          <a:blip r:embed="rId1"/>
          <a:stretch/>
        </p:blipFill>
        <p:spPr>
          <a:xfrm>
            <a:off x="533520" y="1066680"/>
            <a:ext cx="2479680" cy="685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5" descr="E:\temp\temp_img\品德与生活二年级（上）\p21_1.png"/>
          <p:cNvPicPr/>
          <p:nvPr/>
        </p:nvPicPr>
        <p:blipFill>
          <a:blip r:embed="rId2"/>
          <a:stretch/>
        </p:blipFill>
        <p:spPr>
          <a:xfrm>
            <a:off x="1714680" y="2209680"/>
            <a:ext cx="5715000" cy="2936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说一说想一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介绍自己喜欢的书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将喜欢的书画在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19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页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Y:\图片\sheng02.gif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4247280" y="16765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我们一起看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60" name="Picture 10" descr="E:\temp\temp_img\品德与生活二年级（上）\p22_23.png"/>
          <p:cNvPicPr/>
          <p:nvPr/>
        </p:nvPicPr>
        <p:blipFill>
          <a:blip r:embed="rId2"/>
          <a:stretch/>
        </p:blipFill>
        <p:spPr>
          <a:xfrm>
            <a:off x="1447920" y="2309760"/>
            <a:ext cx="624816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Y:\图片\sheng02.gif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1219320" y="2560680"/>
            <a:ext cx="6691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把你看过的、最喜欢的书介绍给大家。听了同学的介绍，你想看什么书？把书名写出来。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4233960" y="1700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我们一起看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6"/>
          <p:cNvSpPr/>
          <p:nvPr/>
        </p:nvSpPr>
        <p:spPr>
          <a:xfrm>
            <a:off x="2644920" y="314172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65" name="Picture 2" descr="Y:\图片\sheng02.gif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2897280" y="16765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借别人的书看，要注意什么？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67" name="Picture 9" descr="E:\temp\temp_img\品德与生活二年级（上）\p24_1.png"/>
          <p:cNvPicPr/>
          <p:nvPr/>
        </p:nvPicPr>
        <p:blipFill>
          <a:blip r:embed="rId2"/>
          <a:stretch/>
        </p:blipFill>
        <p:spPr>
          <a:xfrm>
            <a:off x="1633680" y="2411280"/>
            <a:ext cx="5875200" cy="30751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"/>
          <p:cNvSpPr/>
          <p:nvPr/>
        </p:nvSpPr>
        <p:spPr>
          <a:xfrm>
            <a:off x="3308760" y="55008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书没看完，怎样做标记？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Y:\图片\sheng02.gif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2897280" y="16765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借别人的书看，要注意什么？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2591280" y="579132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借的书该还了，可是还没看完，怎么办？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72" name="Picture 6" descr="E:\temp\temp_img\品德与生活二年级（上）\p24_2.png"/>
          <p:cNvPicPr/>
          <p:nvPr/>
        </p:nvPicPr>
        <p:blipFill>
          <a:blip r:embed="rId2"/>
          <a:stretch/>
        </p:blipFill>
        <p:spPr>
          <a:xfrm>
            <a:off x="2900520" y="2152800"/>
            <a:ext cx="321120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Y:\图片\sheng02.gif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2897280" y="16765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借别人的书看，要注意什么？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4251600" y="57913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怎样做才能不把借来的书弄脏、弄破？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76" name="Picture 6" descr="E:\temp\temp_img\品德与生活二年级（上）\p24_3.png"/>
          <p:cNvPicPr/>
          <p:nvPr/>
        </p:nvPicPr>
        <p:blipFill>
          <a:blip r:embed="rId2"/>
          <a:stretch/>
        </p:blipFill>
        <p:spPr>
          <a:xfrm>
            <a:off x="2925720" y="2228760"/>
            <a:ext cx="31701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Y:\图片\sheng02.gif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2897280" y="16765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借别人的书看，要注意什么？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735280" y="579132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怎样还书才使主人高兴，下次还愿意借给你？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80" name="Picture 6" descr="E:\temp\temp_img\品德与生活二年级（上）\p24_4.png"/>
          <p:cNvPicPr/>
          <p:nvPr/>
        </p:nvPicPr>
        <p:blipFill>
          <a:blip r:embed="rId2"/>
          <a:stretch/>
        </p:blipFill>
        <p:spPr>
          <a:xfrm>
            <a:off x="2457360" y="2222640"/>
            <a:ext cx="417204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09:56:1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7:16Z</dcterms:modified>
  <cp:revision>22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