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click.wav" ContentType="audio/x-wav"/>
  <Override PartName="/ppt/media/image23.png" ContentType="image/png"/>
  <Override PartName="/ppt/media/image21.png" ContentType="image/png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AEC7-C46F-4973-87A3-FF562592D0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41A7-5D8F-4E6F-A80E-E6107B4D3D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7FBC-7CAC-46C0-99A6-2DC841F6BB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C3A-2EF3-4AB4-BDC4-C50E1B80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AA9-D290-4820-8D0A-19231AFB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F62-5177-4D33-AA9D-6E2388F0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FB1-8A3A-4818-8104-8A4051F3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D2B-E9CC-4894-8139-72E57E38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0F0-410B-433A-A383-D50B88F5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D06-4E65-4745-94E2-58DC2A79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767-7AFC-4DCB-B70E-204E249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85D-2D48-482A-B078-F7CACA65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63D-402B-4E6F-B945-E476B69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476-EA62-46F6-99F3-5A68121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1ED-F0C4-4435-9493-8F4CEF4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17EC-061F-42D0-80E4-CF29C133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6880" y="1630440"/>
            <a:ext cx="8425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和钟姐姐交朋友</a:t>
            </a:r>
            <a:endParaRPr b="1" lang="en-US" sz="7200" spc="1" strike="noStrike">
              <a:ln w="1260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49" name="TextBox 3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857920" cy="64584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19062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p43-01"/>
          <p:cNvPicPr/>
          <p:nvPr/>
        </p:nvPicPr>
        <p:blipFill>
          <a:blip r:embed="rId2"/>
          <a:stretch/>
        </p:blipFill>
        <p:spPr>
          <a:xfrm>
            <a:off x="285840" y="1285920"/>
            <a:ext cx="8429400" cy="5572080"/>
          </a:xfrm>
          <a:prstGeom prst="rect">
            <a:avLst/>
          </a:prstGeom>
          <a:ln w="0">
            <a:noFill/>
          </a:ln>
        </p:spPr>
      </p:pic>
      <p:pic>
        <p:nvPicPr>
          <p:cNvPr id="86" name="AutoShape 5" descr=""/>
          <p:cNvPicPr/>
          <p:nvPr/>
        </p:nvPicPr>
        <p:blipFill>
          <a:blip r:embed="rId3"/>
          <a:stretch/>
        </p:blipFill>
        <p:spPr>
          <a:xfrm>
            <a:off x="5349960" y="212760"/>
            <a:ext cx="3228840" cy="1535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"/>
          <p:cNvSpPr/>
          <p:nvPr/>
        </p:nvSpPr>
        <p:spPr>
          <a:xfrm>
            <a:off x="909720" y="5877000"/>
            <a:ext cx="60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66920" y="1197000"/>
            <a:ext cx="475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、在美术本上，画一个漂亮的钟，并给它涂上颜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、和家长商量一下，在第</a:t>
            </a:r>
            <a:r>
              <a:rPr b="1" lang="en-US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33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页列出自己的作息时间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55640" y="2060640"/>
            <a:ext cx="100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Arial"/>
                <a:ea typeface="楷体_GB2312"/>
              </a:rPr>
              <a:t>作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BA19-DBA5-4EE9-BB0F-274CEC5F29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484360" y="1125720"/>
            <a:ext cx="468144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一座小小机器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不分日夜工作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态度认真又负责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时间观念比人强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-211680" y="1844640"/>
            <a:ext cx="2191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5050"/>
                </a:solidFill>
                <a:latin typeface="Arial"/>
                <a:ea typeface="楷体_GB2312"/>
              </a:rPr>
              <a:t>猜谜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492360" y="49417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（谜底：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3492360" y="907920"/>
            <a:ext cx="2602080" cy="331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6324480" y="1052640"/>
            <a:ext cx="2819520" cy="53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684360" y="4292640"/>
            <a:ext cx="215244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5"/>
          <a:stretch/>
        </p:blipFill>
        <p:spPr>
          <a:xfrm>
            <a:off x="3564000" y="4221000"/>
            <a:ext cx="2520720" cy="230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6"/>
          <a:stretch/>
        </p:blipFill>
        <p:spPr>
          <a:xfrm>
            <a:off x="468360" y="1413000"/>
            <a:ext cx="2554200" cy="259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1835280" y="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说说钟表的形状、构造及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14200" y="28584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50"/>
                </a:solidFill>
                <a:latin typeface="Arial"/>
                <a:ea typeface="楷体_GB2312"/>
              </a:rPr>
              <a:t>钟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64720" cy="6408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564000" y="0"/>
            <a:ext cx="5580000" cy="2781360"/>
          </a:xfrm>
          <a:prstGeom prst="cloudCallout">
            <a:avLst>
              <a:gd name="adj1" fmla="val -46129"/>
              <a:gd name="adj2" fmla="val 2397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明明，天亮了，快起床呀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0" y="2997360"/>
            <a:ext cx="5580000" cy="2781000"/>
          </a:xfrm>
          <a:prstGeom prst="cloudCallout">
            <a:avLst>
              <a:gd name="adj1" fmla="val 53611"/>
              <a:gd name="adj2" fmla="val 36185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上学时间快到了，要专心吃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2050920" y="1936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5"/>
          <p:cNvSpPr/>
          <p:nvPr/>
        </p:nvSpPr>
        <p:spPr>
          <a:xfrm>
            <a:off x="4175280" y="0"/>
            <a:ext cx="4968720" cy="2133720"/>
          </a:xfrm>
          <a:prstGeom prst="cloudCallout">
            <a:avLst>
              <a:gd name="adj1" fmla="val -55013"/>
              <a:gd name="adj2" fmla="val 4032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快迟到了，赶紧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0" y="2781360"/>
            <a:ext cx="5076720" cy="2997000"/>
          </a:xfrm>
          <a:prstGeom prst="cloudCallout">
            <a:avLst>
              <a:gd name="adj1" fmla="val 51592"/>
              <a:gd name="adj2" fmla="val 2166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做功课要专心，不能边做边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2556000" y="1052640"/>
            <a:ext cx="439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、经常能早睡早起，起床迅速、轻松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、经常被妈妈叫起，仍感到困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-83520" y="1413000"/>
            <a:ext cx="2009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Arial"/>
              </a:rPr>
              <a:t>说说我自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5280" y="122580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0be30"/>
                </a:solidFill>
                <a:latin typeface="Arial"/>
              </a:rPr>
              <a:t>闹钟把我叫，天天起得早。</a:t>
            </a:r>
            <a:br>
              <a:rPr sz="4800"/>
            </a:br>
            <a:r>
              <a:rPr b="1" lang="zh-CN" sz="4800" spc="-1" strike="noStrike">
                <a:solidFill>
                  <a:srgbClr val="30be30"/>
                </a:solidFill>
                <a:latin typeface="Arial"/>
              </a:rPr>
              <a:t>路上不贪玩，上学不迟到。</a:t>
            </a:r>
            <a:br>
              <a:rPr sz="4800"/>
            </a:br>
            <a:r>
              <a:rPr b="1" lang="zh-CN" sz="4800" spc="-1" strike="noStrike">
                <a:solidFill>
                  <a:srgbClr val="30be30"/>
                </a:solidFill>
                <a:latin typeface="Arial"/>
              </a:rPr>
              <a:t>晚上早上床，休息睡好觉。</a:t>
            </a:r>
            <a:br>
              <a:rPr sz="4800"/>
            </a:br>
            <a:r>
              <a:rPr b="1" lang="zh-CN" sz="4800" spc="-1" strike="noStrike">
                <a:solidFill>
                  <a:srgbClr val="30be30"/>
                </a:solidFill>
                <a:latin typeface="Arial"/>
              </a:rPr>
              <a:t>守时不拖拉，作息习惯好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492360" y="44460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0be30"/>
                </a:solidFill>
                <a:latin typeface="Arial"/>
                <a:ea typeface="楷体_GB2312"/>
              </a:rPr>
              <a:t>读儿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133"/>
          <p:cNvPicPr/>
          <p:nvPr/>
        </p:nvPicPr>
        <p:blipFill>
          <a:blip r:embed="rId2"/>
          <a:stretch/>
        </p:blipFill>
        <p:spPr>
          <a:xfrm>
            <a:off x="3419640" y="4437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0133"/>
          <p:cNvPicPr/>
          <p:nvPr/>
        </p:nvPicPr>
        <p:blipFill>
          <a:blip r:embed="rId3"/>
          <a:stretch/>
        </p:blipFill>
        <p:spPr>
          <a:xfrm>
            <a:off x="5292720" y="5157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0133"/>
          <p:cNvPicPr/>
          <p:nvPr/>
        </p:nvPicPr>
        <p:blipFill>
          <a:blip r:embed="rId4"/>
          <a:stretch/>
        </p:blipFill>
        <p:spPr>
          <a:xfrm>
            <a:off x="7236000" y="4653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0133"/>
          <p:cNvPicPr/>
          <p:nvPr/>
        </p:nvPicPr>
        <p:blipFill>
          <a:blip r:embed="rId5"/>
          <a:stretch/>
        </p:blipFill>
        <p:spPr>
          <a:xfrm>
            <a:off x="2484360" y="40464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133"/>
          <p:cNvPicPr/>
          <p:nvPr/>
        </p:nvPicPr>
        <p:blipFill>
          <a:blip r:embed="rId2"/>
          <a:stretch/>
        </p:blipFill>
        <p:spPr>
          <a:xfrm>
            <a:off x="7715160" y="43578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0133"/>
          <p:cNvPicPr/>
          <p:nvPr/>
        </p:nvPicPr>
        <p:blipFill>
          <a:blip r:embed="rId3"/>
          <a:stretch/>
        </p:blipFill>
        <p:spPr>
          <a:xfrm>
            <a:off x="6000840" y="5715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133"/>
          <p:cNvPicPr/>
          <p:nvPr/>
        </p:nvPicPr>
        <p:blipFill>
          <a:blip r:embed="rId4"/>
          <a:stretch/>
        </p:blipFill>
        <p:spPr>
          <a:xfrm>
            <a:off x="7715160" y="30718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133"/>
          <p:cNvPicPr/>
          <p:nvPr/>
        </p:nvPicPr>
        <p:blipFill>
          <a:blip r:embed="rId5"/>
          <a:stretch/>
        </p:blipFill>
        <p:spPr>
          <a:xfrm>
            <a:off x="1928880" y="28584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80" name="hzjjjpy_assx.avi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课件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050920" y="1203480"/>
            <a:ext cx="6770880" cy="4897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628640" cy="1743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-749880" y="260280"/>
            <a:ext cx="2191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5050"/>
                </a:solidFill>
                <a:latin typeface="Arial"/>
                <a:ea typeface="楷体_GB2312"/>
              </a:rPr>
              <a:t>猜谜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9T07:30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30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1a0c000000000001024120</vt:lpwstr>
  </property>
</Properties>
</file>