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1CFA-02AA-451E-9858-B77DC52E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2998-BA7A-4823-9E1A-7584EDA7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0296-D93B-4B94-AF3D-D36F86C4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5192-0754-407D-AC88-FD0B6236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33E6-6478-4538-98DD-6876E5C6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EFCD-A621-4E2F-8A53-D73C308A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8854-459A-472B-843D-8B431C42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9619-6418-4CF4-A800-BBB4562B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7A45-9682-4471-94B7-DC710E0B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FE86-2032-4303-B9D2-222D4119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CF30-04A0-4B96-9BD9-17CA7195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3697-F2DF-45CD-870C-A4EF9964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cc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46CB-2262-4EA1-8192-947AA338CFA5}" type="slidenum">
              <a:rPr b="0" lang="zh-CN" sz="1400" spc="-1" strike="noStrike">
                <a:solidFill>
                  <a:srgbClr val="0000cc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jdjsz_swf01.exe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2615400" y="5877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ds情境创设"/>
          <p:cNvPicPr/>
          <p:nvPr/>
        </p:nvPicPr>
        <p:blipFill>
          <a:blip r:embed="rId1"/>
          <a:stretch/>
        </p:blipFill>
        <p:spPr>
          <a:xfrm>
            <a:off x="914400" y="911160"/>
            <a:ext cx="1771560" cy="5367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2"/>
          <p:cNvSpPr/>
          <p:nvPr/>
        </p:nvSpPr>
        <p:spPr>
          <a:xfrm>
            <a:off x="3368520" y="176688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、按要求取下面各小数的近似值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Text Box 13"/>
          <p:cNvSpPr/>
          <p:nvPr/>
        </p:nvSpPr>
        <p:spPr>
          <a:xfrm>
            <a:off x="2253240" y="2362320"/>
            <a:ext cx="470268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0.383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（保留一位小数）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_______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3.859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（保留两位小数）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_______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5.4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（保留整数）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___________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6.996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（保留两位小数）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_______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" name="Text Box 14"/>
          <p:cNvSpPr/>
          <p:nvPr/>
        </p:nvSpPr>
        <p:spPr>
          <a:xfrm>
            <a:off x="6097680" y="26049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0.4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Text Box 15"/>
          <p:cNvSpPr/>
          <p:nvPr/>
        </p:nvSpPr>
        <p:spPr>
          <a:xfrm>
            <a:off x="6021720" y="329076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3.86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Text Box 16"/>
          <p:cNvSpPr/>
          <p:nvPr/>
        </p:nvSpPr>
        <p:spPr>
          <a:xfrm>
            <a:off x="6324840" y="4052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Text Box 17"/>
          <p:cNvSpPr/>
          <p:nvPr/>
        </p:nvSpPr>
        <p:spPr>
          <a:xfrm>
            <a:off x="6021720" y="48150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7.00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7"/>
          <p:cNvSpPr/>
          <p:nvPr/>
        </p:nvSpPr>
        <p:spPr>
          <a:xfrm>
            <a:off x="2606760" y="3068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0" name="Picture 2" descr="ds新知学习"/>
          <p:cNvPicPr/>
          <p:nvPr/>
        </p:nvPicPr>
        <p:blipFill>
          <a:blip r:embed="rId1"/>
          <a:stretch/>
        </p:blipFill>
        <p:spPr>
          <a:xfrm>
            <a:off x="914400" y="922320"/>
            <a:ext cx="1692360" cy="525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1790640" y="1533600"/>
            <a:ext cx="12474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积的近似值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2" name="Picture 19" descr="">
            <a:hlinkClick r:id="rId2"/>
          </p:cNvPr>
          <p:cNvPicPr/>
          <p:nvPr/>
        </p:nvPicPr>
        <p:blipFill>
          <a:blip r:embed="rId3"/>
          <a:srcRect l="0" t="0" r="0" b="7075"/>
          <a:stretch/>
        </p:blipFill>
        <p:spPr>
          <a:xfrm>
            <a:off x="1905120" y="2133720"/>
            <a:ext cx="5562360" cy="38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" name="文本框 1"/>
          <p:cNvSpPr/>
          <p:nvPr/>
        </p:nvSpPr>
        <p:spPr>
          <a:xfrm>
            <a:off x="482760" y="6335640"/>
            <a:ext cx="877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更多免费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PPT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模板下载：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http://www.eeppt.com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s新知学习"/>
          <p:cNvPicPr/>
          <p:nvPr/>
        </p:nvPicPr>
        <p:blipFill>
          <a:blip r:embed="rId1"/>
          <a:stretch/>
        </p:blipFill>
        <p:spPr>
          <a:xfrm>
            <a:off x="914400" y="922320"/>
            <a:ext cx="1692360" cy="525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1"/>
          <p:cNvSpPr/>
          <p:nvPr/>
        </p:nvSpPr>
        <p:spPr>
          <a:xfrm>
            <a:off x="2684880" y="1995480"/>
            <a:ext cx="347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12.32×2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24.64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（元）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" name="Text Box 32"/>
          <p:cNvSpPr/>
          <p:nvPr/>
        </p:nvSpPr>
        <p:spPr>
          <a:xfrm>
            <a:off x="2523240" y="2576520"/>
            <a:ext cx="43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21.68 ×3.3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_______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（元）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Text Box 33"/>
          <p:cNvSpPr/>
          <p:nvPr/>
        </p:nvSpPr>
        <p:spPr>
          <a:xfrm>
            <a:off x="4371840" y="3186000"/>
            <a:ext cx="24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≈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_______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（元）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58" name="Group 39"/>
          <p:cNvGrpSpPr/>
          <p:nvPr/>
        </p:nvGrpSpPr>
        <p:grpSpPr>
          <a:xfrm>
            <a:off x="1905120" y="4495680"/>
            <a:ext cx="5867280" cy="2057400"/>
            <a:chOff x="1905120" y="4495680"/>
            <a:chExt cx="5867280" cy="2057400"/>
          </a:xfrm>
        </p:grpSpPr>
        <p:sp>
          <p:nvSpPr>
            <p:cNvPr id="59" name="AutoShape 36"/>
            <p:cNvSpPr/>
            <p:nvPr/>
          </p:nvSpPr>
          <p:spPr>
            <a:xfrm>
              <a:off x="1905120" y="4495680"/>
              <a:ext cx="5867280" cy="2057400"/>
            </a:xfrm>
            <a:prstGeom prst="cloudCallout">
              <a:avLst>
                <a:gd name="adj1" fmla="val 5087"/>
                <a:gd name="adj2" fmla="val -925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60" name="Text Box 34"/>
            <p:cNvSpPr/>
            <p:nvPr/>
          </p:nvSpPr>
          <p:spPr>
            <a:xfrm>
              <a:off x="3183120" y="4722840"/>
              <a:ext cx="32378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　　在收付现款时，通常只算</a:t>
              </a:r>
              <a:br>
                <a:rPr sz="2800"/>
              </a:b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至“分”，所以只要保留两位小</a:t>
              </a:r>
              <a:br>
                <a:rPr sz="2800"/>
              </a:b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数，千分位上的是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4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把它舍去。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61" name="Text Box 37"/>
          <p:cNvSpPr/>
          <p:nvPr/>
        </p:nvSpPr>
        <p:spPr>
          <a:xfrm>
            <a:off x="4650480" y="2590920"/>
            <a:ext cx="12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71.544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Text Box 38"/>
          <p:cNvSpPr/>
          <p:nvPr/>
        </p:nvSpPr>
        <p:spPr>
          <a:xfrm>
            <a:off x="4726080" y="32004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71.54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Text Box 40"/>
          <p:cNvSpPr/>
          <p:nvPr/>
        </p:nvSpPr>
        <p:spPr>
          <a:xfrm>
            <a:off x="2111040" y="4292640"/>
            <a:ext cx="522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　　在实际生活中，小数乘法乘得的积往往不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需要保留很多的小数位数，这时可以根据需要，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用 “ 四舍五入” 法保留一定的小数位数，求出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积的近似值。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Text Box 41"/>
          <p:cNvSpPr/>
          <p:nvPr/>
        </p:nvSpPr>
        <p:spPr>
          <a:xfrm>
            <a:off x="1790640" y="1533600"/>
            <a:ext cx="12474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积的近似值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540080" y="15001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做一做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6" name="Picture 4" descr="ds知识应用"/>
          <p:cNvPicPr/>
          <p:nvPr/>
        </p:nvPicPr>
        <p:blipFill>
          <a:blip r:embed="rId1"/>
          <a:stretch/>
        </p:blipFill>
        <p:spPr>
          <a:xfrm>
            <a:off x="941400" y="95580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5"/>
          <p:cNvSpPr/>
          <p:nvPr/>
        </p:nvSpPr>
        <p:spPr>
          <a:xfrm>
            <a:off x="2929320" y="21477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１、在计算下面各题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3928320" y="2895480"/>
            <a:ext cx="18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0.8×0.9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（得数保留一位小数）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3048480" y="3519360"/>
            <a:ext cx="37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1.7×0.45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（得数保留两位小数）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ds知识应用"/>
          <p:cNvPicPr/>
          <p:nvPr/>
        </p:nvPicPr>
        <p:blipFill>
          <a:blip r:embed="rId1"/>
          <a:stretch/>
        </p:blipFill>
        <p:spPr>
          <a:xfrm>
            <a:off x="914400" y="95580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2958120" y="1569960"/>
            <a:ext cx="29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、填写下面发票的“金额”和“总计金额”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2527200" y="20718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文兴文化用品商店发票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73" name="Group 27"/>
          <p:cNvGrpSpPr/>
          <p:nvPr/>
        </p:nvGrpSpPr>
        <p:grpSpPr>
          <a:xfrm>
            <a:off x="1482840" y="2286000"/>
            <a:ext cx="6527880" cy="4039920"/>
            <a:chOff x="1482840" y="2286000"/>
            <a:chExt cx="6527880" cy="4039920"/>
          </a:xfrm>
        </p:grpSpPr>
        <p:grpSp>
          <p:nvGrpSpPr>
            <p:cNvPr id="74" name="Group 25"/>
            <p:cNvGrpSpPr/>
            <p:nvPr/>
          </p:nvGrpSpPr>
          <p:grpSpPr>
            <a:xfrm>
              <a:off x="1482840" y="2286000"/>
              <a:ext cx="6527880" cy="4038480"/>
              <a:chOff x="1482840" y="2286000"/>
              <a:chExt cx="6527880" cy="4038480"/>
            </a:xfrm>
          </p:grpSpPr>
          <p:sp>
            <p:nvSpPr>
              <p:cNvPr id="75" name="Text Box 8"/>
              <p:cNvSpPr/>
              <p:nvPr/>
            </p:nvSpPr>
            <p:spPr>
              <a:xfrm>
                <a:off x="1856880" y="314316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货名</a:t>
                </a:r>
                <a:endParaRPr b="1" lang="en-US" sz="2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76" name="Text Box 9"/>
              <p:cNvSpPr/>
              <p:nvPr/>
            </p:nvSpPr>
            <p:spPr>
              <a:xfrm>
                <a:off x="2863440" y="315756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数量</a:t>
                </a:r>
                <a:endParaRPr b="1" lang="en-US" sz="2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77" name="Text Box 10"/>
              <p:cNvSpPr/>
              <p:nvPr/>
            </p:nvSpPr>
            <p:spPr>
              <a:xfrm>
                <a:off x="3549240" y="315756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单位</a:t>
                </a:r>
                <a:endParaRPr b="1" lang="en-US" sz="2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78" name="Text Box 11"/>
              <p:cNvSpPr/>
              <p:nvPr/>
            </p:nvSpPr>
            <p:spPr>
              <a:xfrm>
                <a:off x="4295160" y="30052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单价</a:t>
                </a:r>
                <a:endParaRPr b="1" lang="en-US" sz="2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79" name="Text Box 12"/>
              <p:cNvSpPr/>
              <p:nvPr/>
            </p:nvSpPr>
            <p:spPr>
              <a:xfrm>
                <a:off x="4214520" y="3295800"/>
                <a:ext cx="802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(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元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)</a:t>
                </a:r>
                <a:endParaRPr b="1" lang="en-US" sz="2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80" name="Text Box 13"/>
              <p:cNvSpPr/>
              <p:nvPr/>
            </p:nvSpPr>
            <p:spPr>
              <a:xfrm>
                <a:off x="6047640" y="2990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金额</a:t>
                </a:r>
                <a:endParaRPr b="1" lang="en-US" sz="2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81" name="Text Box 14"/>
              <p:cNvSpPr/>
              <p:nvPr/>
            </p:nvSpPr>
            <p:spPr>
              <a:xfrm>
                <a:off x="4843080" y="3330720"/>
                <a:ext cx="316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百  千  元   角  分</a:t>
                </a:r>
                <a:endParaRPr b="1" lang="en-US" sz="2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82" name="Text Box 16"/>
              <p:cNvSpPr/>
              <p:nvPr/>
            </p:nvSpPr>
            <p:spPr>
              <a:xfrm>
                <a:off x="1705320" y="3670200"/>
                <a:ext cx="962640" cy="22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白粉笔</a:t>
                </a:r>
                <a:br>
                  <a:rPr sz="2800"/>
                </a:b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彩粉笔</a:t>
                </a:r>
                <a:br>
                  <a:rPr sz="2800"/>
                </a:b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白　纸</a:t>
                </a:r>
                <a:br>
                  <a:rPr sz="2800"/>
                </a:b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蓝墨水</a:t>
                </a:r>
                <a:br>
                  <a:rPr sz="2800"/>
                </a:b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浆　糊</a:t>
                </a:r>
                <a:endParaRPr b="1" lang="en-US" sz="2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pic>
            <p:nvPicPr>
              <p:cNvPr id="83" name="Picture 17" descr="aa"/>
              <p:cNvPicPr/>
              <p:nvPr/>
            </p:nvPicPr>
            <p:blipFill>
              <a:blip r:embed="rId2"/>
              <a:stretch/>
            </p:blipFill>
            <p:spPr>
              <a:xfrm>
                <a:off x="1482840" y="3067200"/>
                <a:ext cx="6411960" cy="325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Text Box 19"/>
              <p:cNvSpPr/>
              <p:nvPr/>
            </p:nvSpPr>
            <p:spPr>
              <a:xfrm>
                <a:off x="2005200" y="2666880"/>
                <a:ext cx="182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购货单位：育群小学</a:t>
                </a:r>
                <a:endParaRPr b="1" lang="en-US" sz="2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85" name="Text Box 20"/>
              <p:cNvSpPr/>
              <p:nvPr/>
            </p:nvSpPr>
            <p:spPr>
              <a:xfrm>
                <a:off x="6547680" y="2286000"/>
                <a:ext cx="136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第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0035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号</a:t>
                </a:r>
                <a:endParaRPr b="1" lang="en-US" sz="2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86" name="Text Box 21"/>
              <p:cNvSpPr/>
              <p:nvPr/>
            </p:nvSpPr>
            <p:spPr>
              <a:xfrm>
                <a:off x="5850360" y="2666880"/>
                <a:ext cx="184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1994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年９月５日</a:t>
                </a:r>
                <a:endParaRPr b="1" lang="en-US" sz="2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87" name="Text Box 22"/>
              <p:cNvSpPr/>
              <p:nvPr/>
            </p:nvSpPr>
            <p:spPr>
              <a:xfrm>
                <a:off x="2895840" y="3733920"/>
                <a:ext cx="577080" cy="22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35</a:t>
                </a:r>
                <a:br>
                  <a:rPr sz="2800"/>
                </a:b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18</a:t>
                </a:r>
                <a:br>
                  <a:rPr sz="2800"/>
                </a:b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15</a:t>
                </a:r>
                <a:br>
                  <a:rPr sz="2800"/>
                </a:b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br>
                  <a:rPr sz="2800"/>
                </a:b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4</a:t>
                </a:r>
                <a:endParaRPr b="1" lang="en-US" sz="2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88" name="Text Box 23"/>
              <p:cNvSpPr/>
              <p:nvPr/>
            </p:nvSpPr>
            <p:spPr>
              <a:xfrm>
                <a:off x="3616920" y="3716280"/>
                <a:ext cx="394200" cy="22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盒</a:t>
                </a:r>
                <a:br>
                  <a:rPr sz="2800"/>
                </a:b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盒</a:t>
                </a:r>
                <a:br>
                  <a:rPr sz="2800"/>
                </a:b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张</a:t>
                </a:r>
                <a:br>
                  <a:rPr sz="2800"/>
                </a:b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瓶</a:t>
                </a:r>
                <a:br>
                  <a:rPr sz="2800"/>
                </a:b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瓶</a:t>
                </a:r>
                <a:endParaRPr b="1" lang="en-US" sz="2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89" name="Text Box 24"/>
              <p:cNvSpPr/>
              <p:nvPr/>
            </p:nvSpPr>
            <p:spPr>
              <a:xfrm>
                <a:off x="4162680" y="3716280"/>
                <a:ext cx="874080" cy="22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1.50</a:t>
                </a:r>
                <a:br>
                  <a:rPr sz="2800"/>
                </a:b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2.50</a:t>
                </a:r>
                <a:br>
                  <a:rPr sz="2800"/>
                </a:b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0.38</a:t>
                </a:r>
                <a:br>
                  <a:rPr sz="2800"/>
                </a:b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3.72</a:t>
                </a:r>
                <a:br>
                  <a:rPr sz="2800"/>
                </a:b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3.40</a:t>
                </a:r>
                <a:endParaRPr b="1" lang="en-US" sz="2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sp>
          <p:nvSpPr>
            <p:cNvPr id="90" name="Text Box 26"/>
            <p:cNvSpPr/>
            <p:nvPr/>
          </p:nvSpPr>
          <p:spPr>
            <a:xfrm>
              <a:off x="2318400" y="5805360"/>
              <a:ext cx="252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总计金额人民币（大写）</a:t>
              </a:r>
              <a:endParaRPr b="1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9" descr="ds知识拓展"/>
          <p:cNvPicPr/>
          <p:nvPr/>
        </p:nvPicPr>
        <p:blipFill>
          <a:blip r:embed="rId1"/>
          <a:stretch/>
        </p:blipFill>
        <p:spPr>
          <a:xfrm>
            <a:off x="914400" y="971640"/>
            <a:ext cx="16225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3"/>
          <p:cNvSpPr/>
          <p:nvPr/>
        </p:nvSpPr>
        <p:spPr>
          <a:xfrm>
            <a:off x="1143000" y="1693800"/>
            <a:ext cx="6781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　　在家长的陪同下，带着计算器，完成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一次为家里买菜的任务（去自由市场），计算出所共消费的总钱数。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333399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99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3399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AB17-F16F-455F-95E3-6F0E9266638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12:29:2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2:37Z</dcterms:modified>
  <cp:revision>14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