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CD42-AF6F-496B-A748-7B3B6B13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EA9D-B631-4CEE-9AB0-9BB9250E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EEE1-CA22-4287-9697-5E435EE9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D1A3-7247-464B-93FD-7668BE01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D225-3081-4E36-9696-E68E42BB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5834-6760-40DD-8CCD-B3AFDCE5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99DA-6753-437A-857A-BDCD190F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5F62-B5F9-4887-9C2D-03947955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8B14-8C81-42B2-B2F1-3E26F939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ED1F-04A3-4B95-A2F2-EF307F08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45EA-A10B-402E-9100-C23D0739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186F-34B3-4039-B694-B9B76037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5931-63CA-4FBF-AD9E-5D445671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FC70-6D6D-445D-B355-CEA7803D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AA5D-79E2-462F-B329-4CA4FC50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8756-16A5-45F6-8F1E-F0FA393B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020C-CEA4-45A8-AD38-62978476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E1DDC-2BD9-4ED3-82A7-8F3D3BB8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BFC83-CB67-4144-8F9F-B7DB9E59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1E72E-24DD-4B86-91E5-ACE94CF8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B297F-12F6-44D6-8B39-CD6EA58D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6B219-74E7-4345-8E53-CB0DA96D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EAF3-267D-4783-B8CE-B4D3D6EC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1004C-8EC6-433A-B5E3-26AC5EDA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6EC81-417A-4596-990F-E0A98B5D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3E908-5558-452A-8878-4338AB76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CD298-43B7-494C-9C1F-A46FDA46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9AD2F-D260-4CF2-9CB6-E33BE796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6E2B7-A32C-4064-8961-7CB54CA2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4F2D1-6422-45BA-9109-1BF7FAC8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66C-6370-4236-B99C-E8BD2C6A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6E31-1A71-4450-8C57-582EAE12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BB5B-2E3A-4F9D-AB3C-35E2F3BF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6CA5-0271-47DC-BEE0-5F9E3DAF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00A4-D59C-4679-9B0A-79C43986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530-7884-42DE-B9A1-93095B8C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F11D-F431-4BFB-83E7-494891678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5FF6-9883-46BD-8F67-3702FC87BDB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ANABNR2"/>
          <p:cNvPicPr/>
          <p:nvPr/>
        </p:nvPicPr>
        <p:blipFill>
          <a:blip r:embed="rId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5556-CB64-4585-BAEB-242C74E668D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4.jpe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F:\ppt\704a\新课标人教版第七册语文巨人的花园优质课件下载3\20049121974401061.jpg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WordArt 7" descr=""/>
          <p:cNvPicPr/>
          <p:nvPr/>
        </p:nvPicPr>
        <p:blipFill>
          <a:blip r:embed="rId17"/>
          <a:stretch/>
        </p:blipFill>
        <p:spPr>
          <a:xfrm>
            <a:off x="1914480" y="1873080"/>
            <a:ext cx="5529240" cy="1206720"/>
          </a:xfrm>
          <a:prstGeom prst="rect">
            <a:avLst/>
          </a:prstGeom>
          <a:ln w="0">
            <a:noFill/>
          </a:ln>
        </p:spPr>
      </p:pic>
      <p:sp>
        <p:nvSpPr>
          <p:cNvPr id="135" name="矩形 9"/>
          <p:cNvSpPr/>
          <p:nvPr/>
        </p:nvSpPr>
        <p:spPr>
          <a:xfrm>
            <a:off x="2686680" y="6237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5000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9" descr="F:\ppt\704a\新课标人教版第七册语文巨人的花园优质课件下载3\201112617654703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"/>
          <p:cNvSpPr/>
          <p:nvPr/>
        </p:nvSpPr>
        <p:spPr>
          <a:xfrm>
            <a:off x="1523880" y="1447920"/>
            <a:ext cx="1905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王尔德"/>
          <p:cNvPicPr/>
          <p:nvPr/>
        </p:nvPicPr>
        <p:blipFill>
          <a:blip r:embed="rId2"/>
          <a:stretch/>
        </p:blipFill>
        <p:spPr>
          <a:xfrm>
            <a:off x="4356000" y="1341360"/>
            <a:ext cx="4391280" cy="351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179280" y="981000"/>
          <a:ext cx="3886200" cy="4626000"/>
        </p:xfrm>
        <a:graphic>
          <a:graphicData uri="http://schemas.openxmlformats.org/drawingml/2006/table">
            <a:tbl>
              <a:tblPr/>
              <a:tblGrid>
                <a:gridCol w="1752480"/>
                <a:gridCol w="2133720"/>
              </a:tblGrid>
              <a:tr h="455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作者：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王尔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国籍：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英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地位</a:t>
                      </a:r>
                      <a:r>
                        <a:rPr b="0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：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十九世纪后期英国著名作家、   诗人、 剧作家，唯美主义的代表人物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236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代表作品</a:t>
                      </a:r>
                      <a:r>
                        <a:rPr b="0" lang="zh-CN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长篇小说：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《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道林格雷的肖像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诗集：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《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里丁监狱之歌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童话剧：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《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快乐王子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》《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少年国王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《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夜莺与玫瑰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》 《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星孩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672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后人评价</a:t>
                      </a:r>
                      <a:r>
                        <a:rPr b="0" lang="zh-CN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一位对社会对艺术有过激思想的伟大作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    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在英文中找不出来能够跟它们相比的童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0" name="Text Box 18"/>
          <p:cNvSpPr/>
          <p:nvPr/>
        </p:nvSpPr>
        <p:spPr>
          <a:xfrm>
            <a:off x="755640" y="260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名人档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539640" y="1052640"/>
            <a:ext cx="82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楷体"/>
              </a:rPr>
              <a:t>巨人终于明白，没有孩子的地方就没有春天。他不禁抱住了那个孩子：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“唤来寒冬的，是我那颗任性、冷酷的心啊！要不是你提醒，春天将永远被我赶走了。谢谢你！”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1832040" y="1197000"/>
            <a:ext cx="6057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洋溢   允许   围墙   训斥   冷酷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愉快   隆冬   孤独   覆盖   凝视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拆除      告示牌      火辣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狂风大作  雪花飞舞   鲜花盛开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绿树成阴  鲜果飘香   草翠花开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1"/>
          <p:cNvSpPr/>
          <p:nvPr/>
        </p:nvSpPr>
        <p:spPr>
          <a:xfrm>
            <a:off x="1517760" y="5978520"/>
            <a:ext cx="854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444600" y="404640"/>
            <a:ext cx="801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他见到孩子们在花园里玩耍，很生气：“谁允许你们到这儿来玩的！都滚出去！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444600" y="173340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可是巨人又发脾气了：“好容易才盼来春天，你们又来胡闹。滚出去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44600" y="2957400"/>
            <a:ext cx="85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喂！你赶快滚出去！”巨人大声叱责。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44600" y="3749760"/>
            <a:ext cx="83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“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噢！是这么回事呀！”巨人终于明白了，没有孩子的地方就没有春天。他不禁抱住了那个孩子：“唤来寒冬的，是我那颗任性、冷酷的心啊！要不是你提醒，春天将永远被我赶走了。谢谢你！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7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971640" y="170028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华文楷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噢！是这么回事呀！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巨人终于明白了，没有孩子的地方就没有春天。他不禁抱住了那个孩子：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唤来寒冬的，是我那颗任性、冷酷的心啊！要不是你提醒，春天将永远被我赶走了。谢谢你！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258920" y="981000"/>
            <a:ext cx="6400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作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、收集有关幸福的名人名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、把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巨人的花园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编成童话剧，以小组为单位演一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、收集王尔德的其它童话故事，用自己喜欢的方式讲给大家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133720" y="48769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花"/>
          <p:cNvPicPr/>
          <p:nvPr/>
        </p:nvPicPr>
        <p:blipFill>
          <a:blip r:embed="rId2"/>
          <a:stretch/>
        </p:blipFill>
        <p:spPr>
          <a:xfrm>
            <a:off x="4114800" y="4419720"/>
            <a:ext cx="41562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BC1A-2E2D-48BB-A6D4-CE1880F9CAA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7:56:10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50:20Z</dcterms:modified>
  <cp:revision>21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