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5EF5-EAB1-42A1-A5AF-FDA075EF50A8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9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A8AE-3C7E-4306-8550-5A058EE07A1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265400" y="728640"/>
            <a:ext cx="4187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四则运算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782720" y="2133720"/>
            <a:ext cx="3151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</a:rPr>
              <a:t>括号</a:t>
            </a:r>
            <a:endParaRPr b="1" lang="en-US" sz="7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1152360" y="765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29840" y="6035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90C7-D5EC-4073-AFE4-2DA3F647101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03240" y="1928880"/>
            <a:ext cx="738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问题：我们目前学过哪几种运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903240" y="3903840"/>
            <a:ext cx="74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学过的加、减、乘、除四种运算统称四则运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5600" y="2617920"/>
            <a:ext cx="54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加法、减法、乘法、除法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3"/>
          <p:cNvSpPr/>
          <p:nvPr/>
        </p:nvSpPr>
        <p:spPr>
          <a:xfrm>
            <a:off x="1649520" y="17892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452520"/>
            <a:ext cx="76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感受括号的作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60360" y="1584360"/>
            <a:ext cx="4795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感受小括号的作用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281320" y="388296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变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运算顺序怎样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1320" y="438624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说一说运算的顺序，再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728800" y="2387520"/>
            <a:ext cx="3643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490760" y="337824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这道题的运算顺序是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600280" y="489096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先算小括号里面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900680" y="489096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预设：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360360" y="1584360"/>
            <a:ext cx="465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受中括号的作用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504800" y="39099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基础上再加上中括号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运算顺序应该是怎样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504800" y="4697280"/>
            <a:ext cx="68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说一说运算的顺序，再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666880" y="2195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504800" y="5680080"/>
            <a:ext cx="74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算式里，既有小括号，又有中括号，要先算小括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面的，再算中括号里面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398680" y="26240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[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408400" y="305280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408400" y="3425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04800" y="51181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中有小括号还有中括号，应该按照怎样的顺序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452520"/>
            <a:ext cx="76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感受括号的作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963720" y="1752480"/>
            <a:ext cx="700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说一说下面各题的运算顺序，再计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295280" y="2662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276200" y="3036960"/>
            <a:ext cx="28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4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548240" y="26622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543560" y="303696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[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1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395360" y="4667400"/>
            <a:ext cx="77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算式中有小括号还有中括号，应该按照怎样的顺序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63720" y="1752480"/>
            <a:ext cx="700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你知道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459080" y="2533680"/>
            <a:ext cx="6967440" cy="179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705880" cy="64767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142920" y="5727600"/>
            <a:ext cx="68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>
            <a:off x="965160" y="175248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按照顺序计算，并填写下面的     ，然后列出综合算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743360" y="1838160"/>
            <a:ext cx="5050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22161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2" name="Picture 79" descr="{F2883181-5697-4B5B-B1EC-7E609888ADD1}副本"/>
          <p:cNvPicPr/>
          <p:nvPr/>
        </p:nvPicPr>
        <p:blipFill>
          <a:blip r:embed="rId1"/>
          <a:stretch/>
        </p:blipFill>
        <p:spPr>
          <a:xfrm>
            <a:off x="4719600" y="2352600"/>
            <a:ext cx="4476960" cy="266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7"/>
          <p:cNvSpPr/>
          <p:nvPr/>
        </p:nvSpPr>
        <p:spPr>
          <a:xfrm>
            <a:off x="6751800" y="3198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4" name="Picture 80" descr="{2E14BD36-AA9F-48A5-9396-6B3CA3142243}副本"/>
          <p:cNvPicPr/>
          <p:nvPr/>
        </p:nvPicPr>
        <p:blipFill>
          <a:blip r:embed="rId2"/>
          <a:stretch/>
        </p:blipFill>
        <p:spPr>
          <a:xfrm>
            <a:off x="887400" y="2281320"/>
            <a:ext cx="4083120" cy="2732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1"/>
          <p:cNvSpPr/>
          <p:nvPr/>
        </p:nvSpPr>
        <p:spPr>
          <a:xfrm>
            <a:off x="2255760" y="3198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82"/>
          <p:cNvSpPr/>
          <p:nvPr/>
        </p:nvSpPr>
        <p:spPr>
          <a:xfrm>
            <a:off x="3092400" y="390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2144880" y="460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5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83"/>
          <p:cNvSpPr/>
          <p:nvPr/>
        </p:nvSpPr>
        <p:spPr>
          <a:xfrm>
            <a:off x="5843520" y="390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2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84"/>
          <p:cNvSpPr/>
          <p:nvPr/>
        </p:nvSpPr>
        <p:spPr>
          <a:xfrm>
            <a:off x="6450120" y="46054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148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86"/>
          <p:cNvSpPr/>
          <p:nvPr/>
        </p:nvSpPr>
        <p:spPr>
          <a:xfrm>
            <a:off x="1055520" y="53434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[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)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5365800" y="53434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8÷7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)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48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直接连接符 3"/>
          <p:cNvSpPr/>
          <p:nvPr/>
        </p:nvSpPr>
        <p:spPr>
          <a:xfrm>
            <a:off x="1055520" y="5815080"/>
            <a:ext cx="3735720" cy="0"/>
          </a:xfrm>
          <a:prstGeom prst="line">
            <a:avLst/>
          </a:prstGeom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直接连接符 18"/>
          <p:cNvSpPr/>
          <p:nvPr/>
        </p:nvSpPr>
        <p:spPr>
          <a:xfrm>
            <a:off x="5446800" y="5815080"/>
            <a:ext cx="3477960" cy="0"/>
          </a:xfrm>
          <a:prstGeom prst="line">
            <a:avLst/>
          </a:prstGeom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61920" y="2584440"/>
            <a:ext cx="7369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3960" y="404640"/>
            <a:ext cx="432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11Z</dcterms:modified>
  <cp:revision>5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